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9380-53B2-424E-80E6-952710356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6375-8A33-483A-8E25-3976FAFE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1C98-324F-4777-AB96-DEFCC7776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975A-1D00-4FA2-B649-95F371CC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20DC-E8D7-40B9-B7B1-356FF8AB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5010-F68C-4F85-8AFC-B8B54E30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8205-DA21-4C4B-82F9-F47891B4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6965-3B26-4353-85FE-5B1A40D2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1C7B-42FC-4515-8FE9-5F2B0F8A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EFCB-F046-43BD-825F-77A10A71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E809-7476-4F94-8B4B-2D82AE46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05C9-AC8E-4ACA-9B31-DE42B81D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4279-B9AF-47A1-8C8F-20A0698A129A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468360" y="692280"/>
            <a:ext cx="8280360" cy="75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200" spc="-1" strike="noStrike">
                <a:solidFill>
                  <a:srgbClr val="cc00cc"/>
                </a:solidFill>
                <a:latin typeface="Sylfaen"/>
              </a:rPr>
              <a:t>Le nougat de Montélimar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Gustafsson, Stefan</cp:lastModifiedBy>
  <dcterms:modified xsi:type="dcterms:W3CDTF">2017-08-05T05:37:52Z</dcterms:modified>
  <cp:revision>9</cp:revision>
  <dc:subject/>
  <dc:title>Bild 1</dc:title>
</cp:coreProperties>
</file>