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A3B1-4F0D-4F43-A276-5128F21B8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2543-CA1E-42DE-99D3-6D2007BF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D3FC-0B73-43E5-85EC-9E78379F8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A573-D7A3-49CC-9EB3-68A8DF39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ED9A-F81D-4456-91A0-25EE0C69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037F-ADE8-40B9-9559-3C0B9D31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A39C-3120-4D09-92C3-C0B1C3C8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0BCD-72E3-4461-BE0B-C9862F2B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D70E-3BB6-4833-8123-A7712C57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9406-4624-44C7-B85F-02420570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CC3A-235C-4722-B799-B982345E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D08A-4635-4996-A025-4F584606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548F-44E9-4CF5-82AE-24A10304CD63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79280" y="115920"/>
            <a:ext cx="8785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8000" spc="-1" strike="noStrike">
                <a:solidFill>
                  <a:srgbClr val="ffff00"/>
                </a:solidFill>
                <a:latin typeface="Times New Roman"/>
              </a:rPr>
              <a:t>Stade Roland Garros à Paris où se joue un tournoi de Grand Chelem de tennis sur terre battu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stafsson, Stefan</cp:lastModifiedBy>
  <dcterms:modified xsi:type="dcterms:W3CDTF">2017-08-05T06:30:08Z</dcterms:modified>
  <cp:revision>11</cp:revision>
  <dc:subject/>
  <dc:title>PowerPoint Presentation</dc:title>
</cp:coreProperties>
</file>