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0CB-90C6-49FA-8B83-8433D9D0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A76-D0FD-431F-9927-3D2613E5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A08-CD40-4993-BB72-D921989B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D7E-36EF-45E0-9F6B-9F50EDA8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246-91EC-4AAD-8C43-E6D38CDA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2E2-F536-4CEE-AB22-7DD6630D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341-EAF8-471E-A2AC-AF43A514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EF9-942C-4626-B3CC-731A4D48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845B-35BE-466C-BEDE-BAB8B4EB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EA1-989A-4CD5-8030-07A2E706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D56-7FA9-42A9-A6E1-8ED598D2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580-CE66-4F5E-8C33-6CDD8635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49A7-76BB-4272-BF2E-F1969800AF8D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260280"/>
            <a:ext cx="7561440" cy="76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900" spc="-1" strike="noStrike">
                <a:solidFill>
                  <a:srgbClr val="ff3300"/>
                </a:solidFill>
                <a:latin typeface="Sylfaen"/>
              </a:rPr>
              <a:t>Fort Boyard, célèbre émission de télé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Gustafsson, Stefan</cp:lastModifiedBy>
  <dcterms:modified xsi:type="dcterms:W3CDTF">2017-08-05T08:28:07Z</dcterms:modified>
  <cp:revision>9</cp:revision>
  <dc:subject/>
  <dc:title>Bild 1</dc:title>
</cp:coreProperties>
</file>