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xplode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14E-183D-4EE7-BA17-A9C3CA90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2E4-1844-4DFC-BDC6-97E63786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2838-F0F6-4C91-A90F-75C23B3A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C10-EB3C-40DC-BA3E-B37863C7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A4C-9DE9-4622-804B-C5535093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D52-0CFC-45E4-934E-F6029566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C4D-45F0-4FA7-93D8-EB62B4BD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154-06B4-4A96-9DBC-932662FF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07E-6E68-4D9E-B4F5-D0993A11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1EA6-FE0A-4995-AED3-59EA1084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753-E4E7-4B75-8F53-DE1BCF30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F316-DA3C-4073-BD98-E6C8AF0F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6A46-9C81-4121-880A-3F8EC5B913C8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>
            <a:hlinkClick r:id="rId2"/>
          </p:cNvPr>
          <p:cNvSpPr/>
          <p:nvPr/>
        </p:nvSpPr>
        <p:spPr>
          <a:xfrm>
            <a:off x="250920" y="260280"/>
            <a:ext cx="8569080" cy="76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900" spc="-1" strike="noStrike">
                <a:solidFill>
                  <a:srgbClr val="ffff66"/>
                </a:solidFill>
                <a:latin typeface="Sylfaen"/>
              </a:rPr>
              <a:t>Citroën, marque créée par André Citroën 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8:06Z</dcterms:created>
  <dc:creator> </dc:creator>
  <dc:description/>
  <dc:language>en-US</dc:language>
  <cp:lastModifiedBy>Gustafsson, Stefan</cp:lastModifiedBy>
  <dcterms:modified xsi:type="dcterms:W3CDTF">2017-08-05T06:44:35Z</dcterms:modified>
  <cp:revision>9</cp:revision>
  <dc:subject/>
  <dc:title>Bild 1</dc:title>
</cp:coreProperties>
</file>