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7DB-ED28-4F34-B664-CB2F741F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F11-4AE6-4C2B-A05D-345AD46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20D-54D5-4818-BF9F-86216465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AEF-2F79-4371-825A-330892E5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E34-8EE4-47ED-A047-65DBB127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680-60FC-4AB8-B148-4A5E1773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B3B-BAAC-4A6C-AF6F-24D68C7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62D-21EB-4C6E-AA1A-8D34EB13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A61-48F9-43C4-8076-D7352BED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C7B-5004-4F61-AD5B-E2D4FE7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955-5E69-43C3-A89A-7991C75E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9E2-A558-48AD-8E7C-7EEC723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9B3-D28C-4C48-9E37-E2DD86B938B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1052640"/>
            <a:ext cx="82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000" spc="-1" strike="noStrike">
                <a:solidFill>
                  <a:srgbClr val="ffffff"/>
                </a:solidFill>
                <a:latin typeface="Sylfaen"/>
              </a:rPr>
              <a:t>Le béret basque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4:47:48Z</dcterms:modified>
  <cp:revision>8</cp:revision>
  <dc:subject/>
  <dc:title>Bild 1</dc:title>
</cp:coreProperties>
</file>