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FDF7-6209-44D8-9F1D-DF79FA31D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E16E-9038-43B2-8AA5-1639E53AA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64BE-5271-46C9-8E7F-167A76E17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4AA4-3BF5-469B-8BFE-B1145B02D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2338-2852-4E67-90F1-295471A84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3243-6477-43C4-8404-7C32A32F2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90C8-BC35-413D-9AFF-E0DB68B84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60A9-F27D-48EA-8D35-38CED95DD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3C4B-0943-43CC-B7AB-7ED799BF2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1293-FD36-4DAD-97A2-4E01ABDFD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AD0B-A823-4893-A093-296850675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9743-AD56-44A6-A57E-009D76D55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782D7-3D3B-481F-ABBD-A36683E941FB}" type="slidenum">
              <a:rPr b="0" lang="sv-S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250920" y="692280"/>
            <a:ext cx="864072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8800" spc="-1" strike="noStrike">
                <a:solidFill>
                  <a:srgbClr val="ffff00"/>
                </a:solidFill>
                <a:latin typeface="Times New Roman"/>
              </a:rPr>
              <a:t>La famille Barbapapa, créée par Tison/Taylor le 19 mai 1970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ustafsson, Stefan</cp:lastModifiedBy>
  <dcterms:modified xsi:type="dcterms:W3CDTF">2017-08-05T04:47:23Z</dcterms:modified>
  <cp:revision>10</cp:revision>
  <dc:subject/>
  <dc:title>PowerPoint Presentation</dc:title>
</cp:coreProperties>
</file>