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C00-1F61-4A72-BC3C-2586966A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AB5-8A4B-4E6C-99F6-8C6A01A9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D63-6458-4DE0-8512-B7EE512D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F08-1FFD-4A0B-98B0-CE9C9E41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891-A0E0-49F1-A314-9C34069B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2DB-9621-4F22-AA17-76DE673B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349-ADAE-4930-8EC4-F9175C09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B32-0729-4948-9B85-C2C77C60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97C-739D-4993-994D-426316D9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C32-0649-4980-800E-F0BE640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E36-B5A3-47C6-9C86-FA95F6C4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3C2-F2BA-483A-9197-7F24A4C2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1BEA-8C48-4B55-B3B1-2BA07E99BECD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765000"/>
            <a:ext cx="81360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800" spc="-1" strike="noStrike">
                <a:solidFill>
                  <a:srgbClr val="ffff00"/>
                </a:solidFill>
                <a:latin typeface="Times New Roman"/>
              </a:rPr>
              <a:t>La Tour Eiffel</a:t>
            </a:r>
            <a:endParaRPr b="0" lang="en-US" sz="1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5:46:03Z</dcterms:modified>
  <cp:revision>10</cp:revision>
  <dc:subject/>
  <dc:title>PowerPoint Presentation</dc:title>
</cp:coreProperties>
</file>