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47E-AFDF-460C-876F-FD2A9E8D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444-480C-4F65-B81F-7A9133B5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CDC-4D42-4AA0-8E42-9A18D143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FA4-0329-4F4D-8345-21B6F9B5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A20-FA1B-4CDE-B2F2-166EC0E9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E2D-3019-4D86-AC87-5836DB8C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F81-E472-4091-A774-61B6F8AA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80B-6FD2-4348-A5D1-6206AEE0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80A-96E3-4DF0-BFF5-AC348C88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6B0-9689-412E-A105-26FFA4BB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3F3-51FE-4EC3-8686-227D91C5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5D4-A999-4FFC-9A56-06EABE2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FF1B-F9BD-496A-B492-DF33DC2211A5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395280" y="40464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cc00cc"/>
                </a:solidFill>
                <a:latin typeface="Arial"/>
              </a:rPr>
              <a:t>Emmanuel Macron, président fran</a:t>
            </a:r>
            <a:r>
              <a:rPr b="0" lang="fr-FR" sz="9600" spc="-1" strike="noStrike">
                <a:solidFill>
                  <a:srgbClr val="cc00cc"/>
                </a:solidFill>
                <a:latin typeface="Arial"/>
              </a:rPr>
              <a:t>ça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45:11Z</dcterms:modified>
  <cp:revision>8</cp:revision>
  <dc:subject/>
  <dc:title>Bild 1</dc:title>
</cp:coreProperties>
</file>