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B03-5CD6-4880-98AA-D0BDCD4F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7EC-6815-4974-A8A2-84BE8099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4C0-ACB3-4BA4-91F4-1F7D52C2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4D5-E48A-4041-8D9F-145B2FA9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AF1-762D-4926-9C01-A050B3E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2CF-522A-4CE4-B09B-F95E10AE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93D-04B9-4685-847E-DE8DEA94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35B-BC2A-4ECF-B86B-22D10D9B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1BC-B04E-4DD7-8C16-4C86255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4A2-C586-4EC5-AF3A-6724FCB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AFF-07BC-42FE-AF83-0AB4C57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749-7AC3-49DF-A565-4E9483B5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6DBE-0799-4BBD-BF1F-7BCD1CE3871D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19240" y="476280"/>
            <a:ext cx="856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0" spc="-1" strike="noStrike">
                <a:solidFill>
                  <a:srgbClr val="ffff00"/>
                </a:solidFill>
                <a:latin typeface="Times New Roman"/>
              </a:rPr>
              <a:t>La cathédrale Notre Dame de Paris, commencée en 1163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5:26:44Z</dcterms:modified>
  <cp:revision>10</cp:revision>
  <dc:subject/>
  <dc:title>PowerPoint Presentation</dc:title>
</cp:coreProperties>
</file>