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DEE-6A80-4970-BFCE-5C75446A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ED7-39EE-4279-9F7E-F74D7AA6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FC5-7680-430E-8F55-8200511C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EF0-D237-4A53-8938-C272C9DC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6A9-3B2E-4FD6-95E3-1E8A4B5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B20-82E8-4B72-BE04-1872B0B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E34-D6C2-4598-A907-074A04DC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1CF-C351-47D7-88D5-BBDAF28E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D1D-F840-43E6-B810-ECB873FB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069-9284-4B5A-9782-BD649AA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7EA-5C60-4006-AE0C-71D1AEA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E63-ECDA-4E50-84BE-0D61F90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C47-80B4-411F-A68E-0AE87B83F42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520560" y="26028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00"/>
                </a:solidFill>
                <a:latin typeface="Arial"/>
              </a:rPr>
              <a:t>L’eau de Vichy, marque d’eau minéral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6:03:32Z</dcterms:modified>
  <cp:revision>8</cp:revision>
  <dc:subject/>
  <dc:title>Bild 1</dc:title>
</cp:coreProperties>
</file>