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D31-E690-4CFB-9B4E-9ED3F860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408-7A5A-4423-9A5C-A015FD9E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A67-0038-44C5-8D7B-C8871643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987-559E-493B-9878-4A198FFC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FDB-315B-467C-9C64-B93ACCC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65A-E047-4AD4-AC0E-C39B162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7D2-766A-462C-9153-85FC00E9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940-F89B-4C87-A476-5F8D326C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F66-9AD7-442A-8C9E-04A9320C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81D-F1DA-485D-9EF5-19DA8559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C16-8C8D-4103-B18B-4E4037A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BEA-9B23-4E6E-8924-6C0D85F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1776-7EFA-4FFF-BBF7-07495CE7D65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76280"/>
            <a:ext cx="87138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200" spc="-1" strike="noStrike">
                <a:solidFill>
                  <a:srgbClr val="cc00cc"/>
                </a:solidFill>
                <a:latin typeface="Arial"/>
              </a:rPr>
              <a:t>Intouchables</a:t>
            </a:r>
            <a:r>
              <a:rPr b="0" lang="fr-FR" sz="8200" spc="-1" strike="noStrike">
                <a:solidFill>
                  <a:srgbClr val="cc00cc"/>
                </a:solidFill>
                <a:latin typeface="Arial"/>
              </a:rPr>
              <a:t> film réalisé par </a:t>
            </a:r>
            <a:r>
              <a:rPr b="0" lang="sv-SE" sz="8200" spc="-1" strike="noStrike">
                <a:solidFill>
                  <a:srgbClr val="cc00cc"/>
                </a:solidFill>
                <a:latin typeface="Arial"/>
              </a:rPr>
              <a:t>Olivier Nakache et Éric Toledano, 2011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17:09Z</dcterms:modified>
  <cp:revision>9</cp:revision>
  <dc:subject/>
  <dc:title>Bild 1</dc:title>
</cp:coreProperties>
</file>