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540-B126-4DA7-A30A-32C384F9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1B1-95F8-453C-B4D4-A85F0C7B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8DF-14E3-4D95-9B0E-065F207B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3A0-CE62-422E-BB9F-15429801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732-2547-41C1-9111-7399EA56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07B-06CA-4859-B49F-DD524356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952-976F-44B9-BACD-15D90A1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032-A091-4CBD-B7FF-1F4CAE2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616-D187-438E-AE1F-A63972F3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F4B-9125-4217-969F-80A0CFA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E33-8EE1-44DF-80B0-782152E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396-AF0E-43C7-9D4D-0D9DA41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EF54-A3A6-473E-840F-6076229934B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09520" y="620640"/>
            <a:ext cx="8712360" cy="76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300" spc="-1" strike="noStrike">
                <a:solidFill>
                  <a:srgbClr val="ffffff"/>
                </a:solidFill>
                <a:latin typeface="Sylfaen"/>
              </a:rPr>
              <a:t>Louis Vuitton, célèbre malletier, devenu une grande marque de lux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6:06:44Z</dcterms:modified>
  <cp:revision>9</cp:revision>
  <dc:subject/>
  <dc:title>Bild 1</dc:title>
</cp:coreProperties>
</file>