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416-938F-424E-827B-B71C3270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ACF-AE0C-4D06-8D97-8D1168B7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61A-0808-4418-8065-63497C37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C5C-EE5A-4C11-AB49-CA45FDF4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420-AC86-47B2-B19A-1ADFB3C1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58A-8FB3-4350-81E0-6B4E1DCE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97A-A3EB-43D3-A541-57BA906C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5DD-D624-4ED5-87E8-7656A90E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087-4990-4AE5-96A0-53D35E85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2C4-4D61-4F71-93D3-2730D190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4FD-60CD-4069-B131-00ABACBA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BEE-D456-426D-BBAF-09ED2B5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274F-7633-4DAE-BE4B-AA083B266104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90792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0" spc="-1" strike="noStrike">
                <a:solidFill>
                  <a:srgbClr val="ccff33"/>
                </a:solidFill>
                <a:latin typeface="Sylfaen"/>
              </a:rPr>
              <a:t>Les frères Lumière inventent le ciném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5:05:44Z</dcterms:modified>
  <cp:revision>9</cp:revision>
  <dc:subject/>
  <dc:title>Bild 1</dc:title>
</cp:coreProperties>
</file>