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explode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30F2-4932-4E32-ACA7-1C6C90E8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416E-D70A-449A-9449-18A52E84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71FD-09D2-4785-B8D2-92E219CA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D977-ADAC-4262-B719-403F9488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3B82-D6A4-4E6C-B15B-96CF1006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1B0E-2C69-44C7-A94A-10C6CB13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0FA2-3C6A-426E-87F7-EB329581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78D5-BEB0-4AE3-8A4F-C9F37112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97EB-4604-499E-A171-BDB71F41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270F-6FCA-4B76-BB20-8A53A85B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E798-ECCC-4E70-BD8C-AC649F93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FFDA-5347-497B-A908-9EF20509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FACB-C73B-4410-9170-B534C949C68D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>
            <a:hlinkClick r:id="rId2"/>
          </p:cNvPr>
          <p:cNvSpPr/>
          <p:nvPr/>
        </p:nvSpPr>
        <p:spPr>
          <a:xfrm>
            <a:off x="250920" y="260280"/>
            <a:ext cx="8569080" cy="76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900" spc="-1" strike="noStrike">
                <a:solidFill>
                  <a:srgbClr val="ffff66"/>
                </a:solidFill>
                <a:latin typeface="Sylfaen"/>
              </a:rPr>
              <a:t>La statue de la Liberté, faite par Bartholdi et Eiffel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8:06Z</dcterms:created>
  <dc:creator> </dc:creator>
  <dc:description/>
  <dc:language>en-US</dc:language>
  <cp:lastModifiedBy>Gustafsson, Stefan</cp:lastModifiedBy>
  <dcterms:modified xsi:type="dcterms:W3CDTF">2017-08-05T09:58:58Z</dcterms:modified>
  <cp:revision>12</cp:revision>
  <dc:subject/>
  <dc:title>Bild 1</dc:title>
</cp:coreProperties>
</file>