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F22D-772B-48D0-9E17-D57AEF9BA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6E9E-ED27-452D-8986-06ECFC67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7964-AF70-4316-AB35-23E051A71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06BD-8CC8-4C0B-A862-9FA9F5E7F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99DF-D759-4103-80E2-3CB33921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3CA9-F695-4281-A587-54951A1F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6EE8-6DF4-4EEC-957C-FA7BCA7E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A6A4-516B-4ADD-BB74-65A6F251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45AF-18F2-4002-8937-9CA48E5B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6083-0A24-4C30-84B6-49C3AEBF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0671-2967-41D6-B2D2-2FF459ED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B20F-C866-4BBF-A94C-EEE382AF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7360-CF1A-443D-A330-32E39B763156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4000" y="476280"/>
            <a:ext cx="8712000" cy="76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900" spc="-1" strike="noStrike">
                <a:solidFill>
                  <a:srgbClr val="ff3300"/>
                </a:solidFill>
                <a:latin typeface="Sylfaen"/>
              </a:rPr>
              <a:t>Le Paris Saint-Germain, le club de foot de la capitale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7:13Z</dcterms:created>
  <dc:creator> </dc:creator>
  <dc:description/>
  <dc:language>en-US</dc:language>
  <cp:lastModifiedBy>Gustafsson, Stefan</cp:lastModifiedBy>
  <dcterms:modified xsi:type="dcterms:W3CDTF">2017-08-05T05:48:29Z</dcterms:modified>
  <cp:revision>9</cp:revision>
  <dc:subject/>
  <dc:title>Bild 1</dc:title>
</cp:coreProperties>
</file>