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524-E350-4BC3-BAB9-9B96C3E4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509-1CD1-4461-A1ED-4F74E54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E1D-3616-4F12-BC2F-557F3E7D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00A-65D9-4470-98CD-6A1160F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457-3848-48F3-96AC-99A72D6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EF6-F89A-4D18-9928-6731982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739-50F8-4CE1-9FB3-69C7439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E5B-C301-47ED-A8F4-D9C5F1CC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E74-B73E-48C3-A608-3723CE5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32B-82EB-446D-ADD4-E709D621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7C1-2EB5-4198-84C4-B79138B8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5C-49A8-455C-AF4F-A2FBDB0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A37F-3FB8-483D-BE4F-1BDAF7E193C7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476280"/>
            <a:ext cx="84963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00"/>
                </a:solidFill>
                <a:latin typeface="Times New Roman"/>
              </a:rPr>
              <a:t>Babar créé par Brunhoff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4:42:55Z</dcterms:modified>
  <cp:revision>10</cp:revision>
  <dc:subject/>
  <dc:title>PowerPoint Presentation</dc:title>
</cp:coreProperties>
</file>