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C24-BC66-4AA3-B042-182D2AD6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431-4C6E-4C5D-829F-E4C895A7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FEB-B8BB-49B3-8252-68A7665B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343-9A1E-4D55-B684-2AE5B520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E96-2B3E-4ADA-82E4-8A6A1345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DC3-A386-498F-BC2B-7A3226E9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20F-F2B3-487D-BEC3-AED07685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9C6-C530-4248-BFE5-C4D0DB39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84B-5D37-4439-901D-4989DDEA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265-3957-425D-8C38-189723E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95E-046A-42F7-86E4-55E7B93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A2C-8EEC-40ED-9037-625E441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621-970E-4E42-B49A-96FF16F0FA57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907920"/>
            <a:ext cx="84963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00"/>
                </a:solidFill>
                <a:latin typeface="Times New Roman"/>
              </a:rPr>
              <a:t>Tintin, héros de bande dessinée créé par Hergé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5:56:55Z</dcterms:modified>
  <cp:revision>10</cp:revision>
  <dc:subject/>
  <dc:title>PowerPoint Presentation</dc:title>
</cp:coreProperties>
</file>