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08C9-51BE-4850-9F3E-19778478F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E40D-366F-4AD6-927D-5646F966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4318-D9DE-4E7D-873E-8DE069C37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D037-14B1-4B64-BB08-CAAB36D62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DB82-7998-4F5B-9848-A76D3932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4A64-B63B-4C65-9BD3-1E10E493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3642-55B1-4628-B806-C3F9882A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6E74-DCB9-40DE-A8DF-0FC3BEB9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3554-A288-40B2-81B9-45D154C2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5DCA-5151-4928-BFA3-ED9020C1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CF40-6803-4D4D-8B15-2B59F128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AE88-2CD9-465A-80D7-52CFF64C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7F1B-08D9-4720-8FAC-762E54880C30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24000" y="476280"/>
            <a:ext cx="8280360" cy="59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8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7700" spc="-1" strike="noStrike">
                <a:solidFill>
                  <a:srgbClr val="cc00cc"/>
                </a:solidFill>
                <a:latin typeface="Sylfaen"/>
              </a:rPr>
              <a:t>Le Mont Blanc, 4809 mètres; </a:t>
            </a:r>
            <a:r>
              <a:rPr b="0" lang="fr-FR" sz="7700" spc="-1" strike="noStrike">
                <a:solidFill>
                  <a:srgbClr val="cc00cc"/>
                </a:solidFill>
                <a:latin typeface="Arial"/>
              </a:rPr>
              <a:t>le plus haut sommet d'Europe occidentale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Gustafsson, Stefan</cp:lastModifiedBy>
  <dcterms:modified xsi:type="dcterms:W3CDTF">2017-08-05T05:33:15Z</dcterms:modified>
  <cp:revision>8</cp:revision>
  <dc:subject/>
  <dc:title>Bild 1</dc:title>
</cp:coreProperties>
</file>