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71EB-7AD4-4C34-A4F9-2D5527083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3472-D271-4D58-B675-0563DE0B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D392-6050-4852-AB73-3CEC4CF71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8420-CAF0-4FCF-847D-BE4F2C72F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234F-CDB6-41FC-A7D6-E7BA969B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DE1E-1D99-449C-9F6D-3F785EAA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13ED-08C6-4D03-9911-0088979C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15B3-7BCC-4ECE-B464-A2917573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5668-F056-4117-90C3-7E24CAA9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B64A-7F03-41C1-98C4-922DC454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9B55-5FC6-404D-A508-BCD989BD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E803-B155-4506-9743-49BDE6EF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B680-C862-4CAC-9F0B-0553169E8C1B}" type="slidenum"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39640" y="765000"/>
            <a:ext cx="813600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200" spc="-1" strike="noStrike">
                <a:solidFill>
                  <a:srgbClr val="ffff00"/>
                </a:solidFill>
                <a:latin typeface="Times New Roman"/>
              </a:rPr>
              <a:t>Un célèbre fromage: le camembert</a:t>
            </a:r>
            <a:endParaRPr b="0" lang="en-US" sz="1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stafsson, Stefan</cp:lastModifiedBy>
  <dcterms:modified xsi:type="dcterms:W3CDTF">2017-08-05T05:07:07Z</dcterms:modified>
  <cp:revision>10</cp:revision>
  <dc:subject/>
  <dc:title>PowerPoint Presentation</dc:title>
</cp:coreProperties>
</file>