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3D97-076D-40AE-BDF9-0E129EAA6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E4FE-5D6D-412A-ACCF-25937ADD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42D0-4DD3-4A59-A2AD-208FED907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1184-0EAB-46E2-BF71-D01B26202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B8BE-D2D4-4A7A-AB6C-3A025529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9E17-F1B4-4A15-BF8D-00C2A9F6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316C-8413-497E-AB3D-D6D92C63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475B-3308-4960-9438-677412EC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19F6-4BCA-4C70-8644-5EFC284C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029C-6ED8-4D81-B6AB-243722B7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45C7-BF6B-40FE-A2FC-A427FEF7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A525-82F0-4F04-BEE2-B23960E8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6B47-4865-4760-B13E-57F88725E2BE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79280" y="620640"/>
            <a:ext cx="885672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8800" spc="-1" strike="noStrike">
                <a:solidFill>
                  <a:srgbClr val="ccff33"/>
                </a:solidFill>
                <a:latin typeface="Sylfaen"/>
              </a:rPr>
              <a:t>Louis Braille, invente le système de lecture pour aveugle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46:56Z</dcterms:created>
  <dc:creator> </dc:creator>
  <dc:description/>
  <dc:language>en-US</dc:language>
  <cp:lastModifiedBy>Gustafsson, Stefan</cp:lastModifiedBy>
  <dcterms:modified xsi:type="dcterms:W3CDTF">2017-08-05T04:57:42Z</dcterms:modified>
  <cp:revision>8</cp:revision>
  <dc:subject/>
  <dc:title>Bild 1</dc:title>
</cp:coreProperties>
</file>