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C85-FD45-471F-B18A-93498E2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05D-B309-40EE-9094-EE9CFDCC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95F-4B0F-4706-A765-05DD1D0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939-E620-4BEC-B58F-9C54A2C8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3D6-9B0F-4019-95E8-67FA70D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7DB-8173-44CD-932F-0A692BF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D06-CFAE-4F5A-A3B9-9D7C0938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C20-B657-4792-9FDA-32144D9A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957-C92E-430D-850B-72C76363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E5B-ECA4-4AF5-AFCF-A95E466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2B3-2837-4DB1-8608-B8B5A48D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40F-BCCB-4275-BDE4-5DD42B84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579B-A962-4BCB-A05A-35919EF137D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4280"/>
            <a:ext cx="8640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0" spc="-1" strike="noStrike">
                <a:solidFill>
                  <a:srgbClr val="cc00cc"/>
                </a:solidFill>
                <a:latin typeface="Sylfaen"/>
              </a:rPr>
              <a:t>La Grande Boucle; Le Tour de France, course cycliste de 190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47:37Z</dcterms:modified>
  <cp:revision>9</cp:revision>
  <dc:subject/>
  <dc:title>Bild 1</dc:title>
</cp:coreProperties>
</file>