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F3A-2FAF-48EF-A4DA-D803ACCA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F26-E995-4DD9-AFBD-447F4DC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237-D845-45BD-830E-F294FFC2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AF0-A9BD-4552-BA18-5F73313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4AB-6FD6-44A0-9ACC-45FED5B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0B9-3877-4B35-91E3-64D5EDE3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851-70D8-44A9-83B3-B645C46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57D-6408-4C4D-AD3E-D86ECFC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365-418D-43E1-919E-1EEBA17A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13C-EB21-4852-8F8F-002586C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505-EDE9-4E84-920B-85FD332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B80-EB35-4CBD-A8C8-48378C3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DA9-A7AF-4F0C-ADDC-92E6C3163CF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33360"/>
            <a:ext cx="889308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c000"/>
                </a:solidFill>
                <a:latin typeface="Sylfaen"/>
              </a:rPr>
              <a:t>Édith Gassion, dite Piaf, grande chanteuse fran</a:t>
            </a:r>
            <a:r>
              <a:rPr b="0" lang="fr-FR" sz="9900" spc="-1" strike="noStrike">
                <a:solidFill>
                  <a:srgbClr val="ffc000"/>
                </a:solidFill>
                <a:latin typeface="Arial"/>
              </a:rPr>
              <a:t>ç</a:t>
            </a:r>
            <a:r>
              <a:rPr b="0" lang="sv-SE" sz="9900" spc="-1" strike="noStrike">
                <a:solidFill>
                  <a:srgbClr val="ffc000"/>
                </a:solidFill>
                <a:latin typeface="Sylfaen"/>
              </a:rPr>
              <a:t>ais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5:49:30Z</dcterms:modified>
  <cp:revision>8</cp:revision>
  <dc:subject/>
  <dc:title>Bild 1</dc:title>
</cp:coreProperties>
</file>