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553D-F4FE-4BA2-B949-CF45AD15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51FB-AB2F-4410-AB72-CE2096A9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16B1-0275-4CF1-A79C-8B26F102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5170-522C-46D1-A32A-9FBBD314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E4E9-B772-499D-8666-FE84DE7C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4D1-35D7-4983-B10B-A6B8D120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3269-2515-4BA6-87CD-B2574D05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134B-5FBD-47CE-9F18-203A805B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ACA-844A-4B94-88CA-219DBEDA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57E2-8858-47D5-B524-6DBF081D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78A-E503-4398-868F-BBF42008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96D-EC80-4B32-959D-0C21A038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CDC8-4461-4ED5-B705-C7E421B8E88C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08000" y="115920"/>
            <a:ext cx="885672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400" spc="-1" strike="noStrike">
                <a:solidFill>
                  <a:srgbClr val="ff3300"/>
                </a:solidFill>
                <a:latin typeface="Sylfaen"/>
              </a:rPr>
              <a:t>La deuche; voiture mythique de Citroën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Gustafsson, Stefan</cp:lastModifiedBy>
  <dcterms:modified xsi:type="dcterms:W3CDTF">2017-08-05T06:41:05Z</dcterms:modified>
  <cp:revision>9</cp:revision>
  <dc:subject/>
  <dc:title>Bild 1</dc:title>
</cp:coreProperties>
</file>