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550-0177-4935-A334-E7101246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89C-F299-49AA-9F4F-48A7855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C1C-994B-4294-8889-9B49BB52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892-97E9-4394-AD75-E482F008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36C-1F0A-475D-B8E7-9C6D254C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954-7DBB-47AB-9E95-92472C5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BD1-9BBC-4559-BC5B-310FB73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DF6-5725-4316-9F89-95748D2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5A1-4320-495D-A893-9F648F8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C57-3BAB-401B-B05F-901B9080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A02-6E66-40CC-81E1-7F1B5F6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531-C3DF-4573-9AF0-980ADD7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DC8-BBED-4397-8E84-3CC8D56823C4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765000"/>
            <a:ext cx="8136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ffff00"/>
                </a:solidFill>
                <a:latin typeface="Times New Roman"/>
              </a:rPr>
              <a:t>Astérix et Obélix</a:t>
            </a:r>
            <a:endParaRPr b="0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4:41:54Z</dcterms:modified>
  <cp:revision>11</cp:revision>
  <dc:subject/>
  <dc:title>PowerPoint Presentation</dc:title>
</cp:coreProperties>
</file>