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8FB-59EC-4ACB-A08F-A9018D1B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D88-3FDE-4DFD-A14D-1B6F3C6D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FDB-036D-4588-9C2A-CF40A9E1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748-031F-48BD-B956-C6EEDFB6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876-72E8-467F-A45A-70221644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3F1-49DD-4C9A-9060-A359E144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F62-5A9E-40FF-BE06-19DA6630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03D-ADC7-42ED-9058-908A6295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7C0-DC13-447C-8BC7-EA962055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F2A-B4AD-4C2F-999A-591056CD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BAE-114E-46F1-A6B9-E06D312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0A1-A809-4394-BD06-0996B877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2F0E-0AE5-43D5-B95C-AD24433F811A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404640"/>
            <a:ext cx="84247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Arial"/>
              </a:rPr>
              <a:t>Olympique de Marseille; club de foot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9:37:50Z</dcterms:modified>
  <cp:revision>9</cp:revision>
  <dc:subject/>
  <dc:title>Bild 1</dc:title>
</cp:coreProperties>
</file>