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A7B0-8930-4BDA-82F9-11DC331B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ADA-E838-4FB5-859C-70A4A12D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871-0803-4936-AF79-64589680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4B4F-6137-458E-8F0A-7224C451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C8C-095C-436B-A335-31EB5A10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D44-AD95-47F2-94DE-E1B137E4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8EA-E04F-4A09-9D38-989D4A71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B3B-272F-4B88-92CF-78561CBA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E7D-285A-4D1B-998D-9CB260F0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2D0-AB2B-436A-80F3-D44C71AA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2BD-8964-4A3D-9865-7A17AE12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368-AB75-4484-B73B-DEB363BF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23AF-CD75-400F-9755-A3A1DF7AEF0A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692280"/>
            <a:ext cx="8640720" cy="81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7700" spc="-1" strike="noStrike">
                <a:solidFill>
                  <a:srgbClr val="ff3300"/>
                </a:solidFill>
                <a:latin typeface="Sylfaen"/>
              </a:rPr>
              <a:t>Le croissant</a:t>
            </a:r>
            <a:endParaRPr b="0" lang="en-US" sz="1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Gustafsson, Stefan</cp:lastModifiedBy>
  <dcterms:modified xsi:type="dcterms:W3CDTF">2017-08-05T05:08:46Z</dcterms:modified>
  <cp:revision>8</cp:revision>
  <dc:subject/>
  <dc:title>Bild 1</dc:title>
</cp:coreProperties>
</file>