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77BD-2BED-4FBE-9CFF-20CDEEB0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880C-CB8F-4183-9A8C-49BE54F6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68A6-1AC6-4B93-8CCA-372782D7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E694-D5F5-4076-B441-1E0185FD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6DBF-DC77-4532-A2BE-92AB670B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B716-553E-4289-AE6E-11DBB9A1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9A30-B892-494E-AA85-DCB2993B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6039-FF8A-4E34-901A-CF071A6D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85B1-471B-4632-BD1A-21C6EDF0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4240-8527-49C7-ADBD-68419C85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7DB5-BFEC-486A-9588-425F9089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7ADB-0B91-4D91-A3B4-B1B144DA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1B88-2481-4B85-81E6-A08B48F6D835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684360" y="1125360"/>
            <a:ext cx="7704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ffff00"/>
                </a:solidFill>
                <a:latin typeface="Arial"/>
              </a:rPr>
              <a:t>Ariol, le petit âne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39:58Z</dcterms:created>
  <dc:creator> </dc:creator>
  <dc:description/>
  <dc:language>en-US</dc:language>
  <cp:lastModifiedBy>Gustafsson, Stefan</cp:lastModifiedBy>
  <dcterms:modified xsi:type="dcterms:W3CDTF">2017-08-05T09:19:38Z</dcterms:modified>
  <cp:revision>9</cp:revision>
  <dc:subject/>
  <dc:title>Bild 1</dc:title>
</cp:coreProperties>
</file>