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A01-D508-4C76-BD55-041EA859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A76-FCDF-4647-A919-36F2025D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246-72E4-41BE-884A-801037CE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481-46A0-429F-B6D6-F0C93FC5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F00-2D04-42F8-9B5F-53B95996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AFD-7F01-4094-AE5E-8DBD7916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9F7-4224-4349-8399-97CD3D3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C1C-D707-4DE6-BBAC-12CFD1BC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2A8-3C97-4934-9E9B-1778A2C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E75-F149-4A6B-97D8-BF17320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018-EC5D-49CA-9D53-66A2163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7C0-04FF-4F61-8830-A57FD487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F79C-A64A-4E4E-8E7E-D5DDDF908F19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68360" y="692280"/>
            <a:ext cx="828036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cc00cc"/>
                </a:solidFill>
                <a:latin typeface="Sylfaen"/>
              </a:rPr>
              <a:t>Olympique Lyonnais, club de foot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6:39:47Z</dcterms:modified>
  <cp:revision>10</cp:revision>
  <dc:subject/>
  <dc:title>Bild 1</dc:title>
</cp:coreProperties>
</file>