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A91-D62D-46B6-BBC8-EBC1DFE3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21F-0332-40BE-ABBE-D7F1CB17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BB9-A145-446B-A6D2-8D94B528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DC6-25DB-4B23-9F62-D10378E7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B6F-A041-4FF3-9DEF-574250EB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FE8-0586-4E45-89D7-83C798B9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533-16F2-42B3-9A13-8CF840B2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241-A102-4785-886E-07E114FD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4F7-E41C-48C7-9EFF-933D4C40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081-7828-45B8-86C2-EB0C7C8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048-1FFA-4097-BBD3-5B6508A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FF6-C393-44EA-A882-8523CDD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FE77-C6FA-4CC3-9489-82F2D6C8C3F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26028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ff"/>
                </a:solidFill>
                <a:latin typeface="Arial"/>
              </a:rPr>
              <a:t>Louis Pasteur, inventeur du vaccin contre la rage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6:32:00Z</dcterms:modified>
  <cp:revision>10</cp:revision>
  <dc:subject/>
  <dc:title>Bild 1</dc:title>
</cp:coreProperties>
</file>