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in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36D-E040-4196-8028-E47A68B7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514-F07C-4190-9903-99A5B278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F4F-F849-4083-8E7E-076928BD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931-45B5-41EF-A9AF-FC889DEE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2E0-13D8-4844-BE58-FFBCEF8A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811-CC03-4C98-9AB0-FE403665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0D2-7161-4B9B-B46F-D3E2C22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B84-88A3-45DD-B0A6-DD4843A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72C-ABB1-4F7B-90AD-F07CFA0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8F4-4129-4A59-8A6C-7B8BB31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F44-17AB-433F-A658-19C6B34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D46-D8FC-4D1B-8146-F512EE6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537E-8F1D-4B49-8D5A-08220E1ABED5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1520" y="260280"/>
            <a:ext cx="892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993300"/>
                </a:solidFill>
                <a:latin typeface="Sylfaen"/>
              </a:rPr>
              <a:t>La truffe, une sorte de champignon très rare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9:32:03Z</dcterms:modified>
  <cp:revision>7</cp:revision>
  <dc:subject/>
  <dc:title>Bild 1</dc:title>
</cp:coreProperties>
</file>