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in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7DC-29C8-441F-9B46-D978B4A4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318-16A8-4DC5-A001-6959539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996-F902-4D9B-B482-96917C70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662-B964-4888-B7F8-5CD6108B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DA6-857D-4153-ABE0-52E9663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710-6F2A-4216-B756-E66B09DF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749-636C-4964-B8D4-DE0C25DF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C68-BD53-4398-B709-DF6243EE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3C0-71C6-4553-9B0F-5CF47E0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5CA-CCBD-45B1-89A3-B92EF49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69C-E431-44DE-BC4D-4DAE1FA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BBE-BB43-4865-AC4C-825BF5A9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A07-37A2-4C7B-88F2-D6C5AF3645B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620640"/>
            <a:ext cx="813600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993300"/>
                </a:solidFill>
                <a:latin typeface="Sylfaen"/>
              </a:rPr>
              <a:t>Les grottes de Lascaux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5:30:19Z</dcterms:modified>
  <cp:revision>6</cp:revision>
  <dc:subject/>
  <dc:title>Bild 1</dc:title>
</cp:coreProperties>
</file>