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32E3-66EE-4470-84BA-B4279E52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3941-3A46-4462-82ED-06539B1C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7B4F-6A67-40A9-A3DB-D85A36B7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F7D2-7DFD-46DD-97F0-8F5598CF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3202-57C7-4ADD-B917-656E9267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6040-AEC4-4AB0-89A0-D17D821F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E7C7-37F3-42C7-844F-11F5D767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56C7-C2B3-45D8-BFD4-5F3992D6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8B99-9C46-4D5F-B3EF-C86A1BA7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8D70-449D-4156-9F4F-DAB9E7EB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83B5-71E7-4893-BA9E-D24A47B2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EAE-75E9-43A5-A96A-DC6B4659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A6FF-748C-41ED-AA52-A2FB59FC72C2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9280" y="189000"/>
            <a:ext cx="87138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300" spc="-1" strike="noStrike">
                <a:solidFill>
                  <a:srgbClr val="ffffff"/>
                </a:solidFill>
                <a:latin typeface="Sylfaen"/>
              </a:rPr>
              <a:t>Ratatouille, film d’animation de 2007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9:58Z</dcterms:created>
  <dc:creator> </dc:creator>
  <dc:description/>
  <dc:language>en-US</dc:language>
  <cp:lastModifiedBy>Gustafsson, Stefan</cp:lastModifiedBy>
  <dcterms:modified xsi:type="dcterms:W3CDTF">2017-08-05T05:54:07Z</dcterms:modified>
  <cp:revision>9</cp:revision>
  <dc:subject/>
  <dc:title>Bild 1</dc:title>
</cp:coreProperties>
</file>