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B0D-1C83-4097-9CFA-22CA794A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B6A-16DE-434A-A0EB-72CE7FAD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1F1-7B08-44D1-BBF0-B8FC7BB4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B62-39A9-417F-8243-25BB4116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C50-BD00-4483-BA6D-9941355D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46F-FBD6-4DE4-824F-399BC9E8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81E-01C6-4EBF-8ECB-24CD735C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D43-B526-41CA-8E4C-4EEF2F70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FEE-1862-4EDE-9B72-2639741C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94B-0CDB-4D92-81C3-A5380AF0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314-DEDF-4057-B21F-D352D499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BED-E77A-44EB-A6B0-343841D2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1316-6AFE-4479-B6DD-963154D6DFBB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907920"/>
            <a:ext cx="85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400" spc="-1" strike="noStrike">
                <a:solidFill>
                  <a:srgbClr val="ccff33"/>
                </a:solidFill>
                <a:latin typeface="Sylfaen"/>
              </a:rPr>
              <a:t>Airbus A380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6:56Z</dcterms:created>
  <dc:creator> </dc:creator>
  <dc:description/>
  <dc:language>en-US</dc:language>
  <cp:lastModifiedBy>Gustafsson, Stefan</cp:lastModifiedBy>
  <dcterms:modified xsi:type="dcterms:W3CDTF">2017-08-05T04:40:27Z</dcterms:modified>
  <cp:revision>8</cp:revision>
  <dc:subject/>
  <dc:title>Bild 1</dc:title>
</cp:coreProperties>
</file>