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26E-570D-4C07-819E-44DA4889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3A7F-D4E1-4655-B5CD-B4D9E6CA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D61-5D54-41D8-B864-7A34F3F1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BC3D-F11E-4FC0-9774-A3872E41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CF83-0DFE-4D10-9809-24A39A00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8C52-40C2-4B3C-ACE9-9EA929A8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6CE-7475-4689-9D08-3E0335B7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653-6AA7-42BB-97B7-C265F701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CF6A-DBB4-44CD-9E8A-99E089F3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0C1-96C3-493C-96A6-5C6FCCAF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3DA-D636-4188-A0DF-9E34AC28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5E12-72E8-41D9-BF24-C4A0E977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5AE7-A1B9-470E-A4DF-4F33E5F85A4D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ruta 1"/>
          <p:cNvSpPr/>
          <p:nvPr/>
        </p:nvSpPr>
        <p:spPr>
          <a:xfrm>
            <a:off x="250920" y="836640"/>
            <a:ext cx="86421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300" spc="-1" strike="noStrike">
                <a:solidFill>
                  <a:srgbClr val="00cc00"/>
                </a:solidFill>
                <a:latin typeface="Arial"/>
              </a:rPr>
              <a:t>La Côte d’Azur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9:22:32Z</dcterms:modified>
  <cp:revision>10</cp:revision>
  <dc:subject/>
  <dc:title>Bild 1</dc:title>
</cp:coreProperties>
</file>