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8A6-0764-438F-9C05-DCBEEDF2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D5E-E70C-4D80-BFA7-FAC0DB0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E98-B214-4546-9CC0-9508FD70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F9A-1509-4300-9DD0-7580A45B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5CA-5C19-4AD5-AF5C-E7454AA4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FCA-6912-46B0-B467-0D353719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1EA-0677-47B4-9D81-4B0C878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476-758B-45C9-BF20-2991D95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2D5-0EA4-451F-87F2-CB3F5595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861-AD25-49C8-95DA-7598148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D9B-180F-469D-B41A-C7A5BAD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0E2-DD2A-4E1F-9D16-E6468EC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2686-3179-44D5-A346-ABC6FFDE938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115920"/>
            <a:ext cx="87120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400" spc="-1" strike="noStrike">
                <a:solidFill>
                  <a:srgbClr val="cc00cc"/>
                </a:solidFill>
                <a:latin typeface="Sylfaen"/>
              </a:rPr>
              <a:t>Les Jeux Olympiques d’été à Paris en 2024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36:57Z</dcterms:modified>
  <cp:revision>10</cp:revision>
  <dc:subject/>
  <dc:title>Bild 1</dc:title>
</cp:coreProperties>
</file>