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4D3-1BA8-4E2C-8383-62C2204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0C7-6E1D-421E-AD3C-607FCD10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81F-50A4-4641-B63D-60248FE7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79A-135B-44FF-962B-27C546CF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3B4-19A3-45CC-A98B-B8AC136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4C6-8561-4975-95C6-6DA2B19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453-F78F-4B51-831F-45D33823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D56-3C4F-4A4B-8AA6-44B09A1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75F-749C-4A95-A1C5-338C40D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348-F7A8-4915-8EDC-549269F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743-60B8-4B06-B83F-20DD92D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28C-AECD-4A55-907D-2C035F1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C17B-F4E6-4359-A117-A9C87923922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>
            <a:hlinkClick r:id="rId2"/>
          </p:cNvPr>
          <p:cNvSpPr/>
          <p:nvPr/>
        </p:nvSpPr>
        <p:spPr>
          <a:xfrm>
            <a:off x="247680" y="907920"/>
            <a:ext cx="856944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700" spc="-1" strike="noStrike">
                <a:solidFill>
                  <a:srgbClr val="ffff66"/>
                </a:solidFill>
                <a:latin typeface="Sylfaen"/>
              </a:rPr>
              <a:t>Un croque-madame, un sandwich grillé avec du jambon, du fromage et un œuf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9:57:36Z</dcterms:modified>
  <cp:revision>14</cp:revision>
  <dc:subject/>
  <dc:title>Bild 1</dc:title>
</cp:coreProperties>
</file>