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5E66-376C-4AE1-BCBC-4CB8B7D2F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63FD-B3CB-48D3-9255-E71689D53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946A-3D36-4158-94FF-3163B785B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47CD-E204-4684-8246-43792E5A0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0BD0-0553-495F-B7AF-40135028C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0037-AABF-467D-8BC2-49571ABEF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7125-1468-48A5-B9A7-CAF7C9FD7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995C-7F35-4090-9C22-965B3FEF3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F59F-D20F-4019-AEEE-A48D436F5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2335-E47A-4586-98FE-B3B6EA09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E6F6-3326-4C22-A076-79D965E9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0347-F9B9-4C96-8ACE-AC04E2A3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7A091-58F0-44DA-8B48-C71251E5417C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24000" y="620640"/>
            <a:ext cx="871380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9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1100" spc="-1" strike="noStrike">
                <a:solidFill>
                  <a:srgbClr val="ccff33"/>
                </a:solidFill>
                <a:latin typeface="Sylfaen"/>
              </a:rPr>
              <a:t>Éclair, pâtisserie très connue</a:t>
            </a:r>
            <a:endParaRPr b="0" lang="en-US" sz="1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46:56Z</dcterms:created>
  <dc:creator> </dc:creator>
  <dc:description/>
  <dc:language>en-US</dc:language>
  <cp:lastModifiedBy>Gustafsson, Stefan</cp:lastModifiedBy>
  <dcterms:modified xsi:type="dcterms:W3CDTF">2017-08-05T05:20:38Z</dcterms:modified>
  <cp:revision>8</cp:revision>
  <dc:subject/>
  <dc:title>Bild 1</dc:title>
</cp:coreProperties>
</file>