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B8C5-9DE9-4C0B-8A02-4350938E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AB24-89F1-4E1D-8C7A-7947745F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0ADA-CF08-4637-A08C-3E014A41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B43F-9879-4427-9CA2-54C287AE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2996-F599-403F-95FF-46D57776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1BD7-6E7C-464D-803E-D8679132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6398-133B-40CC-B0A6-E10F38D3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FA9C-2039-4165-B966-E8AF31D4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1330-F11A-4E58-BCF1-B370F0FA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797C-9B6E-471B-A0D7-167641E3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B3D8-E3E1-4E86-94D2-DC12DD8E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C90E-270B-46C3-9594-8B314F7D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2E41-BDA0-4633-B0CC-646B772BA6B9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404640"/>
            <a:ext cx="7993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900" spc="-1" strike="noStrike">
                <a:solidFill>
                  <a:srgbClr val="00b050"/>
                </a:solidFill>
                <a:latin typeface="Arial"/>
              </a:rPr>
              <a:t>Un pneu Michelin, de Clermont-Ferrand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9:58Z</dcterms:created>
  <dc:creator> </dc:creator>
  <dc:description/>
  <dc:language>en-US</dc:language>
  <cp:lastModifiedBy>Gustafsson, Stefan</cp:lastModifiedBy>
  <dcterms:modified xsi:type="dcterms:W3CDTF">2017-08-05T09:18:34Z</dcterms:modified>
  <cp:revision>9</cp:revision>
  <dc:subject/>
  <dc:title>Bild 1</dc:title>
</cp:coreProperties>
</file>