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640-175F-42A4-BE0A-7EA8C206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2A8-F748-4723-85E7-3B912261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A85-997B-4251-98FB-94799CD0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D38-8AF5-4863-8CE0-84FEFABF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144-88CE-4F8A-91D1-81F67D34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5F7-B9B2-41B8-8780-FCADA7EF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773D-0926-4E73-9AB5-E12A6C1D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B72-8312-48D8-A9EA-2B42520D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4F6-A402-4886-9D30-DD755253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599-2144-41A1-8538-698B7467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255-32A1-4D8D-885D-31A986C9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5D3-B331-4067-BA65-65C37663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C0FF-B694-4194-B362-D3D99FE531AD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ruta 1"/>
          <p:cNvSpPr/>
          <p:nvPr/>
        </p:nvSpPr>
        <p:spPr>
          <a:xfrm>
            <a:off x="250920" y="260280"/>
            <a:ext cx="871380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400" spc="-1" strike="noStrike">
                <a:solidFill>
                  <a:srgbClr val="ffc000"/>
                </a:solidFill>
                <a:latin typeface="Arial"/>
              </a:rPr>
              <a:t>La fusée Ariane 5, lancée de Kourou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9:15:45Z</dcterms:modified>
  <cp:revision>9</cp:revision>
  <dc:subject/>
  <dc:title>Bild 1</dc:title>
</cp:coreProperties>
</file>