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504-3C6F-4D97-9A6F-ADBBDE13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BF3-E3AC-4093-80C4-A8F2B836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401-8079-4698-A867-0CA3461E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AD8-F3B8-455E-9096-BAF43A5D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DF7-99FF-4FB5-AD1B-DD1C6ED5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BF3-E23D-4621-B26C-7559ED46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87D-141A-4FF3-8EDD-BEBF79F9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94B-4469-4CCD-8698-DD2D6B5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394-CBD1-41F0-8D41-43767378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F2A-8BCC-45EB-873E-F4A967D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FF3-BA18-46EE-AC5E-0EFE270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DC0-0ED0-485E-B286-A18F9BC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CE5-1114-461D-8EA7-27BFEB850D9F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324000" y="476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600" spc="-1" strike="noStrike">
                <a:solidFill>
                  <a:srgbClr val="ff0000"/>
                </a:solidFill>
                <a:latin typeface="Arial"/>
              </a:rPr>
              <a:t>La religieuse, pâtisserie qui ressemble à une non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20:24Z</dcterms:modified>
  <cp:revision>10</cp:revision>
  <dc:subject/>
  <dc:title>Bild 1</dc:title>
</cp:coreProperties>
</file>