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B82-3289-45CE-97F8-979D50AF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ED3-125C-43C1-87AB-7D356142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9D3-7190-43FD-B274-4AAD5945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86F-B50F-46FB-9828-32B7F726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912-3555-4817-A621-46ACCB81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DEBB-FE83-4260-9E84-2B95C42C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6C3-8BD7-4AE7-B07B-83C7BFFF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77E-2604-4DCB-B251-248DF0E6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431-2562-45F5-B141-85147BA4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0E5-86AA-45F7-A233-343111FC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B4E-1956-407F-9D89-4F574808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4CE-F0C5-4199-85B5-D3FC9E1B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0819-D054-4C4A-8334-AA2563438F06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8000" y="115920"/>
            <a:ext cx="885672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8500" spc="-1" strike="noStrike">
                <a:solidFill>
                  <a:srgbClr val="ccff33"/>
                </a:solidFill>
                <a:latin typeface="Sylfaen"/>
              </a:rPr>
              <a:t>Esméralda et Quasimodo dans Notre Dame de Paris de Victor Hug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9:25:11Z</dcterms:modified>
  <cp:revision>9</cp:revision>
  <dc:subject/>
  <dc:title>Bild 1</dc:title>
</cp:coreProperties>
</file>