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9B3-F713-443B-B1DD-F4B74AD0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9BA-B4DF-4E16-872D-8B1CCCDE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EAC-CDFE-4FCE-86FB-9BE4CE9A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95B-6DB1-4ADF-B7C5-2CE61B8F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13F-B267-4616-BB6C-8B878760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637-4041-4D8B-B784-050A5325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C6A-C418-47AB-995B-D47BEE0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80B-24AF-4E96-9333-7857204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F75-9673-41AB-ABC1-76FB030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46B-C058-4378-9E97-7D39C1C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4C2-3D7B-42E1-BE45-E8DF2A8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00B-8DD3-4233-BA20-0BC33D4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117C-19E3-46F5-8496-C0814A2D0EE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052640"/>
            <a:ext cx="8713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ccff33"/>
                </a:solidFill>
                <a:latin typeface="Sylfaen"/>
              </a:rPr>
              <a:t>Le sorbet de Berthillo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9:34:10Z</dcterms:modified>
  <cp:revision>8</cp:revision>
  <dc:subject/>
  <dc:title>Bild 1</dc:title>
</cp:coreProperties>
</file>