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057-47E4-4ACD-97C2-A65D9131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A4C-1D39-4EA1-B574-A8EE8787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409-BF7F-4674-BECE-C0A2B04A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717-2C40-4592-B86B-1433B982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DF7-DAE1-4918-939A-F7989F7E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BA6-F67A-41A7-81AE-2B3BC79E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372-4958-4824-ABA4-7358210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234-3924-4FEB-9F6A-A04D0791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7AE-3053-45DE-B1B3-212ACB8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FC9-868D-45E2-BF92-CD01FD5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3FA-52AE-40CF-870F-81F23D6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722-51D8-4584-AF3A-228258BA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E47E-8BF7-47F4-9577-D0AA2D2EFC8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836640"/>
            <a:ext cx="84978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cc00cc"/>
                </a:solidFill>
                <a:latin typeface="Sylfaen"/>
              </a:rPr>
              <a:t>David Belle, fondateur du parkour 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04:08Z</dcterms:modified>
  <cp:revision>9</cp:revision>
  <dc:subject/>
  <dc:title>Bild 1</dc:title>
</cp:coreProperties>
</file>