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E22-0B09-49E6-91F5-935A7FD8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2CD-B57B-47D1-BF66-BC192C0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038-49A9-4202-A1A9-F15DFAB4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C2B-FB25-42C8-8014-81CE28B4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301-9F6C-469C-B5EC-E11B7CA4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4B4-3102-49F4-9511-34915C9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1AD-894F-4CD9-B2B7-47E24045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736-A016-4BED-8144-6E6EB92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8B3-F264-4D30-AA02-23BCFDB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85C-209E-4B1A-B57B-E6F1152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B0C-A307-4A5E-BEEE-2863165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FD4-BAAF-437E-9482-513256AB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CF41-4B7F-47A8-B326-E6D892C24CA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692280"/>
            <a:ext cx="8569080" cy="65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700" spc="-1" strike="noStrike">
                <a:solidFill>
                  <a:srgbClr val="ffffff"/>
                </a:solidFill>
                <a:latin typeface="Arial"/>
              </a:rPr>
              <a:t>François-Henri DECROIZILLES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700" spc="-1" strike="noStrike">
                <a:solidFill>
                  <a:srgbClr val="ffffff"/>
                </a:solidFill>
                <a:latin typeface="Sylfaen"/>
              </a:rPr>
              <a:t>L’un des inventeurs de la cafetièr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4:56:39Z</dcterms:modified>
  <cp:revision>9</cp:revision>
  <dc:subject/>
  <dc:title>Bild 1</dc:title>
</cp:coreProperties>
</file>