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131-AD20-4DCA-8661-ABF89EFC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6D4-805E-48B9-B66B-E0C0C18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6D3-8085-440F-A7D1-8EB03316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A81-0BE8-47BF-89E6-A771970A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254-1A8E-4DEA-9289-D0267A15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495-6937-4060-B733-01A580E7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BAB-9242-46AE-A156-ADB57BB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1DF-5D9C-43FD-AD4C-5A88886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B36-DBD4-413A-9A91-0B966DD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F1F-12B5-4B0B-9CBF-637E23F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F41-0B0A-4ADD-B2D8-3A9853B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300-9C1F-4D1A-A7AF-424CDB6D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D2EF-D351-4C16-AB15-312D10BF79D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26028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Le tricolore, le drapeau français depuis 1812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5:19:25Z</dcterms:modified>
  <cp:revision>9</cp:revision>
  <dc:subject/>
  <dc:title>Bild 1</dc:title>
</cp:coreProperties>
</file>