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9556-02E2-49D7-A802-0056BDB4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3B4F-AD56-4B51-B4E9-C7A97D2A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4DC5-D8A1-49DF-9196-B819C18FB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B3B2-3245-4684-A85C-20E80315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03AF-B0A7-47FC-B79C-ED492A78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8657-B4A4-403B-B390-C9D62B25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7BF9-AA00-4921-B41A-8A948E94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A774-448E-4696-B0AD-01601234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380F-6B4E-4EDF-AE2C-B52DAF6D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5F0D-A983-4B1C-B80E-5E2E2CFC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832F-F2DB-4017-8638-E9B504CE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98B7-44E2-465C-81A9-BAA0BFDE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950B-59B8-47C1-98BF-9E8DE00F0232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4000" y="620640"/>
            <a:ext cx="8532720" cy="73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500" spc="-1" strike="noStrike">
                <a:solidFill>
                  <a:srgbClr val="ccff33"/>
                </a:solidFill>
                <a:latin typeface="Sylfaen"/>
              </a:rPr>
              <a:t>Une baîllonnette, un couteau pour les fusils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46:56Z</dcterms:created>
  <dc:creator> </dc:creator>
  <dc:description/>
  <dc:language>en-US</dc:language>
  <cp:lastModifiedBy>Gustafsson, Stefan</cp:lastModifiedBy>
  <dcterms:modified xsi:type="dcterms:W3CDTF">2017-08-05T09:39:02Z</dcterms:modified>
  <cp:revision>9</cp:revision>
  <dc:subject/>
  <dc:title>Bild 1</dc:title>
</cp:coreProperties>
</file>