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9031-B6AF-48D2-B019-5B1AEF59E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C3B3-7DD6-4DE0-A1A5-516399E94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2BB2-D8A9-4E61-A3EE-49F30B9AF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C73C-529F-4CA0-9232-C809F86EC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8A80-3AE2-4132-B90C-A06202A1F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6758-FBFA-4882-93C2-3EB2D145D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DD1F-FF5A-4C9C-8B17-6AC08E2B2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A8C8-9143-418B-B30A-B776CFB78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F3F9-C98C-4B9D-95DA-E173EEF3F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892D-D64E-4FD0-825F-C3A4395F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7C34-CC00-43CC-A7CB-BB4E5137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2118-48AF-4AED-B08C-5657FDF4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6B70D-4056-4E8C-8DEC-09C1F4337732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539640" y="404640"/>
            <a:ext cx="770436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9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1100" spc="-1" strike="noStrike">
                <a:solidFill>
                  <a:srgbClr val="ffffff"/>
                </a:solidFill>
                <a:latin typeface="Arial"/>
              </a:rPr>
              <a:t>Un Français typique</a:t>
            </a:r>
            <a:endParaRPr b="0" lang="en-US" sz="1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39:58Z</dcterms:created>
  <dc:creator> </dc:creator>
  <dc:description/>
  <dc:language>en-US</dc:language>
  <cp:lastModifiedBy>Gustafsson, Stefan</cp:lastModifiedBy>
  <dcterms:modified xsi:type="dcterms:W3CDTF">2017-08-05T05:12:55Z</dcterms:modified>
  <cp:revision>8</cp:revision>
  <dc:subject/>
  <dc:title>Bild 1</dc:title>
</cp:coreProperties>
</file>