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087-3E94-4A88-8D76-597A349F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1B6-AAD8-4822-91A2-FA60ECEF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EDB-4278-4BAB-8F47-BB324A59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ECB-38FC-4D0A-BE4A-128B1A52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64D-39BC-4DF5-BD9E-36661956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6F9-528A-4122-B6BC-F8304BD7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24E-5F5A-427F-8EA2-3B0A9E3C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F06-B2EE-40BA-940F-25B27954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B8E-E547-4173-ACD5-10D536C4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848-A82C-47AF-A867-152CDFAB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20B-1F02-4A41-8E16-4BB70573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2A5-5474-47A7-823E-EE06B0CB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0812-1B84-47B0-9BD9-57C808069B4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907920"/>
            <a:ext cx="770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0000"/>
                </a:solidFill>
                <a:latin typeface="Sylfaen"/>
              </a:rPr>
              <a:t>Le vin </a:t>
            </a:r>
            <a:r>
              <a:rPr b="0" lang="fr-FR" sz="13300" spc="-1" strike="noStrike">
                <a:solidFill>
                  <a:srgbClr val="ff0000"/>
                </a:solidFill>
                <a:latin typeface="Arial"/>
              </a:rPr>
              <a:t>français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6:10:13Z</dcterms:modified>
  <cp:revision>8</cp:revision>
  <dc:subject/>
  <dc:title>Bild 1</dc:title>
</cp:coreProperties>
</file>