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C06-5334-4553-AB39-C09DAF9F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231-D7BB-4F7E-87E5-0D2F03DC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BCE-6B7D-428C-BD0B-A5D17205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1E8-7E86-4960-8070-B2546835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988-2754-4B99-8FA7-B8764281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B7A-AC41-4610-94EB-38F992B2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197-B684-4B9F-94FA-98C95DC0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143-280D-4D8F-A77A-74DE9B00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B01-41B1-42CD-9B60-1AAB9718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EBF-CEB9-4D83-A94E-D03C2666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DFB-B0DD-4C67-A2D3-34B35D67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E43-A1F6-4A32-A2C0-0EA35058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202C-BF37-4A58-A39F-E064A4A473F1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1052640"/>
            <a:ext cx="87138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100" spc="-1" strike="noStrike">
                <a:solidFill>
                  <a:srgbClr val="ccff33"/>
                </a:solidFill>
                <a:latin typeface="Sylfaen"/>
              </a:rPr>
              <a:t>Louis Réard invente le bikini en 1946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4:45:18Z</dcterms:modified>
  <cp:revision>7</cp:revision>
  <dc:subject/>
  <dc:title>Bild 1</dc:title>
</cp:coreProperties>
</file>