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BBE-50DE-4CE3-BBB1-0B6BCDE6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271-F8B3-444C-AC52-54EC6756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461-336B-4C80-84CB-D1D7AB23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644-27E1-430A-9CE7-7C0624BE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B6A-8BEE-4775-9C4A-5F78BD4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A16-9888-4DCF-9DAD-28FDA80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152-7C84-45B2-9015-41CFDD64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7FE-188F-4871-86F0-BFE2402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4ED-6C49-4EFF-B4DB-3E04121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285-6A8E-4240-81A4-E7EFC05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A1F-C070-4DD4-919A-CE610316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D1E-0600-4FE3-B655-D358497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8F4D-1831-497E-AD42-E45E0EE0D7C4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60280"/>
            <a:ext cx="8066160" cy="83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700" spc="-1" strike="noStrike">
                <a:solidFill>
                  <a:srgbClr val="ff3300"/>
                </a:solidFill>
                <a:latin typeface="Sylfaen"/>
              </a:rPr>
              <a:t>Eugène Schueller crée L’Oréal, le 30 juillet 1909, qui vend des produits cosmétiques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35:58Z</dcterms:modified>
  <cp:revision>8</cp:revision>
  <dc:subject/>
  <dc:title>Bild 1</dc:title>
</cp:coreProperties>
</file>