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562-1236-4ADB-A878-978128BC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0C1-31BD-42E7-A214-27145B62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9A9-7794-4F4B-AF98-1224C619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F14-19E9-4822-A77E-C92F4308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64B-FD6D-4E54-B51D-1BB9010E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50D-6395-4D31-B5A9-036F9FB7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B73-044D-47B3-8AAD-95902DDF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443-570A-41C2-8948-5107D611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EA9-9CA1-49FE-B732-9EC9AA84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B97-C86B-4815-890D-2FE6D187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229-1D6F-4D10-8F8E-5A5DFF86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58A-754C-4D18-A0AF-558662B6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86AA-C5B0-46A1-BC35-52C0913F697C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333360"/>
            <a:ext cx="853272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900" spc="-1" strike="noStrike">
                <a:solidFill>
                  <a:srgbClr val="ffc000"/>
                </a:solidFill>
                <a:latin typeface="Sylfaen"/>
              </a:rPr>
              <a:t>Parmentier, introduit la pomme de terre en France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9:23:39Z</dcterms:modified>
  <cp:revision>9</cp:revision>
  <dc:subject/>
  <dc:title>Bild 1</dc:title>
</cp:coreProperties>
</file>