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oin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795C-3141-44F0-BC86-9CD1F6978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5E66-DF07-47C5-9B18-639816FA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51A6-389E-4239-A603-ECD1B658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BA3E-4946-42AF-B167-41FE3F11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450A-3C1E-4FBA-8886-2781918B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A9BF-A83A-4C41-9D58-AE24D57D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3999-E493-46C8-8CD9-CF8784FE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D094-CE91-4C32-9D67-9DC9CCBB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8B0E-5055-41E3-AE14-C1EEBA16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7BBB-9471-4A7F-A03E-0336FBB9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DF7A-83FF-4F96-8D98-3294AAC2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F847-7966-465C-97E3-59862128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FBC8-65A6-485F-8D5B-FC09F25B90F0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08000" y="1052640"/>
            <a:ext cx="8928000" cy="66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8600" spc="-1" strike="noStrike">
                <a:solidFill>
                  <a:srgbClr val="993300"/>
                </a:solidFill>
                <a:latin typeface="Sylfaen"/>
              </a:rPr>
              <a:t>Renault, entreprise automobile créée le 1er octobre 1898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8:06Z</dcterms:created>
  <dc:creator> </dc:creator>
  <dc:description/>
  <dc:language>en-US</dc:language>
  <cp:lastModifiedBy>Gustafsson, Stefan</cp:lastModifiedBy>
  <dcterms:modified xsi:type="dcterms:W3CDTF">2017-08-05T05:56:10Z</dcterms:modified>
  <cp:revision>6</cp:revision>
  <dc:subject/>
  <dc:title>Bild 1</dc:title>
</cp:coreProperties>
</file>