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6DB-2142-45FB-A535-8C7BCF7B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FE2-2C2E-4FD2-B074-B0DCE8BE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6B0-83D1-405E-AACC-B4927FD3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39D-04C7-4E17-B489-2BD526EF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C8C-63C6-435A-9B8B-1E0F595E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64B-60EF-4DC1-AC17-D1E0C905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703-9678-4B16-915B-FBAA4190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8D8-F1CA-4640-8CA9-CDC9917B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2E6-CE36-457A-8905-2B701181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156-E4CF-4AA7-96F5-EF7EA682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C40-7EBB-4D72-A938-3C391EC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826-DEA4-40C9-9D8E-E0FD7E7C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C996-54D0-4073-9AF8-9EC5D1F7311E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68360" y="404640"/>
            <a:ext cx="8351640" cy="71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cc00cc"/>
                </a:solidFill>
                <a:latin typeface="Sylfaen"/>
              </a:rPr>
              <a:t>La fête nationale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52:18Z</dcterms:created>
  <dc:creator> </dc:creator>
  <dc:description/>
  <dc:language>en-US</dc:language>
  <cp:lastModifiedBy>Gustafsson, Stefan</cp:lastModifiedBy>
  <dcterms:modified xsi:type="dcterms:W3CDTF">2017-08-05T04:40:12Z</dcterms:modified>
  <cp:revision>9</cp:revision>
  <dc:subject/>
  <dc:title>Bild 1</dc:title>
</cp:coreProperties>
</file>