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9F73-B2D6-4CE6-BAC8-EE1309FC6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F309-AE44-4B6B-8CCF-74004062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1854-B98A-47C2-8247-9598702AA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DC59-F840-4DC8-9449-253C79C0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B030-FF20-4670-8783-DEE47684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E8DE-381B-479A-A8BB-4A5B504F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5FFC-7C2D-4CAE-AB8A-EA334845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4509-61F2-4320-AB57-097D6310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7DDC-51DA-4D5A-9AC2-2E77FF3B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5BBF-B163-4753-A40E-161A0AAA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4161-A7EC-4ACF-8B7C-5909B1B2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7F15-759E-4298-9D12-7437E81B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B4C2-5EEC-4F7E-81F2-D711D6690237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24000" y="404640"/>
            <a:ext cx="8424720" cy="61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ffffff"/>
                </a:solidFill>
                <a:latin typeface="Arial"/>
              </a:rPr>
              <a:t>Des cuisses de grenouille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Gustafsson, Stefan</cp:lastModifiedBy>
  <dcterms:modified xsi:type="dcterms:W3CDTF">2017-08-05T05:06:12Z</dcterms:modified>
  <cp:revision>8</cp:revision>
  <dc:subject/>
  <dc:title>Bild 1</dc:title>
</cp:coreProperties>
</file>