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70F8-680B-4FEC-BAC8-A184812A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3864-B012-49A5-BF1C-E2A93EB2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DB76-D6B8-4299-B6E5-66F3A4DD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548-4E81-4E07-9E8D-5BEC3C98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10A-F63F-482D-8A8C-6D5D734C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9B51-153C-4122-A67A-18079D6A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6DDE-B426-417A-A9AB-F19D6018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4FF-27E3-47A9-BBB6-C164C5BA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AF13-3109-46CC-B693-C2CDC27F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8E3A-3057-4509-B92B-157297FE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34D-ED9A-458B-BF50-86FB6270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922-D705-4512-AE5A-963E42AE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02D6-D372-4EAD-87A5-AF35AB681DE1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9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765000"/>
            <a:ext cx="8136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900" spc="-1" strike="noStrike">
                <a:solidFill>
                  <a:srgbClr val="ffff00"/>
                </a:solidFill>
                <a:latin typeface="Times New Roman"/>
              </a:rPr>
              <a:t>Le Paris-Brest, un gâteau en forme de roue de bicyclette</a:t>
            </a:r>
            <a:endParaRPr b="0" lang="en-US" sz="9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stafsson, Stefan</cp:lastModifiedBy>
  <dcterms:modified xsi:type="dcterms:W3CDTF">2017-08-05T09:27:39Z</dcterms:modified>
  <cp:revision>12</cp:revision>
  <dc:subject/>
  <dc:title>PowerPoint Presentation</dc:title>
</cp:coreProperties>
</file>