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D8B-91D4-4565-97B1-536B63CE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B65-E2A4-4DFA-8088-D35C721A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B75-3E84-420F-BF66-1E78D079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78D-B74F-47F8-B755-A1BF4C6C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9BE-3E0A-45A3-8856-8AA8CFCF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AF9-91D2-4848-8FBF-10E22DB1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D44-9A51-407A-8B69-0D7DB5C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AAE-49B2-4035-86BE-D5103DA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117-5A47-4899-925F-80234C9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AEF-9DAC-475D-9B2C-AD3A538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FB6-8D0F-443C-B022-0773231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9B1-C555-447F-B1DF-4C856AC5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94CD-95C6-4AD6-9A51-27E9517B27A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250920" y="333360"/>
            <a:ext cx="864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ffff00"/>
                </a:solidFill>
                <a:latin typeface="Arial"/>
              </a:rPr>
              <a:t>Le château de Versailles, commandé par le roi Soleil et construit en 162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6:04:56Z</dcterms:modified>
  <cp:revision>8</cp:revision>
  <dc:subject/>
  <dc:title>Bild 1</dc:title>
</cp:coreProperties>
</file>