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B01-0A04-4E8D-99AE-07C4E0BD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BC9-E6A0-4ED1-909C-5C1C168C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519-F2B2-4EBF-878F-A4D4D669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D71-24CF-4A6D-AE6B-C2ED8CE3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51F-A66F-4231-B39F-20904EA3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2D0-0BBB-48C4-A319-15D8CA28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775-4ABC-490D-9C4A-463D2B7D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8FE-ABBD-4996-BD06-E691569C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53F-89C5-4923-8BA0-1D63E189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017-3D85-4E64-9E61-89F02411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036-B5E2-4C27-900E-A1A259DB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583C-DECC-4068-AEEA-3759F4E6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D1E6-C069-4000-BDEA-08866AE6F15D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333360"/>
            <a:ext cx="8713800" cy="76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900" spc="-1" strike="noStrike">
                <a:solidFill>
                  <a:srgbClr val="ccff33"/>
                </a:solidFill>
                <a:latin typeface="Sylfaen"/>
              </a:rPr>
              <a:t>La Coupe du Monde féminine en France en 2019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Gustafsson, Stefan</cp:lastModifiedBy>
  <dcterms:modified xsi:type="dcterms:W3CDTF">2017-08-05T09:33:30Z</dcterms:modified>
  <cp:revision>8</cp:revision>
  <dc:subject/>
  <dc:title>Bild 1</dc:title>
</cp:coreProperties>
</file>