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0A1-AD65-4245-B2F6-17C37C3B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C7C-2FEE-4365-848B-B810BAC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C61-2A99-4212-8C12-44365668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2A4-F2F9-468C-87FE-3EC4F57A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83E-00A0-4A6E-B5DB-CF3EBD6C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6BF-C101-4951-8E55-5BD2723B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3D6-A31C-4DF0-A876-3A6EB73A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F87-1711-4C6B-B445-0E9C212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1A7-D2BE-4A90-904F-D44910AE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A3A-06B6-4825-961A-76A4FE8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CF8-8471-4626-AB3A-B32FEA1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A28-CAFA-42AB-8CB3-F808F57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20C-9D31-4732-97C5-583BBB2CF9F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76280"/>
            <a:ext cx="8533080" cy="85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ff3300"/>
                </a:solidFill>
                <a:latin typeface="Sylfaen"/>
              </a:rPr>
              <a:t>La truffe, une sorte de champignon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6:09:26Z</dcterms:modified>
  <cp:revision>9</cp:revision>
  <dc:subject/>
  <dc:title>Bild 1</dc:title>
</cp:coreProperties>
</file>