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F8DF-59E5-4F8D-8392-F9169D95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C78D-0423-4BDC-B568-E3717FF7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BD7-06E8-44F4-8915-571F66F6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B6C9-DE68-4BD8-BC9B-1FA2C7C0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B5E0-D3F8-47CF-8336-8F163D47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A52D-32A3-4DB4-9956-A3E24B50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C6DC-1ACE-4002-812C-74BDAC68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1145-13C2-46FC-A1C5-52E41EE1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9883-19FF-40E3-AA40-7124F598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774C-474B-48FA-8657-27A613C8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4FF1-EAC6-48B3-A0FE-81E1AC42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5E0A-DB2C-48BB-8694-E1341FC8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5E60-B0BD-4246-AAED-5CBC2CF715BE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84320" y="189000"/>
            <a:ext cx="871344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500" spc="-1" strike="noStrike">
                <a:solidFill>
                  <a:srgbClr val="ccff33"/>
                </a:solidFill>
                <a:latin typeface="Sylfaen"/>
              </a:rPr>
              <a:t>Une sorte de fromage fondu, créée en 1911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6:56Z</dcterms:created>
  <dc:creator> </dc:creator>
  <dc:description/>
  <dc:language>en-US</dc:language>
  <cp:lastModifiedBy>Gustafsson, Stefan</cp:lastModifiedBy>
  <dcterms:modified xsi:type="dcterms:W3CDTF">2017-08-05T06:12:02Z</dcterms:modified>
  <cp:revision>8</cp:revision>
  <dc:subject/>
  <dc:title>Bild 1</dc:title>
</cp:coreProperties>
</file>