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D2E-1D7C-488E-9CD1-BDE0A428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2EB3-32C9-4A93-A88E-B01D8EB8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54B4-19BA-4F9D-A080-2484B52F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226-ADAE-4FBF-9DF4-0E485A13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299A-44E7-45C4-88D3-737DB1DB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809B-60AD-4BC1-8C2B-7C554254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559-3B80-4A6F-AF0E-4922550E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583E-88F4-4F8B-A756-5F625A3D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49C5-97B3-4054-ABA5-FAD8A395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094-BF99-434E-BB55-1A55DD78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2F2F-FF89-4847-8DAE-503CDD87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B562-C45D-4CA9-B41B-FD15FA59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47B4-FAF8-471F-B202-F654AD06DCE7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ruta 1"/>
          <p:cNvSpPr/>
          <p:nvPr/>
        </p:nvSpPr>
        <p:spPr>
          <a:xfrm>
            <a:off x="250920" y="260280"/>
            <a:ext cx="8785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500" spc="-1" strike="noStrike">
                <a:solidFill>
                  <a:srgbClr val="cc00cc"/>
                </a:solidFill>
                <a:latin typeface="Arial"/>
              </a:rPr>
              <a:t>Croque-monsieur; un sandwich grillé au jambon-fromage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8:27:23Z</dcterms:modified>
  <cp:revision>9</cp:revision>
  <dc:subject/>
  <dc:title>Bild 1</dc:title>
</cp:coreProperties>
</file>