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8C9-3DD1-4838-8E46-ECCDE502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F2D-7F05-4F2E-9EE8-3A0FBB6F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28A-38F3-4CFA-B94A-438466CD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31B-220D-4106-AC94-D996494C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409-EFF0-4483-8979-5C2CA85D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D93-7A54-4DC5-AB63-E1C0D92A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769-3A90-493C-9413-92A16FEA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ED4-06CC-4C16-A116-C027E856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3A0-8360-407A-B12D-88E3285A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616-0959-4314-9281-EFF492AA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95D-1979-4B32-8BF9-E954DCF5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E3F-4507-45D1-B586-A89CFCF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57D6-C51B-472C-A06E-D949A2D57FC7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333360"/>
            <a:ext cx="849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800" spc="-1" strike="noStrike">
                <a:solidFill>
                  <a:srgbClr val="cc00cc"/>
                </a:solidFill>
                <a:latin typeface="Sylfaen"/>
              </a:rPr>
              <a:t>Les 3 mousquetaires; Athos, Porthos, Aram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7:09:48Z</dcterms:modified>
  <cp:revision>11</cp:revision>
  <dc:subject/>
  <dc:title>Bild 1</dc:title>
</cp:coreProperties>
</file>