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ACC-7C63-4B64-ACC6-CCF7F313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B53-182B-4194-9939-E55FC1EB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8FE-CC51-4A77-9201-699E4CFD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AD5-4495-45A1-8045-229C1ABB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1A7-9FA4-4899-878E-E5DD41A0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2B3-794F-4758-8F34-B99C3993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419-1159-44CF-851A-FDF6AAF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F7E-ACEC-4B47-AF3B-9A881873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018-503D-4E17-A45E-A5808C4B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A1E-B134-4CE3-A68E-540521A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CAE-EFB4-4901-993E-BCC3CF99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2BE-E011-4A15-8EFF-AB96AF90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9A6-708F-4F6B-A00A-F97109D0070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692280"/>
            <a:ext cx="864072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700" spc="-1" strike="noStrike">
                <a:solidFill>
                  <a:srgbClr val="ff0000"/>
                </a:solidFill>
                <a:latin typeface="Sylfaen"/>
              </a:rPr>
              <a:t>Le Stade de France, le plus grand stade de football </a:t>
            </a:r>
            <a:r>
              <a:rPr b="0" lang="fr-FR" sz="7700" spc="-1" strike="noStrike">
                <a:solidFill>
                  <a:srgbClr val="ff0000"/>
                </a:solidFill>
                <a:latin typeface="Arial"/>
              </a:rPr>
              <a:t>français, ouvert le 28 janvier 1998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6:02:25Z</dcterms:modified>
  <cp:revision>7</cp:revision>
  <dc:subject/>
  <dc:title>Bild 1</dc:title>
</cp:coreProperties>
</file>