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264-DBD2-4E57-A0C1-E95266A0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452-D758-43D8-B745-57049E38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C9E-A9C3-4643-A6C6-0F75B34F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B9A-80F2-4F86-82A2-0D4D6A28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4CD-C1C7-407A-92AC-B2FEE0C4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3A8-3DB3-40A8-AB74-7660D189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6DF-4D49-418B-B556-CF23779F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454-DEC2-40C7-B1E8-9DBBE717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3AF-A6A5-4AF1-99F3-6DB14F70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12F-DBAE-4265-AE56-CF08731E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B09-9790-4D1A-BE4D-180B572F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7FB-D019-4A3E-8453-FA1D813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3116-ECAB-443D-975F-C99EA3D2913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333360"/>
            <a:ext cx="8424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Des escargots, les petits gris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22:20Z</dcterms:modified>
  <cp:revision>8</cp:revision>
  <dc:subject/>
  <dc:title>Bild 1</dc:title>
</cp:coreProperties>
</file>