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1B3-F4BD-488E-AC95-DAF88FB0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901-0392-404C-B9EB-44ADE998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ABA-4149-4C61-9103-B12AF1DE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E55-BBCE-47F5-B3C2-472F2503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DC4-FEAD-49F5-AC21-3364ED87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9C4-2616-4DB9-A943-73BE930E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170-295C-4D2A-B4B8-43792EF2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466-762C-4B14-A9C1-2772C189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493-B291-4FB1-89E1-BD2C5FDA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CC2-95CA-48DF-9263-A5C3B6EE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41E-9BC2-4D89-A347-2BDDA630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A7A-1D8D-4A07-B6F1-68F819AC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E080-B945-4CEE-BFDB-CC4287554BE1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907920"/>
            <a:ext cx="842472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ffffff"/>
                </a:solidFill>
                <a:latin typeface="Sylfaen"/>
              </a:rPr>
              <a:t>La prise de la Bastille le 14 juillet 1789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Gustafsson, Stefan</cp:lastModifiedBy>
  <dcterms:modified xsi:type="dcterms:W3CDTF">2017-08-05T04:45:44Z</dcterms:modified>
  <cp:revision>9</cp:revision>
  <dc:subject/>
  <dc:title>Bild 1</dc:title>
</cp:coreProperties>
</file>