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FE7-35FE-4F74-B2D4-D6D9A6EE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399-C842-4CE0-B0CD-ABDE2837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851-296D-4252-ACE9-5D48224D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B22-71F2-429A-956A-C47428BC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436-7684-4882-A387-512724F4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CAD-6153-41D9-A74F-E9DBFF34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006-0878-410F-805E-83E899BC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A34-2432-4DCF-B5F5-BA2F37C0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C71-AB5B-4F82-B268-047BF0B9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776-ACE4-4599-B874-5292BEE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6A0-4DB3-4E34-B431-2388F02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E19-49C5-4B51-88DE-3332E8EB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E1F4-DE9F-46EF-AE81-3026A27271D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468360" y="260280"/>
            <a:ext cx="820728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c000"/>
                </a:solidFill>
                <a:latin typeface="Arial"/>
              </a:rPr>
              <a:t>Le plateau de fromag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14:17Z</dcterms:modified>
  <cp:revision>9</cp:revision>
  <dc:subject/>
  <dc:title>Bild 1</dc:title>
</cp:coreProperties>
</file>