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665-56B3-45B1-A77F-EA5FEF56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F3D-BFE5-4095-9DF1-E5505A15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8D2-D81D-41B4-9C31-C4B107BA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4B7-2408-4191-9C52-2A51A275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280-DBEE-4B5B-A2AC-5F4B3823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530-0D9F-46DF-B932-0FBBA4A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81A-3321-46C2-B186-AA3FE452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76D-B350-4266-B30F-E3FC4A26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E69-CF4C-400C-9912-4B67C8D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7F2-8E68-467F-99F9-FB3701F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CDA-5B81-4FF1-8E8D-7C6D41F4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7E5-BD3D-426A-B344-24F8729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124E-F151-434C-B01D-6945042258C1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836640"/>
            <a:ext cx="84978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200" spc="-1" strike="noStrike">
                <a:solidFill>
                  <a:srgbClr val="00b0f0"/>
                </a:solidFill>
                <a:latin typeface="Sylfaen"/>
              </a:rPr>
              <a:t>Les bateaux Mouche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9:35:34Z</dcterms:modified>
  <cp:revision>10</cp:revision>
  <dc:subject/>
  <dc:title>Bild 1</dc:title>
</cp:coreProperties>
</file>