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99A-7817-401A-A414-3D91B619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2BB-1F1D-4E81-8CBB-853A2C78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2FC-A559-4223-81DE-FE0A79BB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EFC-EAA3-4DB4-AFF1-69C792CE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B23-0089-4F7F-BCC1-413ADC8E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921-7442-4388-B7F9-3314C611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BC6-CDB8-45AB-B378-8111C65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166-8154-4E8C-A7D3-C9CD2150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AD3-8404-431D-B7D3-6D0BBD67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5C8-CB6A-4468-8328-9CFD7CFE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DD5-50CF-4A14-9859-5E1EFBED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ECA-4A93-45A4-809E-02345170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9569-6217-412A-B7AF-D294C64D855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692280"/>
            <a:ext cx="856908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400" spc="-1" strike="noStrike">
                <a:solidFill>
                  <a:srgbClr val="ff3300"/>
                </a:solidFill>
                <a:latin typeface="Sylfaen"/>
              </a:rPr>
              <a:t>Chanel 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400" spc="-1" strike="noStrike">
                <a:solidFill>
                  <a:srgbClr val="ff3300"/>
                </a:solidFill>
                <a:latin typeface="Sylfaen"/>
              </a:rPr>
              <a:t>no 5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9:16:44Z</dcterms:modified>
  <cp:revision>9</cp:revision>
  <dc:subject/>
  <dc:title>Bild 1</dc:title>
</cp:coreProperties>
</file>