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9F2-07FE-46CE-89C4-80C5995F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DADD-278D-4F9A-A943-D5A6F2DB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364-819A-49DC-AC81-42947D6F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F051-E96C-495B-8C3B-553A84BC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8361-2A2F-4015-903D-68D93FD3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946-ECBB-4ED5-9518-5C780075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64D9-B42E-4A67-81A8-8EE860CB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71F2-63E0-463A-A27A-B0B372A3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7265-64B7-42D7-8CEB-2499313B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CABD-ED54-42D1-9D28-07868557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6165-26CF-4FF0-B080-983ED1A8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3FD-82C9-40C1-B89C-A1F87092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A36D-B99B-4C72-B3C7-994A91828847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ruta 1"/>
          <p:cNvSpPr/>
          <p:nvPr/>
        </p:nvSpPr>
        <p:spPr>
          <a:xfrm>
            <a:off x="324000" y="260280"/>
            <a:ext cx="842472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500" spc="-1" strike="noStrike">
                <a:solidFill>
                  <a:srgbClr val="cc00cc"/>
                </a:solidFill>
                <a:latin typeface="Arial"/>
              </a:rPr>
              <a:t>La Joconde, peinte 1503-1506, portrait de Monna Lisa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5:40:53Z</dcterms:modified>
  <cp:revision>8</cp:revision>
  <dc:subject/>
  <dc:title>Bild 1</dc:title>
</cp:coreProperties>
</file>