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66C-9001-4F81-8A0D-00B97358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F70-F361-4E63-8D01-F06F3E06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B1D-B42D-4195-893A-7A23F2C8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5F1-AF8A-4F11-A344-4D004AD7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676-E567-4B9E-B871-E70F0A20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C760-46A7-4B2A-B15D-DCB8F211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999-CB2E-460A-B226-0C214D10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C4F-2AD4-414E-8BD2-2CBD7CC2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62A-2FBE-4872-A303-C890150A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E2C0-20AF-49EC-BC34-4CD21B28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5FC-2D20-4421-976E-0A2DEFE8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E97-207F-428B-B7C0-F0DA4DEF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BBDE-E5EF-4189-9667-847D64958159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ruta 1"/>
          <p:cNvSpPr/>
          <p:nvPr/>
        </p:nvSpPr>
        <p:spPr>
          <a:xfrm>
            <a:off x="179280" y="260280"/>
            <a:ext cx="8713800" cy="60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500" spc="-1" strike="noStrike">
                <a:solidFill>
                  <a:srgbClr val="ff0000"/>
                </a:solidFill>
                <a:latin typeface="Arial"/>
              </a:rPr>
              <a:t>Napoléon Bonaparte, </a:t>
            </a:r>
            <a:r>
              <a:rPr b="0" lang="fr-FR" sz="6500" spc="-1" strike="noStrike">
                <a:solidFill>
                  <a:srgbClr val="ff0000"/>
                </a:solidFill>
                <a:latin typeface="Arial"/>
              </a:rPr>
              <a:t>empereur français, né le 15 août 1769 à 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500" spc="-1" strike="noStrike">
                <a:solidFill>
                  <a:srgbClr val="ff0000"/>
                </a:solidFill>
                <a:latin typeface="Arial"/>
              </a:rPr>
              <a:t>Ajaccio, et mort le 5 mai 1821 sur l'île Sainte-Hélène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5:29:55Z</dcterms:modified>
  <cp:revision>8</cp:revision>
  <dc:subject/>
  <dc:title>Bild 1</dc:title>
</cp:coreProperties>
</file>