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5F6-4CB7-4C1A-A852-19CCE10A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80F-457B-4B79-A2B0-38458371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F15-1ACE-497F-B2E2-1460A00C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3C8-315A-43C9-831D-D666E7D5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D34-7271-4248-A361-0651A3D3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697-0B03-4B38-B98B-DC1BC38D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1A8-F6A0-44C1-978B-14AF824D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768-C261-4856-B59C-90E47928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1BE-5080-4C0E-B64C-8F1A6A35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C81-8025-4E1C-928D-26AB095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E8A-4A3A-42FE-ACBF-6F2CBDBF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777-0C5D-41F4-9B65-1C17C8A9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6523-BF1C-496C-8757-7CD5F8B10AB2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8760" y="404640"/>
            <a:ext cx="87343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500" spc="-1" strike="noStrike">
                <a:solidFill>
                  <a:srgbClr val="ffff00"/>
                </a:solidFill>
                <a:latin typeface="Times New Roman"/>
              </a:rPr>
              <a:t>Coluche a fondé les Restos du cœur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9:29:09Z</dcterms:modified>
  <cp:revision>12</cp:revision>
  <dc:subject/>
  <dc:title>PowerPoint Presentation</dc:title>
</cp:coreProperties>
</file>