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E9CD-5C29-491A-8759-0CAEC0F5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BE5A-F2B6-4178-96BD-65472667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6350-75ED-4096-BF65-BB969ACB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EED-2DEA-4A2B-AAA2-FDC05846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F320-EF81-4C4E-BDDF-ED7376E7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9440-22D1-4DE7-B22A-E109602F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3071-C76F-4496-9E0C-3771CB96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A149-4213-4A9F-9BD8-EE8DBF87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3DFE-755A-4104-AE45-FE85CBA0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4B0-32AF-469A-A64F-9C0CE06C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9FE8-1AF5-402A-B8E2-DCEC8FAD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AF5D-06D1-4404-AECB-DAE53783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AAA8-3E5E-4FD7-8DB7-471C577102A3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692280"/>
            <a:ext cx="8569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400" spc="-1" strike="noStrike">
                <a:solidFill>
                  <a:srgbClr val="ff3300"/>
                </a:solidFill>
                <a:latin typeface="Sylfaen"/>
              </a:rPr>
              <a:t>Le pain au chocolat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7:13Z</dcterms:created>
  <dc:creator> </dc:creator>
  <dc:description/>
  <dc:language>en-US</dc:language>
  <cp:lastModifiedBy>Gustafsson, Stefan</cp:lastModifiedBy>
  <dcterms:modified xsi:type="dcterms:W3CDTF">2017-08-05T05:33:49Z</dcterms:modified>
  <cp:revision>8</cp:revision>
  <dc:subject/>
  <dc:title>Bild 1</dc:title>
</cp:coreProperties>
</file>