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B52-93AE-4C76-94AB-93C56B9E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50E-7A3D-4EF5-AB5D-1AF4B88E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A7A-C27F-4DE3-A469-FCADD675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3AF-994A-45B4-8A9C-C2825C17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890-6C82-4CB3-AC41-29D36920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3A9-3A31-4F12-86A8-8EA95EE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B72-DA4A-41D3-9BFB-34817B95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D6D-5358-4412-85BE-97A309E8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CE3-16BE-4072-AD29-8AD71EB2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71A-C035-492F-9C3F-99CB4261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C17-ED8A-4BE9-A266-55912CF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5AB-002B-4263-92FC-7BC6394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D9D-CFD1-4E3E-A519-B9568A8E57A0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260280"/>
            <a:ext cx="756144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ff3300"/>
                </a:solidFill>
                <a:latin typeface="Sylfaen"/>
              </a:rPr>
              <a:t>Dior, entreprise de haute couture de 1946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5:14:52Z</dcterms:modified>
  <cp:revision>8</cp:revision>
  <dc:subject/>
  <dc:title>Bild 1</dc:title>
</cp:coreProperties>
</file>