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14A-72DD-4EFC-B5F5-13F15E30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BD3-3D5C-4DE8-88E6-53ADD173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2FE-C616-4239-BDDA-36F06477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018-F7CB-424D-B835-9654A541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89B-D46F-4AF0-A9CF-ED9D5090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EE9-498E-4C4A-BA97-482DDE72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A7B-EA99-4E9E-BAC6-BF61296E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483-5CAC-44C9-8928-6B324FE5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39E-56BC-48D2-A4FA-22534A9D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D22-9BD6-4E9B-896B-37F8088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6ED-6464-4189-8E56-463F4885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BE1-A8FF-4B57-B5AC-D7507D3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FB36-1C26-40B7-8500-8F7A6F7588A8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620640"/>
            <a:ext cx="8532720" cy="73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500" spc="-1" strike="noStrike">
                <a:solidFill>
                  <a:srgbClr val="ccff33"/>
                </a:solidFill>
                <a:latin typeface="Sylfaen"/>
              </a:rPr>
              <a:t>La guillotine, le rasoir national créé par Henri Guillotin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5:11:49Z</dcterms:modified>
  <cp:revision>8</cp:revision>
  <dc:subject/>
  <dc:title>Bild 1</dc:title>
</cp:coreProperties>
</file>