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653-AFA0-4D34-98C6-92469B0A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75C-6862-4B66-8B82-D6A77688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43C-8965-4D15-B96B-1A82E142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36C-7AB2-4270-B592-D7DBEBB0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6BF-4A0D-4660-B07C-0BB57F5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9E8-B343-45B8-9154-1DFDD2CC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010-ED9A-45A5-8680-3B876783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9FC-BAB0-4DC3-89FC-023DD167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F5F-C983-413D-A372-6B4A4FC5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9BB-7A1B-4659-8A9F-64D3C90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C7B-17ED-4DA9-9297-3F4B75EC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DF3-A208-4F8C-8B06-F3D7937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E95A-A553-436D-8F50-F3991B97B98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755640" y="1052640"/>
            <a:ext cx="6912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0000"/>
                </a:solidFill>
                <a:latin typeface="Arial"/>
              </a:rPr>
              <a:t>La baguett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4:43:42Z</dcterms:modified>
  <cp:revision>8</cp:revision>
  <dc:subject/>
  <dc:title>Bild 1</dc:title>
</cp:coreProperties>
</file>