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C1D-BCFE-4E70-B6ED-6B12B845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D73-58F4-42E4-B424-6AC4C21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FEF-29DA-425D-BA7F-052F3357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A3A-62C1-413F-AE2E-B7140B48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4A2-2FA7-4A06-A7B2-B237142E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31D-B000-441D-9D46-6EE19EC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966-6355-4319-884D-B3E4085E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2A1-4945-4F1E-BF3E-86A2A11F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58F-42B1-4BFF-9700-F5E83FAE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B03-99EE-42BB-821F-EA10C7D9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4A4-D707-4B55-92B1-9124B43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B79-239C-4591-A9E9-D0EB448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C04A-9ED8-4704-9292-BC17D54A7A4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138240" y="981000"/>
            <a:ext cx="8856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0000"/>
                </a:solidFill>
                <a:latin typeface="Arial"/>
              </a:rPr>
              <a:t>Louis XIV – le</a:t>
            </a:r>
            <a:r>
              <a:rPr b="0" lang="sv-SE" sz="9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v-SE" sz="13300" spc="-1" strike="noStrike">
                <a:solidFill>
                  <a:srgbClr val="ff0000"/>
                </a:solidFill>
                <a:latin typeface="Arial"/>
              </a:rPr>
              <a:t>Roi</a:t>
            </a:r>
            <a:r>
              <a:rPr b="0" lang="sv-SE" sz="8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v-SE" sz="13300" spc="-1" strike="noStrike">
                <a:solidFill>
                  <a:srgbClr val="ff0000"/>
                </a:solidFill>
                <a:latin typeface="Arial"/>
              </a:rPr>
              <a:t>Soleil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26:38Z</dcterms:modified>
  <cp:revision>9</cp:revision>
  <dc:subject/>
  <dc:title>Bild 1</dc:title>
</cp:coreProperties>
</file>