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B84-3FFC-4BB8-A02D-1649C0DF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CBE-40B8-4B71-8DAB-E93F08E8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F36-52DA-4814-9C3F-03607CFB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CC2-5105-4497-B29B-155689FD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236-9E6C-442D-9B7B-42E58682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411-A467-4FD0-ABA9-918CE016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7AF-D2BB-4661-B73A-F79F9A99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B59-38D8-423F-8C0F-4EEE5248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0F8-82D9-4B0E-A1B7-9F34A5CD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E4D-E13D-4CAC-93ED-4A06D26A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6A5-57CB-46F7-8132-9E187729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090-B59B-47FD-83E3-7997D85B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BDB1-C7CE-47AC-A1DA-7DBD6836F8C1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468360" y="260280"/>
            <a:ext cx="820728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c000"/>
                </a:solidFill>
                <a:latin typeface="Arial"/>
              </a:rPr>
              <a:t>Le jeu de la pétanqu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6:00:05Z</dcterms:modified>
  <cp:revision>8</cp:revision>
  <dc:subject/>
  <dc:title>Bild 1</dc:title>
</cp:coreProperties>
</file>