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6718-FE5A-4B1F-A2D2-A43C5C18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CDF7-AA9E-46F6-A8C8-92A9089F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0A6D-ABB7-4D7E-8C02-7DDF6BFD2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8D69-2F21-4782-BC6E-90D47FCC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B2C0-0058-4709-88B7-44CB0678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0B20-151C-4C00-8B5B-6EE4ACA5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2194-9D59-441C-9837-6C8D8563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ABF2-523C-4321-AE1C-31CBD2A0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66FC-4CFA-45D5-87AA-CFAD7B2A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4AC3-3FFD-48F9-BB6C-087388AD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2F1A-C9F8-4B91-A3DD-D3C8CDB5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060A-F238-44D4-B289-547D88EA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A439-83C7-42E4-8BE9-B3D0995E4866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9280" y="404640"/>
            <a:ext cx="8640720" cy="75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200" spc="-1" strike="noStrike">
                <a:solidFill>
                  <a:srgbClr val="cc00cc"/>
                </a:solidFill>
                <a:latin typeface="Sylfaen"/>
              </a:rPr>
              <a:t>Le coq, emblème de la France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5:04:40Z</dcterms:modified>
  <cp:revision>9</cp:revision>
  <dc:subject/>
  <dc:title>Bild 1</dc:title>
</cp:coreProperties>
</file>