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125-A609-4F80-9F0C-F680E233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8F5-17FF-42D7-9B4E-C998B956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BE9-D8C0-45A6-8A3E-C6AC3F8F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8E1-5F94-4526-A099-A447A3BD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012-93AB-4CC6-B078-6D591112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514-A291-41B4-B8B4-917D940D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B71-1073-44F0-BCD7-63077088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DBC-76A3-4483-A946-5E49721F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E2F-A3EA-40C0-A0B1-F1242160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2FF-CD30-4D0B-8A9B-994FD50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8CD-BE98-4393-AECB-68A0473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E99-11FC-44A0-97D3-F841D6C7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68EC-97EC-4FB0-ABD5-F67770DB0755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000" y="115920"/>
            <a:ext cx="86407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700" spc="-1" strike="noStrike">
                <a:solidFill>
                  <a:srgbClr val="000000"/>
                </a:solidFill>
                <a:latin typeface="Times New Roman"/>
              </a:rPr>
              <a:t>Les Schtroumpfs,  bande dessinée belge créée par </a:t>
            </a:r>
            <a:r>
              <a:rPr b="1" i="1" lang="sv-SE" sz="7700" spc="-1" strike="noStrike">
                <a:solidFill>
                  <a:srgbClr val="000000"/>
                </a:solidFill>
                <a:latin typeface="Times New Roman"/>
              </a:rPr>
              <a:t>Peyo en 1958 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5:59:21Z</dcterms:modified>
  <cp:revision>10</cp:revision>
  <dc:subject/>
  <dc:title>PowerPoint Presentation</dc:title>
</cp:coreProperties>
</file>