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F9F-E7F5-4DAC-94B2-E302C9E7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317-80D6-4A12-A8A6-072D1E75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A1E-4676-4E8C-BFDE-42232471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5FA-421B-45BD-8D92-60650744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3EA-A7B9-4EA8-8774-6946478B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802-8C43-4FCF-BDB9-75C0537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68F-8F94-46F3-9B8E-E4F23276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FD7-D438-499A-9D5A-5DC90DA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D1A-7324-4A7B-9BD2-7FFFBC8E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97B-61E1-408C-A38A-A22925B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B7E-35C2-408B-96EC-00E83C39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848-2420-4C83-B74C-17E4410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5F8F-2D25-4766-B90F-A3EA83A7A5E4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250920" y="83664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600" spc="-1" strike="noStrike">
                <a:solidFill>
                  <a:srgbClr val="ff0000"/>
                </a:solidFill>
                <a:latin typeface="Arial"/>
              </a:rPr>
              <a:t>Le Bibendum, créé par Michelin en 189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4:52:41Z</dcterms:modified>
  <cp:revision>9</cp:revision>
  <dc:subject/>
  <dc:title>Bild 1</dc:title>
</cp:coreProperties>
</file>