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FC6-C95D-44AC-BB41-807F761A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43D-0517-440C-8E19-D1F53486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DFC-A8F2-46DA-8985-CB2D9623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6F2-CDC6-4D30-B11D-3FF2191D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F48-7493-4D3B-BD14-F0EC668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5D7-0972-4D0E-974A-B78E4C57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34A-5893-48A8-BA39-CE837304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DE5-3CA3-4C9A-B64E-DF8C9632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111-544A-434A-8F93-2A9A9F6F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9AE-7B7E-4829-AD89-7EC57254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77C-E8F7-489A-A16D-C4AAF644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216-5C28-4C10-B46F-F7886ED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EA90-B712-4D0D-B490-0D31C78048BB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260280"/>
            <a:ext cx="871380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700" spc="-1" strike="noStrike">
                <a:solidFill>
                  <a:srgbClr val="cc00cc"/>
                </a:solidFill>
                <a:latin typeface="Arial"/>
              </a:rPr>
              <a:t>équipementier sportif </a:t>
            </a:r>
            <a:r>
              <a:rPr b="0" lang="sv-SE" sz="6700" spc="-1" strike="noStrike">
                <a:solidFill>
                  <a:srgbClr val="cc00cc"/>
                </a:solidFill>
                <a:latin typeface="Arial"/>
              </a:rPr>
              <a:t>de vêtements et de chaussures de sport, né en 1882, fondé par Emile Camuset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02:35Z</dcterms:modified>
  <cp:revision>9</cp:revision>
  <dc:subject/>
  <dc:title>Bild 1</dc:title>
</cp:coreProperties>
</file>