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in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91F-36A5-44FB-A5E5-CE9B2F39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ADC-B9E7-4BCE-A78F-2CDB0C37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2C5-F85A-4C1E-81FE-AB6A6256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309-39BC-4BF1-A928-B686C9AE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7DE-59BA-4CB7-BFD0-6DF64810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A27-B3F3-450F-8B48-888F4B51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818-9EF1-42A1-8D52-4BE7E56E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F3E-AE8B-4D20-A9B9-0644A6DE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228-6A01-41FF-914C-4EB03807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FC1-1BF1-4ADC-97E9-ACF9AB81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1FC-5526-4AA8-89D8-26A2CD9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40E-3127-471E-BE29-8AA7F86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F607-E928-42F9-9881-C33EF82AD5F9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000" y="620640"/>
            <a:ext cx="892800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300" spc="-1" strike="noStrike">
                <a:solidFill>
                  <a:srgbClr val="993300"/>
                </a:solidFill>
                <a:latin typeface="Sylfaen"/>
              </a:rPr>
              <a:t>Les Catacombes de Paris, les squelettes de 8 millions de Parisiens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Gustafsson, Stefan</cp:lastModifiedBy>
  <dcterms:modified xsi:type="dcterms:W3CDTF">2017-08-05T09:31:09Z</dcterms:modified>
  <cp:revision>7</cp:revision>
  <dc:subject/>
  <dc:title>Bild 1</dc:title>
</cp:coreProperties>
</file>