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F97-4028-4A5C-BF99-0129A997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258-8D82-44BE-9441-AD0C06AC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75D-E14B-4C44-A2C9-E101FA04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679-0145-4E02-A9CE-D9887B56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25C-9B0B-4F14-9FDE-23274686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931-DB76-4D45-A8EA-857293BF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180-3234-43A6-84E8-5D122596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3F1-06D0-4C85-A062-BDCB616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6AB-02E5-4F7A-B52D-5E9E59FC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F50-032B-434D-B8F3-C801D09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3E0-02BA-4505-A4E4-89E98FF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3DF-B366-4D8D-A1AE-4F7E448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C86-DBD7-4E36-B6DA-7F12C889E27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40464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ffff"/>
                </a:solidFill>
                <a:latin typeface="Arial"/>
              </a:rPr>
              <a:t>Le jambon-beurre, un sandwich classique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9:42:50Z</dcterms:modified>
  <cp:revision>10</cp:revision>
  <dc:subject/>
  <dc:title>Bild 1</dc:title>
</cp:coreProperties>
</file>