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73D-2BD3-47C3-9746-B17730D2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556-0B5F-4BDB-8995-6660915E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E4D-4544-443C-A85F-577670B4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DE3-2562-4011-91A7-C5802E5E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6FA-5DB2-4CEB-AECA-781A282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C86-6E68-4B10-B1A0-C0BAB6BD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BAC-3A96-4FE5-8596-72A1532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6FC-0A02-4D02-AD1C-4354E2D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751-17F4-4397-B51F-D7C936A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BED-5C74-4407-A317-8F2B494D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23A-5A3F-49D0-A9D4-8C73DC7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951-7D47-4037-A323-B8D5D84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2A66-0DDE-407B-AA0D-91873CCE067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89000"/>
            <a:ext cx="88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0000"/>
                </a:solidFill>
                <a:latin typeface="Arial"/>
              </a:rPr>
              <a:t>Yves Saint-Laurent; </a:t>
            </a:r>
            <a:r>
              <a:rPr b="0" lang="sv-SE" sz="9900" spc="-1" strike="noStrike">
                <a:solidFill>
                  <a:srgbClr val="ff0000"/>
                </a:solidFill>
                <a:latin typeface="Arial"/>
              </a:rPr>
              <a:t>grand couturier français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6:08:50Z</dcterms:modified>
  <cp:revision>9</cp:revision>
  <dc:subject/>
  <dc:title>Bild 1</dc:title>
</cp:coreProperties>
</file>