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A87-ABFE-4509-903A-4883C926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501-1D4E-40E4-B428-2BA5157B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0459-F35D-41A3-9F33-0C33EE91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DC8-C5CC-4BD5-97B8-2CACF323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737-C7CF-40FA-8A6B-F6EE6DB5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27A-632A-4B3E-AE54-C5804196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1E5-FFF6-49B9-A13D-E8124DDA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635-6F6D-4E02-B15F-240F48E2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946-1732-4EAA-82C1-AC526D33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87C-9B08-4B84-BE04-AE9EAB9F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0B4-5B5C-4606-B165-7AE7F475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F24-28FA-419D-942E-F1DBF0E2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92F7-A725-4C75-8AC2-6001E72E9C46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189000"/>
            <a:ext cx="8713800" cy="85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100" spc="-1" strike="noStrike">
                <a:solidFill>
                  <a:srgbClr val="ff3300"/>
                </a:solidFill>
                <a:latin typeface="Sylfaen"/>
              </a:rPr>
              <a:t>La devise de Paris; Fluctuat nec mergitur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Gustafsson, Stefan</cp:lastModifiedBy>
  <dcterms:modified xsi:type="dcterms:W3CDTF">2017-08-05T05:23:48Z</dcterms:modified>
  <cp:revision>7</cp:revision>
  <dc:subject/>
  <dc:title>Bild 1</dc:title>
</cp:coreProperties>
</file>