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34D-E7A0-47CD-829C-C2B1CA32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8BC-E345-4C38-9CD5-219AF77E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523-EC5B-49C7-9E19-FE61230D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70E-C0AD-419C-9447-97C97AAF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E33-9596-4861-8D13-1DDE9244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D6F-4AF9-4EBA-B989-F9C4B811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E4A-F2A3-4112-9E46-EEB7085D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198-912C-4969-8142-B6659076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3E4-7E58-4404-B713-A15801EE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E9E-7FC1-4BF5-BA4D-1EED17AD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E43-C086-4533-A845-339D53DE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0EF-86CA-4C80-8394-1664E3E1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5A61-D2C5-440E-8CD1-0C81EC3E9E1D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476280"/>
            <a:ext cx="813600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500" spc="-1" strike="noStrike">
                <a:solidFill>
                  <a:srgbClr val="ffff00"/>
                </a:solidFill>
                <a:latin typeface="Times New Roman"/>
              </a:rPr>
              <a:t>L’Arc de Triomphe, construit entre 1806-1836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stafsson, Stefan</cp:lastModifiedBy>
  <dcterms:modified xsi:type="dcterms:W3CDTF">2017-08-05T04:41:02Z</dcterms:modified>
  <cp:revision>10</cp:revision>
  <dc:subject/>
  <dc:title>PowerPoint Presentation</dc:title>
</cp:coreProperties>
</file>