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73203-A120-4B26-98B0-4D4A9F4F1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0666E-607C-4DC0-86F8-2A2FBF220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16032-5862-4B72-95AE-698B9FB9C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D57E3-4E42-4818-8F33-711A10745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A9E13-6AF8-4B36-B052-495086C5E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F40F4-4D3C-413E-8C42-17237AAEB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23F5F-438D-420F-A78A-0CCF7118E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D7267-0B19-4C4D-B90A-9374FBF8F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668DF-9627-4B55-A1B7-D76950F10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C4E69-54D8-4418-BE82-F391B9380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C2AAA-10D6-4EF2-9074-6EFD012A7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82AF1-A090-447D-B2CD-B8374C71A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AE81D-3DF2-48AB-952C-0CE75C58740E}" type="slidenum">
              <a:rPr b="0" lang="sv-S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ruta 1"/>
          <p:cNvSpPr/>
          <p:nvPr/>
        </p:nvSpPr>
        <p:spPr>
          <a:xfrm>
            <a:off x="158760" y="981000"/>
            <a:ext cx="8713800" cy="48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5500" spc="-1" strike="noStrike">
                <a:solidFill>
                  <a:srgbClr val="ff0000"/>
                </a:solidFill>
                <a:latin typeface="Arial"/>
              </a:rPr>
              <a:t>Moules-frites</a:t>
            </a:r>
            <a:endParaRPr b="0" lang="en-US" sz="15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1T15:52:18Z</dcterms:created>
  <dc:creator> </dc:creator>
  <dc:description/>
  <dc:language>en-US</dc:language>
  <cp:lastModifiedBy>Gustafsson, Stefan</cp:lastModifiedBy>
  <dcterms:modified xsi:type="dcterms:W3CDTF">2017-08-05T06:39:10Z</dcterms:modified>
  <cp:revision>9</cp:revision>
  <dc:subject/>
  <dc:title>Bild 1</dc:title>
</cp:coreProperties>
</file>