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BE31-AD24-4338-8F26-10F6BAF8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0721-A048-4402-A291-3A6BEBA7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E774-AB86-49D2-815B-3D154196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9121-C57F-439F-B594-6F655061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A5A6-7AF2-48D0-9731-441B518F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A5E6-5CE3-4334-840A-36E4F971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5A4E-BDDD-42F8-B330-B82F583A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3BD9-B6D9-433F-8D4C-56B6D855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B5E2-CBD0-4BE7-96D1-F410918A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6E42-0C1E-4D72-AE71-CACC92D2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0ED7-4159-401D-AB81-BF86C637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75FB-86D5-4AA0-9220-94CBBED4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B5C9-0982-4D34-AA2B-0BC190FE8E91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44440" y="333360"/>
            <a:ext cx="8569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900" spc="-1" strike="noStrike">
                <a:solidFill>
                  <a:srgbClr val="ffffff"/>
                </a:solidFill>
                <a:latin typeface="Sylfaen"/>
              </a:rPr>
              <a:t>Le cabaret Moulin Rouge créé le 6 octobre 1889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9:58Z</dcterms:created>
  <dc:creator> </dc:creator>
  <dc:description/>
  <dc:language>en-US</dc:language>
  <cp:lastModifiedBy>Gustafsson, Stefan</cp:lastModifiedBy>
  <dcterms:modified xsi:type="dcterms:W3CDTF">2017-08-05T05:39:10Z</dcterms:modified>
  <cp:revision>9</cp:revision>
  <dc:subject/>
  <dc:title>Bild 1</dc:title>
</cp:coreProperties>
</file>