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CA6-1DFD-4AF7-BFEA-6503E9BA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167-A365-4514-8620-2DE1C627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AA0-3342-4483-8393-E90F9930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259-6988-4FA7-A124-6300AF1A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A5F-311B-4895-97EE-BFFD252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0CC-F8FF-403F-923D-9F521E8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B09-315A-418F-AEF7-804EDF96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89A-905F-4851-910C-1C70410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090-5360-4248-B4E9-0588126A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C75-1E97-43D3-8A37-DEE7CBC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186-2C35-45CC-B0E8-6231616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7E2-249B-426D-AED7-3059629D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1C61-C9CC-40AE-ADC5-42B8DAC8DF2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907920"/>
            <a:ext cx="82803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cc00cc"/>
                </a:solidFill>
                <a:latin typeface="Sylfaen"/>
              </a:rPr>
              <a:t>La Légion étrangère, créée en 1831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31:28Z</dcterms:modified>
  <cp:revision>8</cp:revision>
  <dc:subject/>
  <dc:title>Bild 1</dc:title>
</cp:coreProperties>
</file>