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ABE-3FDF-4414-BBE7-F21E3BDF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329-9A44-45FB-9149-74ECB897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008-7113-4753-9ABC-CF17A066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05B-1910-4275-8D2D-F9C8E7EB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E19-DD38-4757-AB1F-2037AEFE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9C4-95BF-4BFD-886F-6312796F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59D-4186-43E6-BA93-4C163F5A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BD3-DD3B-4F04-9057-A8DE942F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72E-5496-487C-BF7D-9A99AF50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62B-68CB-4DBD-9F6D-1E2B4237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DE8-1498-474F-A09C-57BC518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23B-D597-45C8-94F4-B6483129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E300-47A7-482E-9C0B-87D756FC7DB9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324000" y="404640"/>
            <a:ext cx="820872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700" spc="-1" strike="noStrike">
                <a:solidFill>
                  <a:srgbClr val="ff0000"/>
                </a:solidFill>
                <a:latin typeface="Arial"/>
              </a:rPr>
              <a:t>Jeanne d’Arc, la sainte patronne de la France, brûlée vive le 30 mai 1431 à Rouen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25:19Z</dcterms:modified>
  <cp:revision>8</cp:revision>
  <dc:subject/>
  <dc:title>Bild 1</dc:title>
</cp:coreProperties>
</file>