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115-34F2-4554-B7D8-560D0DDA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74F-F654-451B-882A-508FD8A5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846-94E1-44D0-9185-D15C2242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27D-F038-428D-9A32-DC327468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B7A-D902-4474-A7E7-99FAB4E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2CC-640B-47E8-9E20-974A5B2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A32-06C6-442C-89C4-1484ED0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B97-3EA3-467A-9B3A-E448689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0E6-7729-497C-B4A4-E535651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BFB-0993-46DB-864D-C14C41F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5ED-077B-4F86-B168-75ACECA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88C-684E-40B4-8375-3000EC7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DBF3-5E7F-4413-8941-B1FAB0FE189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>
            <a:hlinkClick r:id="rId2"/>
          </p:cNvPr>
          <p:cNvSpPr/>
          <p:nvPr/>
        </p:nvSpPr>
        <p:spPr>
          <a:xfrm>
            <a:off x="179280" y="189000"/>
            <a:ext cx="87854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0" spc="-1" strike="noStrike">
                <a:solidFill>
                  <a:srgbClr val="ffff66"/>
                </a:solidFill>
                <a:latin typeface="Sylfaen"/>
              </a:rPr>
              <a:t>Peugeot, marque de voiture, de scies et de poivriers de 18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6:49:08Z</dcterms:modified>
  <cp:revision>10</cp:revision>
  <dc:subject/>
  <dc:title>Bild 1</dc:title>
</cp:coreProperties>
</file>