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F36-F325-4837-95FA-3BC2AB22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102-EEDB-42AD-9F79-8782CDD3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070-BC1C-4097-B7EC-BFB8D774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657-296F-431D-8753-510AC9C9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907-13C5-4B44-9E46-6179A238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385-234F-4E95-B74B-6068230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638-40F1-4974-B8AE-2C8A6B2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F6A-5EB5-4F07-8BE4-BBE67A13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DC2-F66B-40C0-831E-90991DD3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3B5-54CE-4461-89BD-A73A0060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6C3-11B1-4178-A249-2302BD3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600-B8E6-4CF3-86E4-89294B5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93D5-8AE6-4B88-BF35-2CCACF759F37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8360" y="404640"/>
            <a:ext cx="8136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500" spc="-1" strike="noStrike">
                <a:solidFill>
                  <a:srgbClr val="ffff00"/>
                </a:solidFill>
                <a:latin typeface="Times New Roman"/>
              </a:rPr>
              <a:t>Les Champs-Élysées, célèbre avenue parisienne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5:09:19Z</dcterms:modified>
  <cp:revision>10</cp:revision>
  <dc:subject/>
  <dc:title>PowerPoint Presentation</dc:title>
</cp:coreProperties>
</file>