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ED2E-8EAC-44C8-BF0F-87D166F27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14F7-433A-4B65-9048-50C96E514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2C85-D17E-41DB-A759-1C3CD12DA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F18F-5019-4124-8722-A09FD81C4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3B3B-1626-4C1B-A1F7-18B66C920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E9A2-3807-4E4D-87B9-608483223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B9A9-D2B6-4EB9-9FC0-85BFA888E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E537-2183-4CE1-8E0E-302C59AEF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054B-9C50-43D0-B529-D5176C4E0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D8DC-8E33-43A3-B009-445D37099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A28D-8FAE-4E3D-97B1-2A0306EDB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A4D7-3BB3-4EE2-B66D-1D11F9ED1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9A8D3-510F-4D94-AC94-7E3DCBD81F2F}" type="slidenum">
              <a:rPr b="0" lang="sv-S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08000" y="907920"/>
            <a:ext cx="8712000" cy="68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9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1100" spc="-1" strike="noStrike">
                <a:solidFill>
                  <a:srgbClr val="ff3300"/>
                </a:solidFill>
                <a:latin typeface="Sylfaen"/>
              </a:rPr>
              <a:t>Chanel, Coco, couturière célèbre</a:t>
            </a:r>
            <a:endParaRPr b="0" lang="en-US" sz="1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37:13Z</dcterms:created>
  <dc:creator> </dc:creator>
  <dc:description/>
  <dc:language>en-US</dc:language>
  <cp:lastModifiedBy>Gustafsson, Stefan</cp:lastModifiedBy>
  <dcterms:modified xsi:type="dcterms:W3CDTF">2017-08-05T05:08:30Z</dcterms:modified>
  <cp:revision>9</cp:revision>
  <dc:subject/>
  <dc:title>Bild 1</dc:title>
</cp:coreProperties>
</file>