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1089-8B44-41F2-8B30-BEA8D6B5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F26-6ADE-4CDC-A4C3-AC1263B4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E2EF-07A9-4182-A131-7B9BA966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BC1B-A2E6-4644-972E-64DEE545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9EAE-233D-4134-8FC7-FDEBC93A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51FD-DCFA-4242-95F5-795DF605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BD38-79FF-4B4D-BD61-E54C7231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D631-899B-4E4E-8078-DA9AC398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151-09BB-4D73-A521-5F547E58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8D44-35E2-420C-B39C-3FB96AD5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C577-1937-4564-9A49-8646AE89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FFFD-B5F1-4773-98FA-001201A9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3331-7622-48C3-A90A-C50A103BFA5C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63440" y="260280"/>
            <a:ext cx="892800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100" spc="-1" strike="noStrike">
                <a:solidFill>
                  <a:srgbClr val="ccff33"/>
                </a:solidFill>
                <a:latin typeface="Sylfaen"/>
              </a:rPr>
              <a:t>Le Train à Grande Vitesse; l’inouï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Gustafsson, Stefan</cp:lastModifiedBy>
  <dcterms:modified xsi:type="dcterms:W3CDTF">2017-08-05T05:21:38Z</dcterms:modified>
  <cp:revision>8</cp:revision>
  <dc:subject/>
  <dc:title>Bild 1</dc:title>
</cp:coreProperties>
</file>