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BCC-40D2-4834-B82C-E49187C7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66F-6BCA-4248-A823-AF7734F2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2D2-398F-4DA0-AE57-872FBDDA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851-180B-43FC-AF0B-C8994369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468-57C0-45BD-B1E2-9D78EF19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994-857D-4770-B85F-B07C0C97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AC4-A145-4FF8-B24F-057E4D65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E1E-5178-4AFD-80EE-AE981B03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B0D-9E7A-4F64-90E9-D227829F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928-8432-4A62-91C3-61CF9372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989-9E83-49AA-8718-D2C0D83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9E6-846E-452A-9383-E583540D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F3AC-C643-421E-9733-887D42A6540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324000" y="333360"/>
            <a:ext cx="856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0" spc="-1" strike="noStrike">
                <a:solidFill>
                  <a:srgbClr val="cc00cc"/>
                </a:solidFill>
                <a:latin typeface="Arial"/>
              </a:rPr>
              <a:t>Le macaron, la journée internationale du macaron le 20 ma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43:22Z</dcterms:modified>
  <cp:revision>8</cp:revision>
  <dc:subject/>
  <dc:title>Bild 1</dc:title>
</cp:coreProperties>
</file>