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1D5-B959-44A1-87C5-0EECE4B7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4D7-5611-4B12-B782-35F49DE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498-7145-45CA-A47A-DC3F88EE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17B-D50E-421D-9ED6-89BCCE0E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CC4-BF13-4946-A9B3-20D7954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74D-0B8D-4E35-A468-A093DDBF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652-2105-4CBB-8674-A646A60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F05-A9D9-42B5-BCC7-F03268D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839-A2DF-48AB-8345-6ACA0E7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B37-1D20-446D-9024-56D7686D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5F6-C6F1-4E0A-90C5-37EFCAD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4DF-0B90-4CB9-8159-ADB8E40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B06-C478-4592-99DB-8F3B2B7A9DA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836640"/>
            <a:ext cx="85327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500" spc="-1" strike="noStrike">
                <a:solidFill>
                  <a:srgbClr val="ccff33"/>
                </a:solidFill>
                <a:latin typeface="Sylfaen"/>
              </a:rPr>
              <a:t>Le bic, inventé par Marcel Bic’h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4:58:14Z</dcterms:modified>
  <cp:revision>7</cp:revision>
  <dc:subject/>
  <dc:title>Bild 1</dc:title>
</cp:coreProperties>
</file>