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AB1-7F88-4BF0-95F4-73D1AABE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2B9-CE3A-40A5-9EE5-C0CFD75C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55A-4730-4F22-BE63-85A8B0D2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641-37AB-491C-8BE3-21B9A708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FFE-4159-4919-A53A-B7D140F9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D01-ACFF-41F5-BDE9-7734F916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99F-4085-42CE-A59F-33802D7B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E25-BF3E-4EE9-AD9C-2F4AC153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75A-FA8D-4783-A07B-19C3F0AD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461-11A2-4709-B561-0C9BF38E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EE9-1AC2-435D-9459-6AAA4217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32C-DDBC-42FB-81B6-AAF90015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96BD-55F2-414C-89F0-B439830A1D0F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404640"/>
            <a:ext cx="8532720" cy="76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900" spc="-1" strike="noStrike">
                <a:solidFill>
                  <a:srgbClr val="ccff33"/>
                </a:solidFill>
                <a:latin typeface="Sylfaen"/>
              </a:rPr>
              <a:t>Disneyland; parc d’attraction ouvert en 1992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Gustafsson, Stefan</cp:lastModifiedBy>
  <dcterms:modified xsi:type="dcterms:W3CDTF">2017-08-05T06:27:19Z</dcterms:modified>
  <cp:revision>9</cp:revision>
  <dc:subject/>
  <dc:title>Bild 1</dc:title>
</cp:coreProperties>
</file>