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176-7EF0-4A3E-8119-C9BA7EF4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A25-0ECB-478F-A05B-1C96B1D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0E9-C2C3-4CF6-AA52-9F54793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3AA-CDFE-4CE1-ADBA-840E5B94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D12-DA8E-45C9-ABEE-59687802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B12-1BAD-4B40-AADD-97A52A9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368-5086-443A-9BF6-584E0BE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87E-CD62-4F8B-AEC9-FFD5667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FF7-BF36-4E5D-860E-70AE42F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A77-3D4B-4632-A9F5-1FBBFF1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A6B-6A75-4597-B038-A14C7F6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FA4-9F37-4017-AE1C-0407812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112-F8EC-4510-A9B3-3F9A45EF209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476280"/>
            <a:ext cx="8136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500" spc="-1" strike="noStrike">
                <a:solidFill>
                  <a:srgbClr val="ffff00"/>
                </a:solidFill>
                <a:latin typeface="Times New Roman"/>
              </a:rPr>
              <a:t>Carambar, un bonbon au caramel avec une blague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9:41:20Z</dcterms:modified>
  <cp:revision>11</cp:revision>
  <dc:subject/>
  <dc:title>PowerPoint Presentation</dc:title>
</cp:coreProperties>
</file>