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752-81BB-4435-83DE-3EF31925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A4E-A80A-4DB6-A8B6-CD93792F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319-90C0-4453-AE29-1A741467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4D7-126D-4D97-A235-9166F66F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261-74ED-4E3E-9344-30C5F551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D4B-AC45-45AA-B8D8-E88545DA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016-5352-4CC5-A4CB-211A3FA7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0B2-2FFC-44DB-ADA6-75C09702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36E-75D2-4AF5-84ED-F997B7F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D7F-7DA0-4562-830A-2C628C2A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1E0-3F27-4C61-9F45-69903927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AD1-8710-4CB9-AB1C-35EB963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B5DA-84FB-49BF-892E-E2D0C0FE6EB3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404640"/>
            <a:ext cx="8532720" cy="10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3300" spc="-1" strike="noStrike">
                <a:solidFill>
                  <a:srgbClr val="ccff33"/>
                </a:solidFill>
                <a:latin typeface="Sylfaen"/>
              </a:rPr>
              <a:t>Le festival de film de Cannes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5:03:01Z</dcterms:modified>
  <cp:revision>8</cp:revision>
  <dc:subject/>
  <dc:title>Bild 1</dc:title>
</cp:coreProperties>
</file>