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FDA-2027-4ED2-8721-B593962E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8F9-A62B-41EF-A884-0A029A4F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A8A-986C-4460-A1A7-5617CF32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371-6AAB-410D-AB22-8F877B1D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3AC-01B7-4378-A7AB-88CB34F6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0A7-1C28-4758-AA68-75249E3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A59-ECF4-4F81-BE11-A529C7D8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A38-FC4C-4104-8D55-691134CA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A92-142A-44EF-9DED-7A8B6FAB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A4F-85DC-4218-B4DD-E428298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7F7-C7A1-4834-8862-CD81AF40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DF7-5064-48BC-A9E5-CBE1E11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76CC-D4D7-4FD4-88EC-11075B944A76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476280"/>
            <a:ext cx="8497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800" spc="-1" strike="noStrike">
                <a:solidFill>
                  <a:srgbClr val="cc00cc"/>
                </a:solidFill>
                <a:latin typeface="Sylfaen"/>
              </a:rPr>
              <a:t>Les éclairs au chocolat qu’on mange aussi vite qu’un éclai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9:36:35Z</dcterms:modified>
  <cp:revision>10</cp:revision>
  <dc:subject/>
  <dc:title>Bild 1</dc:title>
</cp:coreProperties>
</file>