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F7F-CCFB-46BE-97FB-5B46490E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393-7774-4E0C-8450-E969F30B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601-2682-46F2-BC92-810AD5AB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A8D-B59D-480B-9E41-BB394271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81E-09E3-4BE6-A442-B0FE3834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5F1-F959-42DF-ACF1-7693A896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72C2-7948-4054-8515-1F3EFCCF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857-875D-44B5-A50B-11509889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71B-AE0C-4056-8669-A5A72120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846-D2AA-48FF-B9BD-03FA5162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456-A32B-49EC-B7C8-5F2A8881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7D4-F07A-44E6-96C1-3AFC6DDB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A5D7-27E9-4DFE-98D1-5BF89BF34257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189000"/>
            <a:ext cx="87138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300" spc="-1" strike="noStrike">
                <a:solidFill>
                  <a:srgbClr val="ffff00"/>
                </a:solidFill>
                <a:latin typeface="Sylfaen"/>
              </a:rPr>
              <a:t>Cartier, marque de luxe fondée en 1847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7:13Z</dcterms:created>
  <dc:creator> </dc:creator>
  <dc:description/>
  <dc:language>en-US</dc:language>
  <cp:lastModifiedBy>Gustafsson, Stefan</cp:lastModifiedBy>
  <dcterms:modified xsi:type="dcterms:W3CDTF">2017-08-05T09:40:32Z</dcterms:modified>
  <cp:revision>8</cp:revision>
  <dc:subject/>
  <dc:title>Bild 1</dc:title>
</cp:coreProperties>
</file>