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100-8E79-435E-AFD7-80242D06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6C4-E43B-4A21-9595-4B7438F5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A0C-A972-4FFF-B097-BDC93A29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6BF-B7A4-41E8-B4EB-8A6A7596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96D-AEFB-4403-AFEF-EE3D85E7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A1B-B52B-429E-A083-93B492AB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C88-1B55-4185-8D3B-FEEA1A74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53D-27FB-4741-9A26-3364FAE8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69B-E2F8-4755-BA89-AE7C7A8E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680-335C-49FF-8F71-13C4BEE3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B39-6198-412A-A1EA-5D9EB17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95B-474E-43F2-9AC8-C8C13C1D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9CE7-9349-4FB5-BE31-FB9EFAB0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773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Poulet rôti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20:00:54Z</dcterms:modified>
  <cp:revision>8</cp:revision>
  <dc:subject/>
  <dc:title>Bild 1</dc:title>
</cp:coreProperties>
</file>