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19D-1CB1-41A1-B9B0-FB929369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A3A-3366-4000-A602-9F2FA71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768-80F1-462C-82F4-DE63964D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3FC-8CDE-4B57-82FB-0B7EBE02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623-0228-4CBD-AB6F-F4D11C52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550-28AA-4D0A-974C-737A79D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897-DB6C-4D5A-A7D1-4CC1C53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E69-D61E-4434-9AD2-72807BF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612-93C7-4389-9803-CFFB259A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94A-1848-4634-8CCF-0DC2A7E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5C9-453B-43E4-A299-B11B393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B7B-D2D9-4F8C-8DCB-CB69010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24F4-05CD-4999-9CFF-39580925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532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200" spc="-1" strike="noStrike">
                <a:solidFill>
                  <a:srgbClr val="ffff00"/>
                </a:solidFill>
                <a:latin typeface="Arial"/>
              </a:rPr>
              <a:t>croque-monsieu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 </cp:lastModifiedBy>
  <dcterms:modified xsi:type="dcterms:W3CDTF">2009-03-23T20:09:10Z</dcterms:modified>
  <cp:revision>7</cp:revision>
  <dc:subject/>
  <dc:title>Bild 1</dc:title>
</cp:coreProperties>
</file>