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xplode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ADF-AD22-4463-8C74-103232DD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BD6-7A4F-4DEF-95B5-54DA5F30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9A20-D82B-4A43-9602-ACC035DB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8AC9-9FB4-4485-B024-E806B1E0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A28-53BB-4E6E-940A-431CD6B7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928-EA5C-4783-A075-9508202C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18D-084D-46B9-AF93-B92D43EB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654D-14AA-475F-BF4A-7A4E9BE8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1B9-E5F8-4E43-AC34-5ADD452D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7B4-4FE0-4A91-8D70-6E9BA13E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9A30-6FE3-47E0-ACF5-2938E8D4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38AF-3DF3-4DA6-9C6A-643DB27E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91DB-8578-4301-ADE9-9B030E0FB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/>
          </p:cNvPr>
          <p:cNvSpPr/>
          <p:nvPr/>
        </p:nvSpPr>
        <p:spPr>
          <a:xfrm>
            <a:off x="611280" y="1052640"/>
            <a:ext cx="8136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300" spc="-1" strike="noStrike">
                <a:solidFill>
                  <a:srgbClr val="bbe0e3"/>
                </a:solidFill>
                <a:latin typeface="Arial"/>
              </a:rPr>
              <a:t>une terrine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8:06Z</dcterms:created>
  <dc:creator> </dc:creator>
  <dc:description/>
  <dc:language>en-US</dc:language>
  <cp:lastModifiedBy> </cp:lastModifiedBy>
  <dcterms:modified xsi:type="dcterms:W3CDTF">2009-03-23T20:19:14Z</dcterms:modified>
  <cp:revision>8</cp:revision>
  <dc:subject/>
  <dc:title>Bild 1</dc:title>
</cp:coreProperties>
</file>