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E43-41E0-42B0-9423-A47B9D76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E39-CE33-4F17-92B9-96974BAB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37C-FB11-4CD7-9598-20A3AAD4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040-3E7D-4625-8501-F8E25283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FC4-13BE-416C-9E9A-23663A5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951-32DB-43C5-A48F-7B81D77C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434-7FD8-4A61-B727-61AAF256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D5C-55E6-4E58-8DAD-141813BE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2D8-53CE-44BB-A46B-E3707A8B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8A0-C9C6-4B93-9A11-F1739E65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01E-E204-4FCC-8626-F0A1A457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6B5-9311-489C-AA76-9EB71FC1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6BB-8C22-49FB-AB47-501A821928F8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692280"/>
            <a:ext cx="81360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00"/>
                </a:solidFill>
                <a:latin typeface="Times New Roman"/>
              </a:rPr>
              <a:t>Du foie gras maison</a:t>
            </a:r>
            <a:endParaRPr b="0" lang="en-US" sz="1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3-23T19:05:36Z</dcterms:modified>
  <cp:revision>9</cp:revision>
  <dc:subject/>
  <dc:title>PowerPoint Presentation</dc:title>
</cp:coreProperties>
</file>