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3D1-2718-462E-BAC2-D120632B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9BA-34AA-4FC8-A9DF-876F4A19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A81-5FF5-4AB1-9828-818040DD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C38-DC57-4FF8-A152-86EBE70A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041-EE63-4C6E-BD21-6BE9348E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ED6-0A1D-4FEE-B316-4CF601CC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85D-C829-4BE5-9D39-40CD26B6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C6D-ED60-4433-972D-DC6B456F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034-14EC-4AFD-B781-742FD44E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8A7-8716-41E8-B606-7F2B9220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045-615D-43FD-AEA0-9C4D1926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E63-0D6D-4046-AA47-CB1B1667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7307-A22B-481C-BDBF-B8BE99D3D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04640"/>
            <a:ext cx="835164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Arial"/>
              </a:rPr>
              <a:t>Poulet de Bresse aux morilles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3-23T20:05:24Z</dcterms:modified>
  <cp:revision>8</cp:revision>
  <dc:subject/>
  <dc:title>Bild 1</dc:title>
</cp:coreProperties>
</file>