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EDA-6ABF-4775-9EE6-5ECF5380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A44-4251-416F-9DFD-60EA22C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B46-636F-47EC-985C-A49B3C4A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83E-95FD-4FE8-8840-B4CA541E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CD3-D841-4AB9-81A3-CD79AB09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A0A-1EF6-4DBF-89FB-61EEC6D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DDB-B8A2-4365-8F7D-A8D3E6E9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868-9688-4D41-8780-116E81A2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6FA-28E8-4FAC-B740-D008986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0A2-72AA-4B08-8A7C-86908601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027-4DB0-4D6E-B227-7499E3E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B01-9F4E-4ACF-93A5-C805571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503-5512-4FF0-9452-648F88757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341360"/>
            <a:ext cx="770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00"/>
                </a:solidFill>
                <a:latin typeface="Arial"/>
              </a:rPr>
              <a:t>Tarte aux myrtilles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 </cp:lastModifiedBy>
  <dcterms:modified xsi:type="dcterms:W3CDTF">2009-03-23T20:14:03Z</dcterms:modified>
  <cp:revision>7</cp:revision>
  <dc:subject/>
  <dc:title>Bild 1</dc:title>
</cp:coreProperties>
</file>