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5BC3-EB1F-419F-ABBD-7B8FAA48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C56E-5D16-426C-8E09-2CC896B1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BEF3-FFD3-48B2-8A2E-B8105B66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9603-EB56-48B9-A08B-FEC7D456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10E0-C656-4D72-BA4F-25057436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A122-AE5E-428B-A18F-3E88EC72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B99E-7C53-4547-9054-185198A7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1F98-568F-41C5-9F45-D0D47ECC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18A1-586E-4FCA-A5D4-CF14E746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655B-BBB4-40FD-8D40-E3AEB2B6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1E91-156A-40F6-89EF-C52BD394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541F-525E-4B06-B732-A960EE02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64AC-418E-4B75-960A-DFDF2F3EA259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836640"/>
            <a:ext cx="849600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500" spc="-1" strike="noStrike">
                <a:solidFill>
                  <a:srgbClr val="ffff00"/>
                </a:solidFill>
                <a:latin typeface="Times New Roman"/>
              </a:rPr>
              <a:t>quiche lorraine </a:t>
            </a:r>
            <a:endParaRPr b="0" lang="en-US" sz="1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9-03-23T19:01:57Z</dcterms:modified>
  <cp:revision>9</cp:revision>
  <dc:subject/>
  <dc:title>PowerPoint Presentation</dc:title>
</cp:coreProperties>
</file>