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B66-5175-4B7D-B809-32BA10C4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7C5-C424-4643-9A0D-777CBC9A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7A8-7739-4A01-AE15-0FEC0941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C2F-91CE-48FE-98A1-64A2CAB8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D49-DE9C-4568-9800-EF096CDF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B97-F51B-4AD5-9C92-A47A445D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AFF-B608-404D-BB04-540B9DFB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1DE-C372-47CA-A803-D044087C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60F-CC09-4326-91B3-0F893EB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5D1-18B2-44E7-82D8-608F1B10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EB7-1E19-4E64-A0B1-B3EF9FD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E5C-B4B1-47DF-8136-94C5FF0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AF4-0DA4-455B-95B3-177000BF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413000"/>
            <a:ext cx="8532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ff3300"/>
                </a:solidFill>
                <a:latin typeface="Arial"/>
              </a:rPr>
              <a:t>saucisses de Lyon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3-23T19:08:54Z</dcterms:modified>
  <cp:revision>8</cp:revision>
  <dc:subject/>
  <dc:title>Bild 1</dc:title>
</cp:coreProperties>
</file>