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71F-633D-4799-9E76-AAAAEEEA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CF3-F66E-46A7-B8EB-07AAFA84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447-8769-4898-B955-A751C39B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67D-5384-490B-8242-83FE840A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AB0-6DE4-43DA-AE4A-4541053F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820-77AB-4C5D-9105-756C1CE4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59D-DE9D-4EDA-9181-0C10C748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34E-C0B8-4265-98A2-D9908FE4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B1D-CA56-472D-AA37-DFE349B3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AAD-1D35-4539-861E-504C500B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EB4-AD0A-4F37-87ED-1332E875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A9E-8CCA-4BB3-B0C5-4947265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8F9F-2F8A-4062-89CA-81A9D99EB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2803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La blanquette de veau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19:59:11Z</dcterms:modified>
  <cp:revision>7</cp:revision>
  <dc:subject/>
  <dc:title>Bild 1</dc:title>
</cp:coreProperties>
</file>