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332-E17F-493C-95A2-88749ABC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F85-C190-4985-B27C-35A911B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E24-6375-413C-9CD3-08904D16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022-B84E-41CC-9273-76F11F8D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909-251F-4964-B17B-82767E0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396-488A-469B-B776-694DCEF9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6BB-ABE9-4AEF-9D70-F485FF66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CC4-E003-4CA2-BDE9-60FF840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2AC-4F0D-42CB-85B3-6FAEFADB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370-458A-496F-B13A-332A615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D94-54E1-43C5-9962-7D3DF0A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3E1-2976-4029-BB28-6009F25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7610-1269-4D96-B5E5-C2E00F9F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92280"/>
            <a:ext cx="7848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ff3300"/>
                </a:solidFill>
                <a:latin typeface="Arial"/>
              </a:rPr>
              <a:t>Une salade de gésier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3-23T19:08:10Z</dcterms:modified>
  <cp:revision>7</cp:revision>
  <dc:subject/>
  <dc:title>Bild 1</dc:title>
</cp:coreProperties>
</file>