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D019-358F-413F-93FE-5BFDA7D7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E62B-D81F-475E-AC0D-DB349F7B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0AD5-1EDD-4033-BDA6-61C45D18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D01F-9FBA-44B4-959F-DCEC39C8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E476-58F3-4EF0-9CBE-48A659E6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5015-EC23-47EE-9B64-260D4006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C920-9171-4C44-91C2-B90AEF3C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3774-17B4-4FEF-94CC-8C108A85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1442-F6A6-40EF-8A5C-97D59F65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04D7-F1C1-4390-91AB-5234FC45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0AEF-5322-4CCB-BCFF-0407D522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485E-F8D2-414D-A6E5-14D6E75C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9660-6D62-448F-9889-5F4E861DA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916280"/>
            <a:ext cx="849780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500" spc="-1" strike="noStrike">
                <a:solidFill>
                  <a:srgbClr val="000000"/>
                </a:solidFill>
                <a:latin typeface="Arial"/>
              </a:rPr>
              <a:t>un flan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20:26:34Z</dcterms:created>
  <dc:creator> </dc:creator>
  <dc:description/>
  <dc:language>en-US</dc:language>
  <cp:lastModifiedBy> </cp:lastModifiedBy>
  <dcterms:modified xsi:type="dcterms:W3CDTF">2009-03-23T20:27:29Z</dcterms:modified>
  <cp:revision>2</cp:revision>
  <dc:subject/>
  <dc:title>Bild 1</dc:title>
</cp:coreProperties>
</file>