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2E7F-6E20-4DA7-86FB-157E47E6F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6AF1-D87F-4FF7-9568-7C4F58F4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7D15-2ECB-48F3-BE2E-EF8B6EDB5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4F9B-085E-4385-B167-8880D730D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A741-8A15-42B2-8A7E-2FB11B85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79C7-8D50-4E71-B7A4-3D5CFA13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682E-2109-44CE-BA54-E2FE663C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3E44-0731-4ACA-A2FE-DCE53F82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7F32-501E-475E-A7EE-037D29BE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153E-FB4F-43B0-A05F-380986F4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982F-ED95-4AC5-95FB-4C24B9BE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221D-1C22-4212-AB0C-36AC2587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F341-C58E-429F-9BCE-38BA070F6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4320" y="1483920"/>
            <a:ext cx="762228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100" spc="-1" strike="noStrike">
                <a:solidFill>
                  <a:srgbClr val="ffffff"/>
                </a:solidFill>
                <a:latin typeface="Arial"/>
              </a:rPr>
              <a:t>Le lapin à </a:t>
            </a:r>
            <a:endParaRPr b="0" lang="en-US" sz="1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100" spc="-1" strike="noStrike">
                <a:solidFill>
                  <a:srgbClr val="ffffff"/>
                </a:solidFill>
                <a:latin typeface="Arial"/>
              </a:rPr>
              <a:t>la moutarde</a:t>
            </a:r>
            <a:endParaRPr b="0" lang="en-US" sz="1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 </cp:lastModifiedBy>
  <dcterms:modified xsi:type="dcterms:W3CDTF">2009-03-23T19:54:41Z</dcterms:modified>
  <cp:revision>8</cp:revision>
  <dc:subject/>
  <dc:title>Bild 1</dc:title>
</cp:coreProperties>
</file>