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C6E-5929-4FB0-9115-BC2E2E0E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76DF-818C-4EF5-9192-51D59A1E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64A-7B5F-43F6-AD72-8747E6C6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FF4-B98F-4DE9-8A57-D05CA47E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C774-59A5-4D89-887E-D468270F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F27-952E-439F-864E-302CD89D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F074-94AF-46C1-B9DD-FB012B22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E61-4A39-4764-A889-300C2FDB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1A1-475B-4352-95BA-1DAF50BA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7E72-80C1-41A7-B765-433EF719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7CD2-4E6B-4B2A-B83F-4C17A437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EA1A-CB32-4CE4-8CF7-59483D85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4AD0-A08A-4267-9F59-55DADC1A8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341360"/>
            <a:ext cx="75614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100" spc="-1" strike="noStrike">
                <a:solidFill>
                  <a:srgbClr val="ff3300"/>
                </a:solidFill>
                <a:latin typeface="Arial"/>
              </a:rPr>
              <a:t>cuisses de grenouille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 </cp:lastModifiedBy>
  <dcterms:modified xsi:type="dcterms:W3CDTF">2009-03-23T19:06:38Z</dcterms:modified>
  <cp:revision>7</cp:revision>
  <dc:subject/>
  <dc:title>Bild 1</dc:title>
</cp:coreProperties>
</file>