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AD82-8476-4D65-BEA3-C7C41165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DC7-0899-43CE-A429-B547EBA3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C98-6B26-49B1-8A44-A90BAFC2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F0E-A2D2-4B24-9CCC-B574310C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2F30-EAB8-42AC-AC66-52E9C6B3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F6B6-4C6B-46F5-A4CA-FF4145D0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B8BD-70E2-4617-914D-25BD9462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70A9-A72B-43C5-8F4D-1CCB00AC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431-342D-4337-806D-E77E8F86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C9C4-FA0C-4652-9AEC-D6770FF1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7E8-D068-4B5C-952A-2891D73F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FFB9-202F-49E5-84BA-D134E08B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10BD-F1C7-49D7-A70B-29780DFC2565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907920"/>
            <a:ext cx="86407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100" spc="-1" strike="noStrike">
                <a:solidFill>
                  <a:srgbClr val="ffff00"/>
                </a:solidFill>
                <a:latin typeface="Times New Roman"/>
              </a:rPr>
              <a:t>Salade St-Jacques - Foie gras</a:t>
            </a:r>
            <a:endParaRPr b="0" lang="en-US" sz="1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03-23T19:03:18Z</dcterms:modified>
  <cp:revision>9</cp:revision>
  <dc:subject/>
  <dc:title>PowerPoint Presentation</dc:title>
</cp:coreProperties>
</file>