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DD8B-C1FF-4C4E-95D3-F47855013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59EC-271C-40B2-93EA-0248B77A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1AAB-ED99-4165-83A7-C5A6F1F8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5611-643C-4406-9861-0EA6A77DC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884D-9813-4C30-896C-B3D84B34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0BB2-F0D4-465D-B1D9-3C499C65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12A9-75C3-45CC-BDEA-D4FE87D3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81BB-271C-4B41-909E-473CBFF5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AB47-A5A6-4010-AD43-2CD5816A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73E5-B983-481E-957C-CE77C31A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FE97-F4AD-4089-9457-E3215CD6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A81E-B966-46ED-86F1-5F156FD8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AFEE-5B3C-4D46-9200-820B60DD4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849600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200" spc="-1" strike="noStrike">
                <a:solidFill>
                  <a:srgbClr val="ffffff"/>
                </a:solidFill>
                <a:latin typeface="Arial"/>
              </a:rPr>
              <a:t>Une choucroute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 </cp:lastModifiedBy>
  <dcterms:modified xsi:type="dcterms:W3CDTF">2009-03-23T20:00:15Z</dcterms:modified>
  <cp:revision>9</cp:revision>
  <dc:subject/>
  <dc:title>Bild 1</dc:title>
</cp:coreProperties>
</file>