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85F2-DDD2-4EE8-9761-FDE46FE5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41CB-BE19-4C18-9F06-67AE4117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248E-2F6A-424A-9436-F33D963D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8FEF-3579-4BFF-B4C0-F15B8EF2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75A-3E51-49F5-ADAD-9F5CF5F9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1744-D128-4929-8516-20122AAA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CE29-592A-4046-B277-501A4F15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C1AF-F791-4615-98E2-21A140BD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319E-F0A0-43F5-A01C-BBE55353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9A00-21FC-4DA5-B4AD-C96AD622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240D-B167-4C09-8BBE-79EE2644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D7A3-2433-4196-B3E3-7266C0E0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B228-2D06-430F-8BC5-7B4FB6CEB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557360"/>
            <a:ext cx="871380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200" spc="-1" strike="noStrike">
                <a:solidFill>
                  <a:srgbClr val="ffff00"/>
                </a:solidFill>
                <a:latin typeface="Arial"/>
              </a:rPr>
              <a:t>Fromage blanc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6:56Z</dcterms:created>
  <dc:creator> </dc:creator>
  <dc:description/>
  <dc:language>en-US</dc:language>
  <cp:lastModifiedBy> </cp:lastModifiedBy>
  <dcterms:modified xsi:type="dcterms:W3CDTF">2009-03-23T20:12:47Z</dcterms:modified>
  <cp:revision>7</cp:revision>
  <dc:subject/>
  <dc:title>Bild 1</dc:title>
</cp:coreProperties>
</file>