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0D6-7680-488A-A343-7199F875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377B-DD29-4E56-9128-8FC8388A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4C81-BFE2-4586-B934-AD7B4453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0FC3-411F-4CBB-8191-1D5B98C9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F780-E94D-424E-9E6C-7A43C32E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E8BF-D423-431B-9117-96FBB9FE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C3F9-85FF-4E6B-8F76-0EE47A9B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45A9-5A62-4AE0-91F9-8AC55447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0A5E-E202-42D9-832F-CC48F4C2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B0BC-67D3-4850-A28D-212B2B82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BD70-BE74-4D5B-A8B0-FA3F47BE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BBF9-97E0-4C82-84CE-376B6AEA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1240-5547-4186-89AD-9048753A4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3040" y="1125360"/>
            <a:ext cx="817092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100" spc="-1" strike="noStrike">
                <a:solidFill>
                  <a:srgbClr val="ffffff"/>
                </a:solidFill>
                <a:latin typeface="Arial"/>
              </a:rPr>
              <a:t>Une bavette 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100" spc="-1" strike="noStrike">
                <a:solidFill>
                  <a:srgbClr val="ffffff"/>
                </a:solidFill>
                <a:latin typeface="Arial"/>
              </a:rPr>
              <a:t>à l’échalote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 </cp:lastModifiedBy>
  <dcterms:modified xsi:type="dcterms:W3CDTF">2009-03-23T19:57:15Z</dcterms:modified>
  <cp:revision>8</cp:revision>
  <dc:subject/>
  <dc:title>Bild 1</dc:title>
</cp:coreProperties>
</file>