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7B7-9162-4D7D-823D-3BABFAED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3D8-1E11-4C80-B29A-31ED8545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372-1F63-40CD-AEF8-1CE0CBD2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8B8-14DF-4A0D-AC9F-A13E2197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10E-B324-4B85-8956-28A933B5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079-F6B2-48F7-BE8B-40D47492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A8C-5792-429F-9869-5563980B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5B9-D7BE-413F-9A0A-64461C05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6AF-A630-4128-8578-9F9B60A4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C4D-18FE-43A6-AE4C-94E8DAA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9DD-10D2-49AD-84EF-CB5201DF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7C3-B8A8-4510-9D5E-0119983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C13D-4D56-42D7-BBC2-4AD2F4D15CDA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20640"/>
            <a:ext cx="84978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000000"/>
                </a:solidFill>
                <a:latin typeface="Arial"/>
              </a:rPr>
              <a:t>du poisson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0:26:34Z</dcterms:created>
  <dc:creator> </dc:creator>
  <dc:description/>
  <dc:language>en-US</dc:language>
  <cp:lastModifiedBy> </cp:lastModifiedBy>
  <dcterms:modified xsi:type="dcterms:W3CDTF">2009-03-23T20:29:34Z</dcterms:modified>
  <cp:revision>5</cp:revision>
  <dc:subject/>
  <dc:title>Bild 1</dc:title>
</cp:coreProperties>
</file>