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4B0-B30B-4DFF-A901-1D0A9BDF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12-9944-4E9E-B945-A1C67618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259-5ED8-4758-84BC-2E826666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EC0-55F6-4053-B592-2D0AAF3B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F21-2858-41D4-9C6B-5D25E34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382-9B00-49F6-A4AD-2F7B4E35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4D3-E8A9-4B46-B947-2B78E408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4E2-3BE9-45D6-BB14-8F1A46A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A44-1E9E-491A-96BF-359F13E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DEF-E276-4447-AEDE-EF056FD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8B8-40B5-4212-A90B-E0301507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0C7-6168-47FE-B00C-FF5F3337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679-3F89-4C77-B536-5093C3BB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125360"/>
            <a:ext cx="82803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500" spc="-1" strike="noStrike">
                <a:solidFill>
                  <a:srgbClr val="ffffff"/>
                </a:solidFill>
                <a:latin typeface="Arial"/>
              </a:rPr>
              <a:t>Brochettes Agneau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20:06:10Z</dcterms:modified>
  <cp:revision>9</cp:revision>
  <dc:subject/>
  <dc:title>Bild 1</dc:title>
</cp:coreProperties>
</file>