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848-0630-4114-ACF5-4A93C373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583-DA99-45FA-98D6-F677A01C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E0D-C6DD-43EF-A6B2-0A375480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F14-BA99-44F4-896E-E389138E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619-6F2E-407A-8255-6BA6615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AF5-E469-4744-949C-7F656BB1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404-38E9-42A5-B3CB-F439BECC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C3C-5D2F-491E-9416-6A250712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3E7-605E-49AB-BFA9-587C0FE2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25A-103D-462A-BBA0-12B75282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73F-C626-497D-BA57-7DAF71E6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168-0250-4B1D-B961-D157519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FD95-3137-441A-867A-211BC1694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052640"/>
            <a:ext cx="8280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Île flottant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 </cp:lastModifiedBy>
  <dcterms:modified xsi:type="dcterms:W3CDTF">2009-03-23T20:15:33Z</dcterms:modified>
  <cp:revision>8</cp:revision>
  <dc:subject/>
  <dc:title>Bild 1</dc:title>
</cp:coreProperties>
</file>