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2BD2-DB17-41D2-9305-0BCFAFE7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8EB5-5995-4180-9E5E-8F0A403E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1261-7F47-4A7E-81EC-24729CBC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7638-14DD-4BE5-BB47-38849264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4984-E086-42BA-8FAA-B8F21895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FF18-B84E-4ACD-805A-31B35272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DC35-C923-4674-A599-414822DC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BA57-C218-4AFE-8060-318B91C1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338F-6A6B-48F3-B3C9-19026271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A5B-0FDB-4A94-9E98-FD3D5A6C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996-C522-4247-89C1-4099A65F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E0B-1AC3-4CDA-ADC9-E59CF061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62F5-8B89-4253-8882-B19C29F70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620640"/>
            <a:ext cx="849780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000000"/>
                </a:solidFill>
                <a:latin typeface="Arial"/>
              </a:rPr>
              <a:t>une galette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20:26:34Z</dcterms:created>
  <dc:creator> </dc:creator>
  <dc:description/>
  <dc:language>en-US</dc:language>
  <cp:lastModifiedBy> </cp:lastModifiedBy>
  <dcterms:modified xsi:type="dcterms:W3CDTF">2009-03-23T20:27:56Z</dcterms:modified>
  <cp:revision>3</cp:revision>
  <dc:subject/>
  <dc:title>Bild 1</dc:title>
</cp:coreProperties>
</file>