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C64-A3AF-4889-AAEF-CDDB758B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F41-10F2-438C-B82E-5020268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8CD-14E2-43E1-84DC-89FE20AA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153-C0C4-4E71-A293-7B14006F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401-09D2-42D1-8A92-B2147713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078-3D8F-40AD-B59E-645ADCA6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85B-C791-4BDB-86BC-D98B7047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D3A-62ED-4831-86FE-C419199A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661-C82D-4CE4-ADEC-61B03060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9CC-F39D-4698-B767-4EA6D00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6D9-F3C5-4DD8-94D5-4F5ACFE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755-CD0F-40A3-AD9F-8BF9633A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2EFD-DA0E-4557-9E4D-A633D092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97000"/>
            <a:ext cx="85690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une carafe d’eau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 </cp:lastModifiedBy>
  <dcterms:modified xsi:type="dcterms:W3CDTF">2009-03-23T20:17:32Z</dcterms:modified>
  <cp:revision>8</cp:revision>
  <dc:subject/>
  <dc:title>Bild 1</dc:title>
</cp:coreProperties>
</file>