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36B-EE56-4B6F-8E18-CE6ECF36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3EE-A317-4906-B72A-30A067D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453-E7CE-4203-B378-3FC04196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043-A5AA-4939-B3DA-213595F9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EE-ACC1-4119-9256-8618C77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3A9-14B2-484D-9ACB-A19D6C72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252-8BE5-4EF0-B92D-E918D6C9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08-F0B3-4A36-874D-64662FE9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908-E386-4C63-9C31-B725F9E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691-43E5-4E80-B3EE-C178D617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398-FE37-4F06-A93C-21AF5E8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A16-ECBB-478E-BCE7-9F3CFB4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4772-20DA-49EC-B849-A7214FE7F91E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549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0" spc="-1" strike="noStrike">
                <a:solidFill>
                  <a:srgbClr val="ffff00"/>
                </a:solidFill>
                <a:latin typeface="Times New Roman"/>
              </a:rPr>
              <a:t>Camem-bert Pan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23T19:04:28Z</dcterms:modified>
  <cp:revision>9</cp:revision>
  <dc:subject/>
  <dc:title>PowerPoint Presentation</dc:title>
</cp:coreProperties>
</file>