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16DE-2047-4122-A7BB-AA5FF447B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0080-FEC8-4DA3-AF1F-6146AE82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30FD-40C9-4DEE-A978-2990E6049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E6E8-78D6-489E-B051-30B847926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E1A0-6043-4C19-9415-E69FCAC3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5AA0-6651-46D6-BEA1-AF9F07D6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151B-ABE7-4AFE-B30C-ABC54ECF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E756-DA0F-47D7-AEC4-9FB6A54B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018A-BC3C-4B35-B84A-0E1323BA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4BE1-53A9-4BF5-92D7-ED1004AF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68D1-76B9-48A7-9473-3F4051E1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88A1-DE18-40A1-A139-CB3C18E9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41C3-0E84-43C2-ADCA-A30A629A5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052640"/>
            <a:ext cx="85327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3300" spc="-1" strike="noStrike">
                <a:solidFill>
                  <a:srgbClr val="ffff00"/>
                </a:solidFill>
                <a:latin typeface="Arial"/>
              </a:rPr>
              <a:t>La truffade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46:56Z</dcterms:created>
  <dc:creator> </dc:creator>
  <dc:description/>
  <dc:language>en-US</dc:language>
  <cp:lastModifiedBy> </cp:lastModifiedBy>
  <dcterms:modified xsi:type="dcterms:W3CDTF">2009-03-23T20:10:17Z</dcterms:modified>
  <cp:revision>7</cp:revision>
  <dc:subject/>
  <dc:title>Bild 1</dc:title>
</cp:coreProperties>
</file>