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1989-D2C3-4D0C-884B-86237E4E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C3DE-CF03-4210-AD0C-1F4E04F2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2B0E-74E7-4E48-810D-905F99504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78A2-7803-403A-AC36-F854C1735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53AE-CF7C-41BC-B09A-C5B7F685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D5A5-31DE-49F1-9533-4E86C97C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0C5D-EC05-4175-8EBD-65E035B0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F171-A35E-4D92-B27F-7EA19279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2863-0A92-496D-8B98-FDA4936D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3A68-2D62-4923-AF50-0AA40D11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9F19-8128-4F72-BD56-0CC5D11D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4193-A2EC-4093-B64E-C632FD6E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72F8-91D1-4F3A-AF43-5AF6E3617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1989000"/>
            <a:ext cx="835344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500" spc="-1" strike="noStrike">
                <a:solidFill>
                  <a:srgbClr val="ffffff"/>
                </a:solidFill>
                <a:latin typeface="Arial"/>
              </a:rPr>
              <a:t>Charlotte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9:58Z</dcterms:created>
  <dc:creator> </dc:creator>
  <dc:description/>
  <dc:language>en-US</dc:language>
  <cp:lastModifiedBy> </cp:lastModifiedBy>
  <dcterms:modified xsi:type="dcterms:W3CDTF">2009-03-23T20:16:20Z</dcterms:modified>
  <cp:revision>8</cp:revision>
  <dc:subject/>
  <dc:title>Bild 1</dc:title>
</cp:coreProperties>
</file>