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722D-82A4-461D-B3BB-477A0F60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FACB-8902-41FB-8956-651F6276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2B60-3F8F-4A91-B994-6FD9A25D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B7C5-FD41-47B4-958D-DA8A4DE1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E574-5C43-4EB4-BBF1-E3BCF6F9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3A62-D9A0-4893-AE34-4372FD04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CE56-30FB-47DE-A742-7A326BAF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F54C-CD82-463A-ACB3-267E75B9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D12C-30A5-46D1-81F2-F7C0ADF9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D593-5769-45D3-8BC9-5BA23F7C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28EE-BDE0-40C8-BD82-9129508C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8AED-92AD-4B73-AD26-1A48AAFB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7344-5ADD-40EE-80CB-C54C6A1A0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700280"/>
            <a:ext cx="842472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100" spc="-1" strike="noStrike">
                <a:solidFill>
                  <a:srgbClr val="ffffff"/>
                </a:solidFill>
                <a:latin typeface="Arial"/>
              </a:rPr>
              <a:t>Le boeuf bourguignon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 </cp:lastModifiedBy>
  <dcterms:modified xsi:type="dcterms:W3CDTF">2009-03-23T19:10:27Z</dcterms:modified>
  <cp:revision>7</cp:revision>
  <dc:subject/>
  <dc:title>Bild 1</dc:title>
</cp:coreProperties>
</file>