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0CD-5C14-4623-A54E-B1D02E39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392-3011-42BC-A522-68855BA3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477-9DC5-4CDA-882F-BB101071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57E-9DB7-4715-A966-D0B8A1C7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D6B-2CED-4C4D-B658-9092590D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5EC-99AF-4C15-9634-C8B71C64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624-424E-4ABD-BD31-AE8B738A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D77-4B1D-44B9-93F7-475B00F1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AEE-340A-46BA-A6CA-F7ED4091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746-9200-4D7A-A32C-5A984223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58A-5FC6-4854-B18D-E481D4FF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BCA-2CB7-4418-94D4-2ED28AAB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EBB-5302-45BA-A394-6ECF9CFE4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981000"/>
            <a:ext cx="8209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300" spc="-1" strike="noStrike">
                <a:solidFill>
                  <a:srgbClr val="ff3300"/>
                </a:solidFill>
                <a:latin typeface="Arial"/>
              </a:rPr>
              <a:t>Le cassoulet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3-23T19:09:38Z</dcterms:modified>
  <cp:revision>7</cp:revision>
  <dc:subject/>
  <dc:title>Bild 1</dc:title>
</cp:coreProperties>
</file>