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AFE-3F0C-420C-B4D2-94D5BC3C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9AA-D91B-4D95-9EAB-005321A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939-4F86-4C5E-9754-16BAF0E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47F-F1F9-458B-8C0B-BF52501D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C2F-F3C8-40CD-B753-2E721A06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91A-384F-4CE6-9917-7BB660B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750-DDF1-4E1E-B6EC-232E871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8F6-EA6F-4450-8DFB-3BE49901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952-A8A6-40CF-AB2A-8BE8E4F9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AEB-C371-4954-B5B5-094847C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5C1-AD00-4CD6-9414-BBE5DC6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BAD-6F37-43D7-B8A2-B1C69FC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2FCE-0C08-45B1-87AE-1EC15B89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79930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ff3300"/>
                </a:solidFill>
                <a:latin typeface="Arial"/>
              </a:rPr>
              <a:t>des escargots à la crèm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3-23T19:07:24Z</dcterms:modified>
  <cp:revision>8</cp:revision>
  <dc:subject/>
  <dc:title>Bild 1</dc:title>
</cp:coreProperties>
</file>