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77A-1D2C-48F0-85D7-4BAC9D23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125-E6DC-4945-8DA0-69A062BE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20E-D7EA-4697-A5E3-6C044C20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811-1892-406E-ABAA-9561A0F2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9A1-8C21-497E-B6B1-1F5D7798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A06-CB05-458E-9B7E-ADB8C1C2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237-B982-4428-8047-D551E52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79B-A722-4E49-8375-150DAF8F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109-2C48-4865-8EAD-E6FBA75C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804-D5F6-461E-AF1E-77713386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7CC-1A68-4346-9E99-1A823982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2C5-DF66-4B53-8CF0-3F52A812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8387-097A-4D5C-BD99-160C9B4B7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77058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000000"/>
                </a:solidFill>
                <a:latin typeface="Arial"/>
              </a:rPr>
              <a:t>Tarte 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000000"/>
                </a:solidFill>
                <a:latin typeface="Arial"/>
              </a:rPr>
              <a:t>Tatin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9-03-23T20:23:29Z</dcterms:modified>
  <cp:revision>16</cp:revision>
  <dc:subject/>
  <dc:title>Bild 1</dc:title>
</cp:coreProperties>
</file>