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5F2-BDC3-433B-BF7D-C14504DA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7F3-5A2D-4EA7-8184-EB127C5B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664-3FC9-4BB0-A8D1-E2E24254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5D5-7BE2-4B00-A24D-4F1B281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815-61B0-4523-8F85-6C1C3E3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9E3-64E5-4F81-AE9F-3851667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DE5-B41C-41A1-8EBD-AEFF1435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7FC-E49D-4BF8-AB64-7DF92D88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526-1312-4C99-A790-DD0CC31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395-17D5-49D7-A4A5-3DB5941D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E26-B7AF-4E78-B0A1-AF3EEF3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5FD-DE75-48AC-BC11-9631E08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0734-0DC7-43CF-833B-D5134293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5327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500" spc="-1" strike="noStrike">
                <a:solidFill>
                  <a:srgbClr val="ffff00"/>
                </a:solidFill>
                <a:latin typeface="Arial"/>
              </a:rPr>
              <a:t>soupe à l’oign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 </cp:lastModifiedBy>
  <dcterms:modified xsi:type="dcterms:W3CDTF">2009-03-23T20:08:13Z</dcterms:modified>
  <cp:revision>7</cp:revision>
  <dc:subject/>
  <dc:title>Bild 1</dc:title>
</cp:coreProperties>
</file>