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AEB5-2C9D-41E5-88FA-A260698AD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5989-BAA0-4797-956F-8982B1A1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0D07-9257-43A7-BFDF-5AA5A62A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3BFE-813B-4BB9-93F7-CB8618964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BB12-7645-4803-867A-3F41D547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D8AE-DD82-4230-A403-A85CE503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3B55-69A4-4F53-B883-246BC0EC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21C1-7C6E-4D62-809A-3428CABF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21E1-6779-425D-AD5A-DC35897A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0FDD-F373-4E65-86E2-4E0900D1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7054-8241-4A6D-8757-B9F47969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AD6D-4F8C-4D71-AC1D-16B279BE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0E64-44DB-4BA8-BB93-388D7BFF6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557360"/>
            <a:ext cx="842472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500" spc="-1" strike="noStrike">
                <a:solidFill>
                  <a:srgbClr val="ffff00"/>
                </a:solidFill>
                <a:latin typeface="Arial"/>
              </a:rPr>
              <a:t>Moelleux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9:58Z</dcterms:created>
  <dc:creator> </dc:creator>
  <dc:description/>
  <dc:language>en-US</dc:language>
  <cp:lastModifiedBy> </cp:lastModifiedBy>
  <dcterms:modified xsi:type="dcterms:W3CDTF">2009-03-23T20:14:47Z</dcterms:modified>
  <cp:revision>8</cp:revision>
  <dc:subject/>
  <dc:title>Bild 1</dc:title>
</cp:coreProperties>
</file>