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37446-D159-4404-A269-975DA4985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7657A-629D-40C2-B58E-A18428983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6A55E-B679-4074-9166-3A0E9558E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ED748-ABC5-4EE2-9148-19D9C2D9C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D5B44-2AEE-4D0B-A3E5-047F90A49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3B1CC-A3B7-41E9-8965-5B6897620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5B0FF-2A92-418B-A2E2-F3BA584F0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79D85-123C-45F5-8AE2-FD6BD619E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03293-C182-44F1-9EC9-EA4760E2E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D9723-1ABD-4F5A-A3F0-47DE8C06F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8FC8F-9A9D-4FC3-9747-8CBF50C89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0DBD9-DCB4-41E4-B679-A081398BC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A59A4-ED51-4791-894A-E313172929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68360" y="907920"/>
            <a:ext cx="8209080" cy="516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100" spc="-1" strike="noStrike">
                <a:solidFill>
                  <a:srgbClr val="ffffff"/>
                </a:solidFill>
                <a:latin typeface="Arial"/>
              </a:rPr>
              <a:t>L’escalope </a:t>
            </a:r>
            <a:endParaRPr b="0" lang="en-US" sz="1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100" spc="-1" strike="noStrike">
                <a:solidFill>
                  <a:srgbClr val="ffffff"/>
                </a:solidFill>
                <a:latin typeface="Arial"/>
              </a:rPr>
              <a:t>de veau </a:t>
            </a:r>
            <a:endParaRPr b="0" lang="en-US" sz="1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100" spc="-1" strike="noStrike">
                <a:solidFill>
                  <a:srgbClr val="ffffff"/>
                </a:solidFill>
                <a:latin typeface="Arial"/>
              </a:rPr>
              <a:t>à la crème</a:t>
            </a:r>
            <a:endParaRPr b="0" lang="en-US" sz="1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1T15:52:18Z</dcterms:created>
  <dc:creator> </dc:creator>
  <dc:description/>
  <dc:language>en-US</dc:language>
  <cp:lastModifiedBy> </cp:lastModifiedBy>
  <dcterms:modified xsi:type="dcterms:W3CDTF">2009-03-23T19:56:17Z</dcterms:modified>
  <cp:revision>8</cp:revision>
  <dc:subject/>
  <dc:title>Bild 1</dc:title>
</cp:coreProperties>
</file>