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7BB-7A64-4D7D-AC3E-FC7E6482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B0C4-B346-4E1A-ADF0-5F83B98C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F0A-C90E-40BE-98F9-FB80DC33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A15F-FE2A-4460-8D07-888C67C1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15EC-61B5-43CA-AC4E-A32F1EEE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617C-5FEE-48A8-9912-19837373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B95-AA8E-4720-876D-D40C591F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570C-0727-4429-A4E4-63B5B745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D75B-6FCB-4DF2-B18E-5CF75F2D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AFF-F11F-4ADE-AA58-21CFB4F5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830-DD4F-4978-B348-B893089E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943-E9E0-4A62-965E-24E2C165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8159-4EFC-42FE-81A6-266CD68DF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3600" y="1052280"/>
            <a:ext cx="82504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Le hachis 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parmentier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 </cp:lastModifiedBy>
  <dcterms:modified xsi:type="dcterms:W3CDTF">2009-03-23T19:58:32Z</dcterms:modified>
  <cp:revision>8</cp:revision>
  <dc:subject/>
  <dc:title>Bild 1</dc:title>
</cp:coreProperties>
</file>