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B11-ECD4-49A8-97C8-3A24D5C3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D3B-B9B7-41E5-8212-D32E2977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6F8-2F08-466E-B7A0-04EC0145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76D-4068-41E1-B302-00B49EEC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D49-6AC1-417B-ACCC-BCD6F410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34F-44BC-4C3B-9483-1E3B1233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265-0911-4CB9-9C40-0E819AE8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F87-BCB5-412B-91E0-23C655B9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AAF-84CB-4003-98EA-9E8AB7A6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154-F30D-48DC-8AF7-BE0C339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0F7-07B3-43D9-A2BC-277DA45E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C17-1D11-497C-8C15-CB38A98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1768-5893-4277-B1C9-3D05C4006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19920"/>
            <a:ext cx="7848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000000"/>
                </a:solidFill>
                <a:latin typeface="Arial"/>
              </a:rPr>
              <a:t>une 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000000"/>
                </a:solidFill>
                <a:latin typeface="Arial"/>
              </a:rPr>
              <a:t>orangina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9-03-23T20:22:10Z</dcterms:modified>
  <cp:revision>14</cp:revision>
  <dc:subject/>
  <dc:title>Bild 1</dc:title>
</cp:coreProperties>
</file>