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6FD-300A-46F1-9DFC-04361DD8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4CF-E532-4AF3-84B9-0554F050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D5C-E501-4F21-B183-7C3F390E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E35-6005-4610-BC03-748EC942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495-6178-4193-BA88-39CDE301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512-07FA-47AD-93FB-3BC96357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131-4860-4B4B-ACB7-035EA0DB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345-A551-437A-B859-4F006FDB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151-E239-4834-B5AF-163C005C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CE2-ACB4-43DC-8CFD-EBCA3C98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905-1E20-4699-94CD-17B0268D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7C7-EBB0-4F62-B7E4-D9957782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3F10-775D-495B-A2D9-5F570EBC5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20640"/>
            <a:ext cx="84978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000000"/>
                </a:solidFill>
                <a:latin typeface="Arial"/>
              </a:rPr>
              <a:t>choco-poire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0:26:34Z</dcterms:created>
  <dc:creator> </dc:creator>
  <dc:description/>
  <dc:language>en-US</dc:language>
  <cp:lastModifiedBy> </cp:lastModifiedBy>
  <dcterms:modified xsi:type="dcterms:W3CDTF">2009-03-23T20:28:11Z</dcterms:modified>
  <cp:revision>4</cp:revision>
  <dc:subject/>
  <dc:title>Bild 1</dc:title>
</cp:coreProperties>
</file>