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B5C-28D6-4308-A89E-E19FD154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E48-833A-46A0-9404-7ADCA36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D19-1461-4394-BFEE-A25BA857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C0A-832B-43A3-98A3-209417AA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F54-6486-4192-915E-3FD91CE4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A3C-820A-4312-9F47-8F55B51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153-0FE6-4E99-B5EB-8EBBB8A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8B-B5FD-43C8-8CFD-46BC879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E95-E5CB-44D3-A178-5B0A4E7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FFB-B397-4EA5-A2FD-B3288286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D0B-9275-4065-98C8-4C80FDC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82C-EF20-426E-A0C9-99FE7D16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812B-1992-44BB-83FC-6AC79802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268280"/>
            <a:ext cx="8532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ffff00"/>
                </a:solidFill>
                <a:latin typeface="Arial"/>
              </a:rPr>
              <a:t>Fondue savoyard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 </cp:lastModifiedBy>
  <dcterms:modified xsi:type="dcterms:W3CDTF">2009-03-23T20:07:01Z</dcterms:modified>
  <cp:revision>6</cp:revision>
  <dc:subject/>
  <dc:title>Bild 1</dc:title>
</cp:coreProperties>
</file>