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054-E74D-442C-BA2A-66733F40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6E2-5893-47F2-8CB8-8B559261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341-5D3B-46A8-9F33-12B3B625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E13-FA81-473C-9078-CBC0B980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A24-4E03-43BF-8853-2BB2899F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31E-4D26-43FC-8C3D-F5384B85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C0F-4C06-4532-A8A4-A00854E7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1C7-C9D4-4401-98D7-6CE99508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ED6-AF5A-4A4C-9EF2-26B87742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A2F-0D41-4249-BF99-8CE0F52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F30-84F7-42E4-BD39-70BE2FD7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28C-4487-4D1A-AD7E-530B07A9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EDD9-0EF0-4398-BCBF-D6ABAD38AD4D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8136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00"/>
                </a:solidFill>
                <a:latin typeface="Times New Roman"/>
              </a:rPr>
              <a:t>pieds de porc</a:t>
            </a: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3-23T19:00:55Z</dcterms:modified>
  <cp:revision>9</cp:revision>
  <dc:subject/>
  <dc:title>PowerPoint Presentation</dc:title>
</cp:coreProperties>
</file>