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in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3AB-D734-4706-885D-8E7D3C5E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E6F-90EA-4938-B134-EAE99F8E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239-66EF-4E71-84DF-550806A8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6F5-2DC6-4306-8BB0-2F056D8B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E68-0B94-4389-827E-2D5E50B0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EF9-F45C-4EB4-A3F0-8D0743E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6B9-E40B-48CC-B021-AAF6247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B1A-4C15-4810-B3D1-8C0B3535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A36-8A25-437E-8539-0E6503F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C1E-DB54-4025-BBEB-2E47C9C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9B0-61C7-4B4D-81C0-46081DF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686-AA20-47F4-B274-6F7F719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0E97-4742-4A32-8CCE-4511F80D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205000"/>
            <a:ext cx="8136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000000"/>
                </a:solidFill>
                <a:latin typeface="Arial"/>
              </a:rPr>
              <a:t>Merguez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 </cp:lastModifiedBy>
  <dcterms:modified xsi:type="dcterms:W3CDTF">2009-03-23T20:18:17Z</dcterms:modified>
  <cp:revision>6</cp:revision>
  <dc:subject/>
  <dc:title>Bild 1</dc:title>
</cp:coreProperties>
</file>