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AE5-8B02-464A-83B8-51B704E7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EBA-1B85-4BC0-8452-53A686C8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2DA-9374-437C-A064-168E52B7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858-28CC-4A4C-AAB5-FCD4217C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92B-894A-4AE1-BF87-40186EA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631-9344-4795-980B-9926339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6A9-7507-42A5-B5FC-E6B4655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E53-6F02-4BFE-B40D-C6AF38B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BEF-E827-4691-AAF6-FB04BD4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309-3EEA-4990-8F31-4F2076C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111-44E7-4921-A196-8E18A09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876-2C34-4BD1-BCE7-9B75983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6772-3DB6-4867-AE0D-8633B7B27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484280"/>
            <a:ext cx="86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333399"/>
                </a:solidFill>
                <a:latin typeface="Arial"/>
              </a:rPr>
              <a:t>Har ni vykort?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2:47:33Z</dcterms:modified>
  <cp:revision>13</cp:revision>
  <dc:subject/>
  <dc:title>Bild 1</dc:title>
</cp:coreProperties>
</file>