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5432-3D2A-4769-82EC-C61BF0E2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9636-3979-4F1F-A05E-B3B412F3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CCAF-5408-4C87-ACC8-653ADA8C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59DF-F1C0-4E76-B1AD-4040C6209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249D-7839-4542-B103-F7282A6F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104F-310E-4297-80F0-80418C01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A26F-9620-4A30-A016-A7DA1E66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A674-74A5-4A26-B0FE-17B3A3FD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AA02-92E2-4B20-A650-AF1694F5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B0B4-954E-445F-982F-CE966E14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2F89-E7F5-491F-B1A7-5952F3C4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7DC2-E191-4351-96A3-8B49FB51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D9E8-C9E2-47F4-9C41-FA9013927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907920"/>
            <a:ext cx="85359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0" spc="-1" strike="noStrike">
                <a:solidFill>
                  <a:srgbClr val="ffffff"/>
                </a:solidFill>
                <a:latin typeface="Arial"/>
              </a:rPr>
              <a:t>De 5 viktigaste meningarna på fransk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32:00Z</dcterms:modified>
  <cp:revision>76</cp:revision>
  <dc:subject/>
  <dc:title>Bild 1</dc:title>
</cp:coreProperties>
</file>