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19E-3B82-4F3A-88F5-EBD8289C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050-5FE9-4F6C-95C8-9037BD2D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251-DD81-47C9-BDB4-E7BF8CC2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8BE-927C-43A1-8AAB-4C2D3E87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9A1-D4C5-4B29-80AA-F9712B50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FD61-6FC7-43E3-894B-BC282311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AF6-22D2-4B05-9CD5-9D328A77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D282-6A92-402C-BAEE-9FD685FE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19F-75ED-457A-B23E-103183B8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0C2-8D08-41E1-8C51-D94C2654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99A-008A-4F60-9798-DAF35071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27F-60A0-43EC-9E6E-E505522F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2067-C362-4423-BE07-5C7400451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42472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333399"/>
                </a:solidFill>
                <a:latin typeface="Arial"/>
              </a:rPr>
              <a:t>Böj verbet aller i presens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8:53Z</dcterms:modified>
  <cp:revision>6</cp:revision>
  <dc:subject/>
  <dc:title>Bild 1</dc:title>
</cp:coreProperties>
</file>