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3350-5B28-4761-AC06-03D46C41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3B77-62B3-4A3C-A4F0-2F3265A7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F3C1-E662-4634-9F2D-3EA6185A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5E9-E0CC-4E2D-944F-EAD1068E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EC1-D089-4E7D-A43D-753FD5D3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AC4-74D2-449F-996E-372B9FCE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E56-22F6-4A5C-A89B-A9C92310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653-08F6-4661-8BDB-489A56CF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563D-6E99-43D8-964E-E08D0214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5DA-9FFE-467F-A755-B5CF5085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6414-2FBA-4E8C-B9CB-A3309B20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30C4-5224-426F-A498-5E516BC9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2C1E-E6EC-4CC1-B2DC-5BB2D1AE9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49360"/>
            <a:ext cx="85359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ffffff"/>
                </a:solidFill>
                <a:latin typeface="Arial"/>
              </a:rPr>
              <a:t>Verbet venir i presens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9:21Z</dcterms:modified>
  <cp:revision>68</cp:revision>
  <dc:subject/>
  <dc:title>Bild 1</dc:title>
</cp:coreProperties>
</file>