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70B5-F4D0-477B-ACD0-BE8FE434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F7AD-9E79-4898-9CB2-A8DE8D8C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5CBA-6005-440D-A7EE-BBDE79B3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5CF6-D9D0-4430-A229-7091DD30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A2C3-F6F0-446E-8CFC-0A11B85F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DCD6-1D48-4893-9595-50E73CB3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5B0B-3001-4BE1-9D06-66F71F46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6D91-D3AF-43E8-A26B-33ADBBB9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0795-93FC-4F3E-AEEE-9C27E48D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C3BB-A00D-44FD-B666-31A24E4C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40B3-CFB4-4573-817B-A6022F42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00C9-32D2-408B-A5AB-0A1FE288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C1FC-3B5C-4D53-9510-8F8BBB865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84320"/>
            <a:ext cx="839160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333399"/>
                </a:solidFill>
                <a:latin typeface="Arial"/>
              </a:rPr>
              <a:t>8 frågor om Frankrike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3:46Z</dcterms:modified>
  <cp:revision>40</cp:revision>
  <dc:subject/>
  <dc:title>Bild 1</dc:title>
</cp:coreProperties>
</file>