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28E-06DB-4A55-80EF-EAB89CAA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4E7-F8FF-4A21-BB01-FDF0428B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559-B68F-4049-930D-1AB19E8E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623-C1FA-49B4-B625-885D6001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94D-5F9F-483A-97D9-268FB674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64F-74EB-4F6D-8742-07AE5EDF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450-05AD-4CEC-92E6-C60CA203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CFE-4B33-40D0-838E-A499F24E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7D0-89D3-4875-BEC9-2241D928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0A2-9F36-4580-B77B-C0845C26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DFC-0397-4068-97BA-3E1D58EC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36B-2EB8-4365-8346-20F943B5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BD7-227C-4AB1-BB06-F41E14F0E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333399"/>
                </a:solidFill>
                <a:latin typeface="Arial"/>
              </a:rPr>
              <a:t>20 länd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7:44Z</dcterms:modified>
  <cp:revision>11</cp:revision>
  <dc:subject/>
  <dc:title>Bild 1</dc:title>
</cp:coreProperties>
</file>