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F09-2AEE-4C0E-82D3-C36E331D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EBC-A720-43AE-A1FD-6D34B688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6A9-9BCD-4B7D-94FE-6EAA42B7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860-90EF-42E0-BFEF-45A68EC3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7A5-742B-4F5F-9C27-8D18ED0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01B-CDF6-4427-AEC4-D081E2DB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9A6-7962-4174-A526-17EB16A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FF8-611F-4064-83D4-97ED50B8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AA2-0571-4855-9A3C-39DD33DE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A19-1AFE-4BCB-8A87-B6D8BD65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8EC-9837-4C09-AB15-6EAC871C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80D-E3AC-4B48-98CB-C560FB1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D5D3-B58E-459A-B394-2AF8D3A5F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De fyra årstidern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5:12Z</dcterms:modified>
  <cp:revision>53</cp:revision>
  <dc:subject/>
  <dc:title>Bild 1</dc:title>
</cp:coreProperties>
</file>