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46F-73C0-4302-9126-1C54CAAE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710A-9B87-4245-92FE-83264352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6D55-3479-4A1F-9332-522DA052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D6B4-9853-48BB-99EA-89022FFE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669-22C5-40ED-8D3E-B63812B7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A131-5425-4F00-9F07-3111E0F3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586-6E6B-4E7C-A198-182134EE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10D4-9032-4A19-A06D-DB45EF6E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3A7B-13B9-4292-B4E0-41A2AE50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A94B-7244-40B7-A2F1-D6F1C494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A9F-1407-43E7-9128-2E6F4510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66BD-9656-4B69-A4A6-FE8D11C2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ADC1-063C-426D-A3B0-0867A8EDC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75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0:23Z</dcterms:modified>
  <cp:revision>39</cp:revision>
  <dc:subject/>
  <dc:title>Bild 1</dc:title>
</cp:coreProperties>
</file>