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217C-134E-477C-BD97-402A54F6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E93A-9A87-4940-956F-52F9C4A6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CF79-5E0D-4B72-B205-2374480D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115-A72E-46CF-80F5-A9EED035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5409-E8E4-4E92-B8C6-7DA6B674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F5F5-0E1B-4402-923B-34DD3034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CADC-F36D-4EC1-A98C-41618478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09FB-3AD8-4B67-B3CB-369CA93E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EF8F-BB32-4770-B0DC-E39DB5C7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088-0417-4E93-BED2-8287D6CC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C5F1-C522-4AAA-B939-B91DD758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9E38-D01E-4920-9B3F-BC1E5011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9233-CFC5-4322-AF14-935FE7630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907920"/>
            <a:ext cx="853596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500" spc="-1" strike="noStrike">
                <a:solidFill>
                  <a:srgbClr val="ffffff"/>
                </a:solidFill>
                <a:latin typeface="Arial"/>
              </a:rPr>
              <a:t>10 skolord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2:51Z</dcterms:modified>
  <cp:revision>79</cp:revision>
  <dc:subject/>
  <dc:title>Bild 1</dc:title>
</cp:coreProperties>
</file>