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54C-7F3B-41F1-8CB4-3ABA21E8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38D-9BC1-4E02-B392-C4DD0AAF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87F-2A32-45BE-A787-E4EFDBFE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2A7-7375-4C7D-8BF1-7135ED07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2C5-CA62-49C2-8688-65A726C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C64-6293-4B85-9AFA-417C90D6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A93-9730-443E-827E-35BC7CD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10C-A235-4525-93BE-5E3BF532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6D1D-7E57-4E46-BE54-2128240D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23-6BD2-444E-9122-48E2876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CF3-BA67-4D27-A4A8-6654C72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C4B-1357-4BC2-8BE7-C0B3C2E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582-6340-4515-95C5-AE94C8BD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4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333399"/>
                </a:solidFill>
                <a:latin typeface="Arial"/>
              </a:rPr>
              <a:t>3 franska bilmärken</a:t>
            </a:r>
            <a:endParaRPr b="0" lang="en-US" sz="1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5:30Z</dcterms:modified>
  <cp:revision>21</cp:revision>
  <dc:subject/>
  <dc:title>Bild 1</dc:title>
</cp:coreProperties>
</file>