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D0D8-CF69-476E-9D4A-DBD2DC43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DE4E-26C0-45B7-96D7-1F78F38E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335A-BCD9-496D-9D91-63125270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D9B0-4754-4991-8BE4-C12E9981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A53E-25AC-44DA-AA3B-0F6F2D5D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B421-A359-430D-A608-896A6091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45C6-5E26-4FF9-9BB9-EC8784F2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D9A6-FB5B-4594-B4B8-8A09BCE1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2694-416C-47DF-80A5-776711BB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7644-6EFC-47CE-9343-A6AD0640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7C76-C7AE-453B-97B9-A5D2AE4B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4D3E-40B7-46B3-ACBF-B06009C4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9CBD-4996-4A41-8507-E082BBC8E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125360"/>
            <a:ext cx="864216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0" spc="-1" strike="noStrike">
                <a:solidFill>
                  <a:srgbClr val="333399"/>
                </a:solidFill>
                <a:latin typeface="Arial"/>
              </a:rPr>
              <a:t>5 franska förrätter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10:14Z</dcterms:modified>
  <cp:revision>19</cp:revision>
  <dc:subject/>
  <dc:title>Bild 1</dc:title>
</cp:coreProperties>
</file>