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00E-FCE1-441D-8436-E16B41A6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316-064F-4786-8DD9-8B6CAEAE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D48-591C-4130-8C81-B700B962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78C-342E-4FBB-B154-D63C9F21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067-293B-4931-940A-8EBF8CF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9CA-D31B-41F7-8DE1-90065611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6CD-D72D-4228-A84A-7125A74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6D3-E3F1-4460-ABFC-CC4D32CD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CAE-D643-45BE-8E68-58C32CE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93B-6E19-462B-A15A-0506FC97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155-319A-469E-8071-2639263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9DA-07F1-40D5-B305-DA455DC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FEBE-D4C3-4925-9F91-1D78017A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10 olika affär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9:23Z</dcterms:modified>
  <cp:revision>65</cp:revision>
  <dc:subject/>
  <dc:title>Bild 1</dc:title>
</cp:coreProperties>
</file>