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BF0-D63B-451C-8DBB-D579170D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847-C613-4D14-B654-056667D3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437-311D-4545-A9AB-2C902A96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DEF-9141-499F-8D7B-2382154A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21A-E6E5-4454-9BE1-94A474C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E58-63C5-4460-83AE-FB66B099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795-FD1E-4C31-828A-654D539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FFC-2B42-4A78-9BEF-31B375DE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FEE-265E-4038-8802-26438B05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68D-B2BA-442A-B5AE-BB2F76E7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ACC-13E0-4322-BE42-338166A3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E98-AE80-4B0E-A9D8-30BF56B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9A6A-8F6E-4D1D-AF28-DA034F082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76280"/>
            <a:ext cx="85359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ffffff"/>
                </a:solidFill>
                <a:latin typeface="Arial"/>
              </a:rPr>
              <a:t>Böj verbet faire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7:50Z</dcterms:modified>
  <cp:revision>50</cp:revision>
  <dc:subject/>
  <dc:title>Bild 1</dc:title>
</cp:coreProperties>
</file>