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A81-8FCA-4F16-A61C-CEE59481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134-E610-4619-8131-0F8978D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A7F-0C59-4E05-BFB7-A4B0CD33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39-F169-4159-9836-316E99DC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909-CE88-4E08-9E83-6AE8BC93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905-835A-424A-B6D8-437DFED4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460-F1D1-4E3B-B0DF-92CF1FE1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879-5DE9-438F-ADAA-701B3574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88A-E651-402C-AB5A-7A507DB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A57-707B-4502-9AB4-D0863DE5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7F6-99D9-454C-A578-86E41C5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4EF-C00F-49DD-ABB4-01CFE8E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D997-79B3-4D6C-9CAF-B57665F33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413000"/>
            <a:ext cx="8535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4 helgdagar i Frankrike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8:55Z</dcterms:modified>
  <cp:revision>62</cp:revision>
  <dc:subject/>
  <dc:title>Bild 1</dc:title>
</cp:coreProperties>
</file>