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9FB-8592-4668-93B4-CF7576BA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C3A-4430-44E5-A039-C26BB733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2EB-C595-47A0-83DD-46AD4A3C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8A2-E65E-4470-B3EE-C1B807D7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6BA-8590-4644-990C-54F23C61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D3B-BBC8-4486-889C-668C4B78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9F8-0056-4CF6-A1C4-2652D50F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6F1-8AA4-4FD7-A008-76B93AFC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401-2D67-49EC-A1A3-3A0EF811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102-500A-423D-9DF2-C9B90B0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846-315F-435F-87FE-0FA6D85B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351-E2EF-4A28-A6D5-B65CB94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3FF9-7293-46A5-88DE-25A69EEEC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41300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Verbet ”ta”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0:56Z</dcterms:modified>
  <cp:revision>9</cp:revision>
  <dc:subject/>
  <dc:title>Bild 1</dc:title>
</cp:coreProperties>
</file>