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ACE9-9CE7-4228-B3EC-3E9C59C6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0262-C6C0-491C-8331-7761525B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20F3-516B-49FD-B61B-75F28849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E4C-27FA-4F04-B9AF-C4D934BA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5366-2B4E-438B-A20C-184906C2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943C-74B0-48FC-B88C-46AA7C1A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21BE-17AF-48F7-BAB5-C565B7FC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9A9C-1675-4135-84D4-D3B90BEF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E15-AF8F-4DFF-B3F8-0558B363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7937-00A4-4223-9CED-51C6EDDC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F7AA-B4C3-4D91-ADCA-EC393A32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6A26-7D4A-4EEA-B6A1-E9A3EDAA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F663-CE85-4669-BF3D-F573AA815412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9280" y="260280"/>
            <a:ext cx="87138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0" spc="-1" strike="noStrike">
                <a:solidFill>
                  <a:srgbClr val="ffffff"/>
                </a:solidFill>
                <a:latin typeface="Arial"/>
              </a:rPr>
              <a:t>Vous croyez, ils boivent, tu vois, elle prend, nous venons, vous dites, je veu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Stefan Gustafsson</cp:lastModifiedBy>
  <dcterms:modified xsi:type="dcterms:W3CDTF">2015-09-26T09:58:15Z</dcterms:modified>
  <cp:revision>46</cp:revision>
  <dc:subject/>
  <dc:title>Bild 1</dc:title>
</cp:coreProperties>
</file>