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A868-51CB-47FB-85FB-46D084A06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2ED4-C73D-4E8A-AC84-DBA37A725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D3FF-3763-4F0A-B63A-5A907A30B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740D-FEB6-4DD2-B705-B112CCDDD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AEDE-8F20-41FD-8EEE-9784383FF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85A5-CD22-41D3-B5CC-939E6C27F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A21C-5842-4D9A-BA68-79647B89A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CD0B-E7C1-4397-91D3-952553AAF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B575-A53B-43E6-B97F-53C207487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2CA3-D27B-421D-AD19-05E1D191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86E6-815E-4419-8DAD-E50F5975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3D2A-0064-4BC9-A9FC-383367B6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41D53-CC31-4A99-A13E-A15971AF0B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404640"/>
            <a:ext cx="856944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333399"/>
                </a:solidFill>
                <a:latin typeface="Arial"/>
              </a:rPr>
              <a:t>Fråga och svara vad ni tycker om</a:t>
            </a:r>
            <a:endParaRPr b="0" lang="en-US" sz="1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2:52:43Z</dcterms:modified>
  <cp:revision>7</cp:revision>
  <dc:subject/>
  <dc:title>Bild 1</dc:title>
</cp:coreProperties>
</file>