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788-8305-41E0-B757-2C565ADD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D8C-1711-472B-992E-3986F729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DA8-C886-4817-BEFE-8582EAE1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051-7E5F-40C3-A25A-E4BD1FB4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7A3-053B-473E-A18E-64FF804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ACC-0B74-48B4-9381-F7C2F7F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861-00B0-4C06-ABFF-BE0E7CD6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FD0-0F7E-47F3-8A9B-48541DB3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D7C-C08B-4D0F-AE55-4BD003EF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B30-FE74-4EB9-A3E4-14BD17E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C9C-0495-4FE7-BF9E-50699B70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165-9EA6-43EB-A1C7-15EAD3A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50A-271C-4940-96BF-E495903C5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Räkna upp månaderna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55Z</dcterms:modified>
  <cp:revision>31</cp:revision>
  <dc:subject/>
  <dc:title>Bild 1</dc:title>
</cp:coreProperties>
</file>