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8AF-0155-4EA6-BF34-AF3B881F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FED-9564-494A-B7CE-B8BC5251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18F6-4917-4F2F-B47C-F03C547D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3F28-CD42-4B98-864B-4CE97923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E2D3-8EF0-4E26-8929-BC86D761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C65C-7DFE-47F3-9C37-7BAAB291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A39-2676-498C-8394-91166ACC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932-CDCD-4B2C-8585-E8686D2A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433-1EA0-4DF6-8339-04293CB9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6A1-028E-4CFE-ABCF-64BFD2C3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81ED-7EB3-4DFE-9A05-57E42EF9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6F5-C303-455A-B347-1D34F93A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D344-454F-45E7-8C43-2D6259896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700" spc="-1" strike="noStrike">
                <a:solidFill>
                  <a:srgbClr val="ffffff"/>
                </a:solidFill>
                <a:latin typeface="Arial"/>
              </a:rPr>
              <a:t>8 olika drickor</a:t>
            </a:r>
            <a:endParaRPr b="0" lang="en-US" sz="1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5:59Z</dcterms:modified>
  <cp:revision>57</cp:revision>
  <dc:subject/>
  <dc:title>Bild 1</dc:title>
</cp:coreProperties>
</file>