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0F7-1129-4D52-8380-EDC3E104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5FD-07DA-4049-B529-99BE0DC3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41A-D51E-48E1-A1B4-75FA3882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588-660E-4B6C-85C1-3ABF2E91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6D2-162F-4B01-A764-6C582F0B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0CF-39BD-4AF4-8C28-0212EFB2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6CD-7D7B-440F-A0C6-82B9E168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63F-EC08-44EB-8668-F6F3069F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807-8D62-45A8-9505-BFF2B016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551-C5B4-469F-97E4-B500B3B2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779-D1DC-4F89-8AB7-700D3443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A77-34E4-4E52-9355-548EAE38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E0E5-7055-41F8-8FF0-28EF0EC27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341360"/>
            <a:ext cx="8642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7 väderuttryck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52:59Z</dcterms:modified>
  <cp:revision>14</cp:revision>
  <dc:subject/>
  <dc:title>Bild 1</dc:title>
</cp:coreProperties>
</file>