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658-7484-4E08-846D-BFCF09B9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CA9-C6D3-48B5-B70E-971D78FE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7E2-490A-4E93-992C-97C9F96F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019-E9AC-49F7-BFF6-EA0E7052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2C6-4D6B-4E12-AF02-19F7AC55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DB3-72BA-4DD7-A5A5-FDC7DDD0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159-ECB7-43F3-9930-E2EFF1F4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F8D-BFE2-4C34-81ED-962973A7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43F-8A75-4B6E-9A57-B7C886AF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421-3D83-48A1-A989-3613DA9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6CA-1AB6-4787-B310-8CF58EFC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6C9-BF62-4CBA-91BB-B5086C14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0DA9-6EF6-4477-82F4-130EB17A2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10 uttalsregler på franska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8:12Z</dcterms:modified>
  <cp:revision>16</cp:revision>
  <dc:subject/>
  <dc:title>Bild 1</dc:title>
</cp:coreProperties>
</file>