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A60-7B9E-4F49-966F-34DE412F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B39-E337-4E6F-898D-0A22FF8F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EB1-FA26-498C-B01E-B1611677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6F4-3441-4FC8-99AB-F1A91948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AE5-A260-46B7-BC47-F5DA1DAF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F62-5E7A-49ED-8E22-DF1013D3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FA8-66B6-4786-90B5-B486930E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4CC-4D55-4B54-9B3A-8A51C110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E6D-8B9F-47AF-8652-19762DE8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660-AA8C-43BC-95C0-A903E727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C29-24BA-4CEC-BA37-4767F1DC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521-9787-474D-B507-DDE3029E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1419-9745-4333-8A69-A576B1B6D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ff"/>
                </a:solidFill>
                <a:latin typeface="Arial"/>
              </a:rPr>
              <a:t>5 positiva saker om Sverige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1:41Z</dcterms:modified>
  <cp:revision>83</cp:revision>
  <dc:subject/>
  <dc:title>Bild 1</dc:title>
</cp:coreProperties>
</file>