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B67D-9A65-429B-8D4C-B8C793C7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C72D-194A-4DA9-9696-8C9B567F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67D-F2D7-4C59-BD55-42104CE3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D53-94A3-4606-9FCC-C0D8396E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90A-5CEE-47FA-86C7-A808102A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6FB-6DB5-49A9-B459-30C0FA82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D73E-0291-4DC3-B33B-93A76CF3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2057-ADD5-46F3-948D-22D61A2F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BCB7-B8D0-432E-ADCE-392A2670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7C6-1690-453B-86AA-E2B8BD08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020D-619A-4005-9075-B0BB4AC1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C61C-1C06-4CFE-A04D-8BF25789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4334-8929-4E5A-803A-920B41521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900" spc="-1" strike="noStrike">
                <a:solidFill>
                  <a:srgbClr val="ffffff"/>
                </a:solidFill>
                <a:latin typeface="Arial"/>
              </a:rPr>
              <a:t>Var, hur, vem, vilken, hur dags, vad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8:13Z</dcterms:modified>
  <cp:revision>60</cp:revision>
  <dc:subject/>
  <dc:title>Bild 1</dc:title>
</cp:coreProperties>
</file>