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0CF-F9DF-487D-80B5-503DB28C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F96-5337-4592-A239-38B97E87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2E5-9A0F-4944-8B3B-EF1175B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106-787B-498E-8347-9D2A94C3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C75-00F5-449A-94A3-F472534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DEC-4FA2-436E-852F-A9B7FA1E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60F-CCA3-428F-9E48-E42AEB33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30-B988-42C6-9A19-E71DEFA6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31B-D34B-4660-B820-D61DF76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3CD-DBDB-49E3-995F-6016577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883-14C7-4D05-BBD1-B161AAC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C52-E44E-4EAD-B403-1C55EC6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178B-9A7C-48B6-A364-A53F09D9F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765000"/>
            <a:ext cx="85359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ffffff"/>
                </a:solidFill>
                <a:latin typeface="Arial"/>
              </a:rPr>
              <a:t>Berätta om ett teveprogram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2:37Z</dcterms:modified>
  <cp:revision>44</cp:revision>
  <dc:subject/>
  <dc:title>Bild 1</dc:title>
</cp:coreProperties>
</file>