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8DC-DA5E-4798-8B4F-67B47F67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55C-55AE-4FB7-8FA8-89B39300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C8C-CE90-4D80-A4BE-AC94B68C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87C-3161-4008-B8DE-BE9E76D5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821-98A1-457F-A588-67CA1BE9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ACE-B17C-49B8-9D4A-465110F2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826-D0D3-418C-BE79-A22F77A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E1C-1BE9-4697-A341-FF1DCD79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C4C-D934-4145-823B-1CB3E61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9DA-161D-417D-85A8-ED9B8FA2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EE1-A5A3-4856-9D46-EFC8EC1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455-3AC4-47FE-8D54-7A4B5CDA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06D4-B652-476B-B223-C6A8C3302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9700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Fråga vad klockan är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8:53Z</dcterms:modified>
  <cp:revision>81</cp:revision>
  <dc:subject/>
  <dc:title>Bild 1</dc:title>
</cp:coreProperties>
</file>