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719-A957-47AE-84C3-41BC5C08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B3B-6F5D-478A-A061-8C500115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547-C870-4271-B731-D579D5AF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8B1-F5A2-4D6A-B996-064AD8E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8D8-0E24-4497-A6E1-9CC662C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867-A285-4AC1-A548-C702DE0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8A0-3632-4454-B540-59BA59A1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93D-7D9A-4DAF-A361-CA14D56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0B6-6258-4BAD-9CD7-2978322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4A7-3F6A-42EC-B985-3979CC4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85B-3389-4CCD-92C1-466994D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B91-7469-4ED8-A6CF-B42E911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4D1D-8D2A-4ED6-8A48-4E5C900FF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8 ord på ”h”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5:16Z</dcterms:modified>
  <cp:revision>52</cp:revision>
  <dc:subject/>
  <dc:title>Bild 1</dc:title>
</cp:coreProperties>
</file>