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2F7-565A-46D8-8AC6-0B65714A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393-942B-4BC2-9717-12667E72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BBC-3F17-4EC3-B1DB-E2CF4206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74C-AE9E-4D3F-907D-0CEF561D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BA9-7DD8-4526-90A1-D7B182F8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9FF-4E1B-4981-9B1A-1416F0CF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2A4-D5C7-4F2B-AC65-6E7BF382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64B-4923-48AB-A8F6-C91C9E62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414-5F83-4787-9157-D5A1D81D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1B5-69BB-4894-8972-0634C25F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A78-CB98-4CB1-886D-77EC09F9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8ED-E465-483F-A765-CAEFA2DE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4B95-78E3-4A01-A2BB-2CEB3F794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53596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Arial"/>
              </a:rPr>
              <a:t>Beskriv 1 känd person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8:25Z</dcterms:modified>
  <cp:revision>75</cp:revision>
  <dc:subject/>
  <dc:title>Bild 1</dc:title>
</cp:coreProperties>
</file>