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151-D694-4F42-A311-AF05E6B3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5BD-3E52-4812-ACFD-083928C2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EB0-FF7E-4BA4-828D-CA80299B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B27-E77B-4AC3-9BA1-317C7690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990-86F1-4ACD-B091-EA276A33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50B7-DF9E-4613-9645-D8EDD812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9D7-0681-4D95-9641-A237B7BC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3D3-CCE6-4F73-9146-D4D9FF4D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DC9-99DE-4821-956E-1866C3DF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A1A-D5AA-4686-B4D1-70FBABFE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638-432D-45FB-9F23-67737D13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1C9-55EB-49DB-B0EA-A94C2023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5875-9369-45C0-879C-DA412D5E1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052640"/>
            <a:ext cx="8535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300" spc="-1" strike="noStrike">
                <a:solidFill>
                  <a:srgbClr val="333399"/>
                </a:solidFill>
                <a:latin typeface="Arial"/>
              </a:rPr>
              <a:t>Berätta om Mona Lis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0:25Z</dcterms:modified>
  <cp:revision>42</cp:revision>
  <dc:subject/>
  <dc:title>Bild 1</dc:title>
</cp:coreProperties>
</file>