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CB0-9B6B-47DD-BF31-E453B767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CFC1-BBE1-4702-A7D8-E482F737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144C-9BBC-4543-9E8F-7E889B67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54A-624C-4C84-B546-BEFCE87D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1BD7-CF06-48D9-9C80-9F3FD514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003-1FBE-4935-8EFB-24F75634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B6C-FA7D-4F99-9D7A-F8404831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82A-5C9D-4186-9467-97380793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86FA-A1B8-4D7B-B5E8-4BBF8565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3BDD-45CF-4999-AE37-F6910775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C67-F846-493C-8CAF-236F3BDA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0B93-B40D-46AB-9A8E-F8EE5AAA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A1F2-D0D0-43AB-A40B-E3A09A0C7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549360"/>
            <a:ext cx="8535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ff"/>
                </a:solidFill>
                <a:latin typeface="Arial"/>
              </a:rPr>
              <a:t>12 frukter på franska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2:20Z</dcterms:modified>
  <cp:revision>64</cp:revision>
  <dc:subject/>
  <dc:title>Bild 1</dc:title>
</cp:coreProperties>
</file>