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6883-5973-48B1-A0DD-49BC71E6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2C34-64B2-4F86-8ACC-CAE7A148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EF51-973B-4518-B2CE-9E157761D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0D48-4B6C-4ECF-BAB1-1A7E89B76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5D2A-5894-465E-A5E5-CDD25EEF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B558-C103-4815-A5EC-2C8D95DD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8A5B-0302-495D-A15C-76937A0E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81B4-6AE2-4A05-BB7F-DB27BB87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D2BF-84A3-4DE7-B6BF-4AA9D9FD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820C-6350-4AF9-B5A0-B1400AD2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AE0D-759E-42E5-A85A-170E9E40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A878-9465-4E43-A72A-A71287D2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9142-19E6-4255-8E95-44C1EE317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549360"/>
            <a:ext cx="853596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900" spc="-1" strike="noStrike">
                <a:solidFill>
                  <a:srgbClr val="ffffff"/>
                </a:solidFill>
                <a:latin typeface="Arial"/>
              </a:rPr>
              <a:t>Fråga hur mycket glassen kostar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16:12Z</dcterms:modified>
  <cp:revision>82</cp:revision>
  <dc:subject/>
  <dc:title>Bild 1</dc:title>
</cp:coreProperties>
</file>