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40D-2771-44DC-803E-C95BC24F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53B-2D96-453C-B8C1-44C3850B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6D4-C07F-43B7-88E6-C4C7FC8B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058-C55C-405D-9021-4D9E2659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320-49B0-4862-B382-06D5D877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6E0-278D-4AE9-A825-500D3734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6BF-EDC0-4039-8EED-E345ABCB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8A5-9C36-4BFE-9537-276D60AA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B49-2666-4DF4-8E76-44BA959C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EA0-CC34-41AC-9A1D-742E38B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FA2-1875-4935-8910-FB52131A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0AC-2A51-476B-A29B-C4BD4213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3487-F521-4E53-B791-FEDDC02E4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7628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7 frågor om Sverig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1:28Z</dcterms:modified>
  <cp:revision>73</cp:revision>
  <dc:subject/>
  <dc:title>Bild 1</dc:title>
</cp:coreProperties>
</file>