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19B-F6C5-4EEF-9F97-986F904E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625-98C0-4C65-BC88-7FBF6CA6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F45-39F0-44BE-ADA6-FCA36BA1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29A-30A0-41A1-8CE1-2DFAB01E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57C-E71D-4C61-8C8B-4EA1C5E7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937-2FE7-4631-9D12-36657CF8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7EB-DB4E-40AC-8F24-01F5166E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C27-00F3-4D48-AF89-86CAA2B6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08AC-DB1A-400D-9E41-C0A09FFD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300-6B25-492B-942B-1C65BCEB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D66-028E-49D2-AE88-576EC73D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9F7-C306-4DEE-9EBC-C5906FDF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720C-8020-4B00-81A9-95E16B4DA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De olika graderna av stekning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0:34Z</dcterms:modified>
  <cp:revision>24</cp:revision>
  <dc:subject/>
  <dc:title>Bild 1</dc:title>
</cp:coreProperties>
</file>