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740-B18B-4DA7-B6BA-5692C1D2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BF0-D5A5-4735-983B-5C2D3898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4F3-D48B-423D-A018-4E9C47CB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6B1-5B3B-47CF-B6EE-70D8FB56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C62-F323-4822-997B-C4B7893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C20-69BC-4BBF-A65D-3730135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C31-62D9-4C77-A0F3-61469BBE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47C-42A5-40FF-859B-BF842B11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54D-B30A-493F-95FF-F6BEC389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03B-C2CC-45D8-923F-8CC52D4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79C-F9DA-4ADC-A5AA-BBE57A9F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8E6-1809-4414-8ABD-54B6D82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4EAB-BDD9-4D95-9477-76CC053CC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8535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Arial"/>
              </a:rPr>
              <a:t>Efter, före, idag, i morgon, i går, på fredag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4:28Z</dcterms:modified>
  <cp:revision>48</cp:revision>
  <dc:subject/>
  <dc:title>Bild 1</dc:title>
</cp:coreProperties>
</file>