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7A46-A4ED-4623-837F-1DBDD6589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3C1E-BD7B-4C93-B8B5-3AE3989E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A8A1-510B-4E5A-B79E-AB197D253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13C4-2799-44E2-928C-0D624DDC2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2F7A-A3B7-4350-B8C7-3FDE6122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16AB-3266-4E0F-AF7D-6AFC0FE3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4548-5AC1-413E-883C-7AAFB665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737C-147B-40D1-8AF8-58B67CEF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7C78-CA60-4415-8786-545DEDD1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0447-31F3-44AB-97B2-0D0FC6D8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7B10-AF95-4010-80A3-614949B8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BE60-8827-4FC5-AFDF-8E718937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C801-885C-4012-9EC8-89EEF41CA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333360"/>
            <a:ext cx="85359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900" spc="-1" strike="noStrike">
                <a:solidFill>
                  <a:srgbClr val="ffffff"/>
                </a:solidFill>
                <a:latin typeface="Arial"/>
              </a:rPr>
              <a:t>Räkna upp 5 meningar där ni säger vad ni INTE är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2:55:11Z</dcterms:modified>
  <cp:revision>77</cp:revision>
  <dc:subject/>
  <dc:title>Bild 1</dc:title>
</cp:coreProperties>
</file>