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73D-D0A1-4572-9194-B54D5A66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940-E6C2-4A1D-BEB8-2FFF1618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983-C0AC-4B07-8B78-D7D9E885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4CD-403C-496A-B18A-B843964E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1B8-2D86-4654-8AB7-A65E2FF2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8A8-282C-4311-A76F-D3DE30BF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C5C-2F66-4031-8428-C8E82EE4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266-0F59-415B-AD38-D56685AB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616-0374-4321-801E-DAEE71B8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8B3-8AF2-4627-BD43-8DF67394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CE9-6252-4801-857B-9AAD3D7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AF4-04BD-4B3F-90B8-4B6636CD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5597-E2B9-4874-B089-7A8C5C30F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10 franska städer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0:45Z</dcterms:modified>
  <cp:revision>54</cp:revision>
  <dc:subject/>
  <dc:title>Bild 1</dc:title>
</cp:coreProperties>
</file>