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663-DB3A-4E00-A15E-40A298B5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57D-1A99-4823-96A8-A174524B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B9A-FF51-4178-BD67-89F16E1F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3E40-AAE9-4CC3-8E4E-A7CED51D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7F2-9C73-430C-AA0F-B0BD5801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423-FCE2-4FF3-AC81-864DB110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244-2A2D-439D-9911-B3DFA44A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024-5CEA-4735-95CC-A58EA57B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2ED-8967-41E5-BBFA-D40B9896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997-DAB6-4D8E-A276-AB2105AE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F234-370F-431D-AB1A-DE3589CB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B8D-1E09-4097-880A-B0ACFE09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BE00-9E9E-4EAA-BBEF-99BD42519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981000"/>
            <a:ext cx="8535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ffffff"/>
                </a:solidFill>
                <a:latin typeface="Arial"/>
              </a:rPr>
              <a:t>Ropa på kyparen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8:58Z</dcterms:modified>
  <cp:revision>80</cp:revision>
  <dc:subject/>
  <dc:title>Bild 1</dc:title>
</cp:coreProperties>
</file>