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4B5A-8F3D-46DB-ACF8-444CA8A4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0E87-B7FF-4785-98F2-50F613A1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E19-4288-4530-8D98-02E2D182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A63-6147-460A-9353-33DA4736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1478-2788-4587-A25B-2309375F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DBBC-7FA9-42D3-A873-9173F2CD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42F7-C8E8-4F7C-809C-87477FE6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5E6-0EE2-424E-A982-01E665A8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102-0AA2-4A7F-ACDB-D552FB20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EC14-9C71-4185-865D-650E1264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65C5-0A3F-4765-B23B-8C30B78B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843-46AE-47F5-A7A2-500F0140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2280-C9FF-4BFA-B6D1-C7192AC00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620640"/>
            <a:ext cx="85359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ffffff"/>
                </a:solidFill>
                <a:latin typeface="Arial"/>
              </a:rPr>
              <a:t>7 kända byggnader i Paris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48:34Z</dcterms:modified>
  <cp:revision>69</cp:revision>
  <dc:subject/>
  <dc:title>Bild 1</dc:title>
</cp:coreProperties>
</file>