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197-1FB1-4BA4-A48D-B9334425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8D5-5082-415F-9D0B-2A788C77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2DB2-A9F9-4B40-9781-2A82C8DB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EB8-37EE-4059-A916-2817CF30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CF5-622D-4519-9561-E4B42D26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254-4ED8-44DA-905C-763AF750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3C2-3086-4E6A-B63A-21F907BF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6D1-A75B-4B33-BC94-3186F40B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049-032F-4C90-9DE0-59D145C0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83D-7C3C-4AAC-8B2D-65883C0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B09-484E-4927-8890-8364FB0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E69-C288-490A-9149-4FE3E5CA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7B0-C645-46E1-8B00-476E5E507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333399"/>
                </a:solidFill>
                <a:latin typeface="Arial"/>
              </a:rPr>
              <a:t>På, vänster, under, höger, mellan, bakom, mittemot, framför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4:29Z</dcterms:modified>
  <cp:revision>8</cp:revision>
  <dc:subject/>
  <dc:title>Bild 1</dc:title>
</cp:coreProperties>
</file>