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0F6-E37D-40D0-8212-12680537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D61-704C-418D-BF16-3BE0110E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0D0-0BF3-4430-9346-425766F3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6A1-FE34-4C8D-8190-72CA6F84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2AA-A26B-4EAD-8FC1-818FE5F3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787-7E88-4B96-8841-CC18B244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220-A717-495D-90D0-317969C8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AAB-D659-4A62-8E72-345A4A54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B66-6703-414B-A9F4-433E8574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DDE-C26B-447D-9E75-B5F496B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76D-EE20-491E-A569-093E5AC2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4EF-8FB5-4E3E-A1C4-ED5A2A31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947-BC0C-4617-AF24-C1B2F782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500" spc="-1" strike="noStrike">
                <a:solidFill>
                  <a:srgbClr val="ffffff"/>
                </a:solidFill>
                <a:latin typeface="Arial"/>
              </a:rPr>
              <a:t>5 jéopardy!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6:25Z</dcterms:modified>
  <cp:revision>59</cp:revision>
  <dc:subject/>
  <dc:title>Bild 1</dc:title>
</cp:coreProperties>
</file>