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6043B-62BA-4DB4-99E8-C18A5CD52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9CBA4-806F-4DC3-AB6F-F87C94BEE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1F375-FA24-472C-AAA2-5BD803115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43EF1-B4AD-4345-8F28-BAE14C47D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52028-0AF2-4CE0-B1FA-F03941FF8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9B876-D2F3-4874-8E30-AB4BF0FB1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C444E-CE4A-4742-AAE2-C6EED2AF0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3CCDD-9CFA-4F91-A673-2DD6648F7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01F32-C90C-4738-B82C-F59DAAC59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ECA3B-C956-4075-A89F-104CECCBF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412F5-FE88-4FED-B8C3-B64D0102C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4A163-6146-4F5A-9F4F-CD7F50FDD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B687D-AD18-4A1D-A2BF-65DB532818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404640"/>
            <a:ext cx="8535960" cy="61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3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300" spc="-1" strike="noStrike">
                <a:solidFill>
                  <a:srgbClr val="ffffff"/>
                </a:solidFill>
                <a:latin typeface="Arial"/>
              </a:rPr>
              <a:t>10 skolämnen på franska</a:t>
            </a:r>
            <a:endParaRPr b="0" lang="en-US" sz="1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3T16:29:47Z</dcterms:created>
  <dc:creator> </dc:creator>
  <dc:description/>
  <dc:language>en-US</dc:language>
  <cp:lastModifiedBy>Årjängs gymnasieskola</cp:lastModifiedBy>
  <dcterms:modified xsi:type="dcterms:W3CDTF">2009-04-24T03:33:16Z</dcterms:modified>
  <cp:revision>78</cp:revision>
  <dc:subject/>
  <dc:title>Bild 1</dc:title>
</cp:coreProperties>
</file>