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786-FCC6-4111-8E5F-9AA8D243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019-EBD9-4E79-8C31-83E141D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E12-1121-4A42-BB70-BA0668BC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035-2C81-4101-8C0E-4C6C10A0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487-681C-405F-BEF4-76D95EC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AE0-7E80-4DE9-A466-F49D7FF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72D-3C21-4DAD-85ED-00F6B53E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AA7-0D4A-4D2A-8AE2-B24E7EE5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BBE-5675-43CA-85E1-229D1FC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033-D231-4FD9-8A32-033B218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D19-2D5A-471B-A5AD-122F92E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259-B671-4BA8-9401-45974EF1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C803-3453-4C6F-BDC8-2B741240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5 frågor till Stefa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9:49Z</dcterms:modified>
  <cp:revision>20</cp:revision>
  <dc:subject/>
  <dc:title>Bild 1</dc:title>
</cp:coreProperties>
</file>