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67F-1D26-4935-88DD-E1EA0230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685-9BF3-4EF2-9E74-07587BE9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5EA-1E2B-4314-B15C-B0FE5BEB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25F-152C-43C7-8209-49B25C8F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FBF-9EC0-471C-8A47-3F23313E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A68-CEA2-49A6-90F1-5E1E2028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923-E7D9-4F61-94B8-8B41709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4FD-FC1C-4300-B060-6515DCE2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9C0-2980-4735-9FEB-9E1A7BD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DB9-EC84-4B4B-AFEF-C875284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754-3626-4907-A163-D82C06E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F6D-7632-42C2-92C3-8082E83D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4E05-34BD-4AE1-9709-D4D5AFB1A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12 grönsak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2:31Z</dcterms:modified>
  <cp:revision>74</cp:revision>
  <dc:subject/>
  <dc:title>Bild 1</dc:title>
</cp:coreProperties>
</file>