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FAF-79AB-4D00-88D3-56A6FBA0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5E7-1BAE-414B-8342-25A507D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0EE-6BFA-4704-97FD-C7638C36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A48-E788-4256-AB9B-F8FF108B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FF2-1F00-4F43-B856-008F7862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42C-8BAC-4D10-9EC3-FCC1CB2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B81-E594-47AE-B1B4-A19FD135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76F-BA44-4A4C-82E3-8683BDD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44F-1FD3-4C2F-80E7-4A35C5D8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8C7-106B-4420-BB24-D717E560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10F-D73E-4572-B6C6-0C6FCC9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1E3-D208-440A-9C7A-B15FF0FB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1F1E-AEA2-4600-AFAE-329997C55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5690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10 motsatsord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0:57Z</dcterms:modified>
  <cp:revision>72</cp:revision>
  <dc:subject/>
  <dc:title>Bild 1</dc:title>
</cp:coreProperties>
</file>