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6F41-778B-422E-B494-B51C4F05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53A8-78F7-456D-9788-0AEBD3A0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CA38-433A-4932-A13C-C3F7983C2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2695-BA15-4A90-8DB6-6B14968C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3A8C-9388-4B2F-8532-12DB9902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D3C5-F038-4089-B160-B33120A7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A686-6F84-42AF-A7B9-AF47DED3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B681-28F3-44D8-AB90-8B7B9B2D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7DC9-94DA-462A-A75D-290F0C6A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7EE3-A801-4FFF-B2C3-B957DCA1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3CA2-E761-440A-A1DF-8BB60454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5BFD-002B-41B3-8574-EE26E359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F5C5-EFE3-4EAA-BD04-44A1D1889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60280"/>
            <a:ext cx="86421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9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100" spc="-1" strike="noStrike">
                <a:solidFill>
                  <a:srgbClr val="333399"/>
                </a:solidFill>
                <a:latin typeface="Arial"/>
              </a:rPr>
              <a:t>Säg ramsan: min, din, hans….</a:t>
            </a:r>
            <a:endParaRPr b="0" lang="en-US" sz="1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57:34Z</dcterms:modified>
  <cp:revision>22</cp:revision>
  <dc:subject/>
  <dc:title>Bild 1</dc:title>
</cp:coreProperties>
</file>