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987-AB54-45B7-8D05-2532793C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37B-1E37-440C-8B2D-A750ED5F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DC8-0DEB-4052-8354-3D88B404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5B0-0A88-4683-B24D-58380559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050-8614-4A06-A233-99ECCAB4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EAC-47E8-454A-96E8-914CFCA9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588-01AD-44E7-AB16-94491F98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B6B-74BC-4A8C-A041-7692D1AE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D74-DBE9-4766-9392-5CBFF388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0B4-8AA1-495A-ABA6-87160C3C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683-7A8B-447A-9F35-D642FCC7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3CF-EC15-4FA4-9497-ECF5C14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FB7-F270-4F69-9FCC-D1F1F931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642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10 sport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9:11Z</dcterms:modified>
  <cp:revision>25</cp:revision>
  <dc:subject/>
  <dc:title>Bild 1</dc:title>
</cp:coreProperties>
</file>