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683-1B6E-46F2-81CB-2DA94801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64C-EBF4-4790-B99A-B52C47FC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AE0-89DC-40B0-A1F4-3DAC00F1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B25-ACBD-4F9E-9E68-05986561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6CB-CCE6-40F9-89CD-9EF87A54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BD6-A195-4D17-A6A2-4AF3D725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7E5-2919-4DE3-8544-27B4271B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082-5C52-4F04-BDF3-3E6DDF8F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738-3416-418C-A273-7B4BF9C8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739-B9CD-4ED0-8A10-5F1ABD75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888-4DE4-4FBA-917C-EE5D4AAF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DAE-EE77-4F22-97EE-5B5B4D92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AE7C-85B7-4608-92D1-FEB3AAD40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5359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ffffff"/>
                </a:solidFill>
                <a:latin typeface="Arial"/>
              </a:rPr>
              <a:t>Ställ 3 Parisfrågor till Stefan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4:02Z</dcterms:modified>
  <cp:revision>51</cp:revision>
  <dc:subject/>
  <dc:title>Bild 1</dc:title>
</cp:coreProperties>
</file>