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4E7-61F2-4E89-B8CF-B4C0EE6F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94B-2A2A-4BE7-A272-15102D72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CA3-D1AD-4092-88F5-8E7995B3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648-1385-4636-B13C-77D5ACC7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FC3-87D6-4260-A982-CE817622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AB4-F8DF-4828-848D-350041F9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B38-1687-45EA-A2F3-531FAA89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66F-4D1C-4822-9287-69F1852D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920-6951-4FE6-801D-1DFFB669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23A-A073-44BE-930F-7A1C6185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A2C-37DB-4288-9667-A4C3BD9E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9E5-AE5E-408A-A3AE-FF277B93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39A4-2B26-4446-8B99-EF43F4131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476280"/>
            <a:ext cx="864252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99"/>
                </a:solidFill>
                <a:latin typeface="Arial"/>
              </a:rPr>
              <a:t>Kanske, ofta, ibland, alltid, när, varför, också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1:59Z</dcterms:modified>
  <cp:revision>18</cp:revision>
  <dc:subject/>
  <dc:title>Bild 1</dc:title>
</cp:coreProperties>
</file>