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CBA-AAFC-456F-8FB7-4D6F112E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389-D3CC-4893-96AC-2529F262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A01-7766-4F34-BE7D-E0EB6810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ECA-85C4-42A4-AFB0-56525AB5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F48-5C24-4A5E-A4E3-13C8B6CC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F56-FC6D-4AA2-B2D7-78AAD74F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D93-6374-426C-81D6-E73B71A3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388-31E2-4320-8A27-A60B2AE8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7F9-7BBA-469A-9C57-BD047CF8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757-D7F6-4157-8E0D-4898B2B1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9B0-DA3C-462E-A537-57C47B25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D05-8AFA-424C-ABD5-3AA20E4B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766F-0806-4EA2-AB1A-3BE129FF6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39124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333399"/>
                </a:solidFill>
                <a:latin typeface="Arial"/>
              </a:rPr>
              <a:t>3 frågor om Eiffeltornet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3:44Z</dcterms:modified>
  <cp:revision>34</cp:revision>
  <dc:subject/>
  <dc:title>Bild 1</dc:title>
</cp:coreProperties>
</file>