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BCF-C00C-4FB6-8454-ADEC37F0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AC1-5C04-43ED-B196-98DD480A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2EE-6715-4CC1-8CE2-FC325B46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25A-0A47-4165-932E-540197DE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53A-FB8E-48A2-9B25-332BFCB1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1DA-F746-4FB3-BFFA-4E8B8346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3FC-6B73-4AD7-B1E6-FE2890F4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EA1-72FB-47D4-BB00-BB270E2E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600-4EE9-452B-B1FD-6F7323B4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BA3-0208-4DB0-B09F-2F268A11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35F-B969-492E-B2AF-B7EE485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216-E40E-47AE-9224-FC00AAAC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C999-0AE0-452E-923E-E987947AF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549360"/>
            <a:ext cx="8642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Vad heter floden i Paris?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23:34Z</dcterms:modified>
  <cp:revision>29</cp:revision>
  <dc:subject/>
  <dc:title>Bild 1</dc:title>
</cp:coreProperties>
</file>