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A06-222B-4647-BF66-93056BB4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5B5-274B-40B3-8472-B161E1F7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4D9-6E15-44CA-B665-1095D565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26A-090D-4F3A-A20A-E4E8C3D4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82C-C592-40AF-9322-F20829A4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E9E-D3A6-4F04-AC2B-C7C31AD8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050-A3A9-42AE-8296-B5DA04B3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E83-519E-46CB-8698-36F36C84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B69-9EB0-4B28-B3EF-66DF6A2A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77F-B7ED-4869-81CF-DA7C2830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395-2E08-436D-96FF-705DBAFF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429-E943-4EAC-9CC5-84848F49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F287-C508-46B0-9E29-2FF802E0B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765000"/>
            <a:ext cx="87138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500" spc="-1" strike="noStrike">
                <a:solidFill>
                  <a:srgbClr val="333399"/>
                </a:solidFill>
                <a:latin typeface="Arial"/>
              </a:rPr>
              <a:t>Bokastavs-leken</a:t>
            </a:r>
            <a:r>
              <a:rPr b="0" lang="sv-SE" sz="140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3:29Z</dcterms:modified>
  <cp:revision>38</cp:revision>
  <dc:subject/>
  <dc:title>Bild 1</dc:title>
</cp:coreProperties>
</file>