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625-5500-4517-BA2C-DDC2232A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918-9B97-4AD2-8EDD-A5AFCE86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83A-8577-49C1-9537-293ADEC5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ECE-B85A-4170-A3E5-E93C024E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715-AE5B-4BD4-B1AD-D6D3E23D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37F-8FF5-46EB-B251-E9B41AE5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E25-6245-4226-AB48-D17D71B7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E8B-EF42-4D48-AD20-4C8A6CB6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601-EC1D-4BA5-9D14-4B136364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D2E-03B8-4739-94EF-3977AA1C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2C2-9136-43FD-8569-07FDC74A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DC7-2523-4215-B409-069DE2F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B548-5FE5-4392-9754-9659D626A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197000"/>
            <a:ext cx="8642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12 djur på franska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9:36Z</dcterms:modified>
  <cp:revision>32</cp:revision>
  <dc:subject/>
  <dc:title>Bild 1</dc:title>
</cp:coreProperties>
</file>