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DEE-5A94-4625-97BF-19B2C3F2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94C-4D70-415D-BCD3-8D1703D6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187-D160-4CD8-B72B-D204F150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EA0-A0C7-42DA-BBE3-D06EDC8D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AF5-2544-4408-A5F0-51A1BD8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B31-6E8A-489B-B039-09D66F1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FC9-8835-4E52-B4BF-4DC31CE3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52D-ADB7-4199-A794-6E93485D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85F-9814-4C55-B767-41A056BF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A86-8CBC-427D-B5AA-D8C3D70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482-496C-4A00-BB12-8447DCB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CCB-4D25-463A-AC86-E995731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90F-8FAE-43A4-A2E1-1CD7A84B5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98100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</a:rPr>
              <a:t>10 klädesplag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5:43Z</dcterms:modified>
  <cp:revision>67</cp:revision>
  <dc:subject/>
  <dc:title>Bild 1</dc:title>
</cp:coreProperties>
</file>