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E93-1177-488E-92D9-4BCE3F6A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73EE-D926-4E4D-B3A9-8704C22A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4C3-462F-4355-8E21-1E2A498C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4E7-E27B-4052-B9FB-5FD3B1F1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0C9-FF35-4EE9-928A-B6C3A85C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DED-2C68-464D-BB48-A7886357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DE2-5D39-40F8-8AA2-60666BA2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84B-401A-4F09-A681-CC147FED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6E2-E067-480F-A1B6-B43621F2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3976-2F06-4F3B-BA87-0559352F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4F1-1603-4368-B0CF-E41752B2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B21-67B0-4C62-A3DF-19F6086C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6B9B-9FBA-4C8C-9282-BAFBE8E55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549360"/>
            <a:ext cx="864252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333399"/>
                </a:solidFill>
                <a:latin typeface="Arial"/>
              </a:rPr>
              <a:t>Säg 10-talen 10-110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2:02Z</dcterms:modified>
  <cp:revision>18</cp:revision>
  <dc:subject/>
  <dc:title>Bild 1</dc:title>
</cp:coreProperties>
</file>