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404-3F30-48B5-BA41-0F6F8D92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62D-909D-43F8-95C5-2DD043F8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B06-26B2-483A-A714-A47812A4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A25-1C54-4195-9259-932ADA2E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1D8-55E4-48A3-ACA5-78A8A978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B01-1469-43E1-B246-676729B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104-7996-40E9-B7FE-2509A34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185-E2EB-4630-86E3-39609E56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BA2-8721-4FC9-AD3B-BA021924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FBA-2DB7-4CE1-A64F-DB3F89C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F9F-E802-4A06-8B41-C492974A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04B-D838-4650-B588-30A73A63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87E6-44E7-4F83-A596-FB19751A3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5359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ffffff"/>
                </a:solidFill>
                <a:latin typeface="Arial"/>
              </a:rPr>
              <a:t>Fråga när någon är född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1:54Z</dcterms:modified>
  <cp:revision>55</cp:revision>
  <dc:subject/>
  <dc:title>Bild 1</dc:title>
</cp:coreProperties>
</file>