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F02-7B18-432B-B3AC-8C7DBF6E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7B6-3EE3-4568-B567-1CE08C0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4BE-D17F-4D2B-B843-12A3D87E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280-7CC7-4570-99B8-6D87AA0F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BD1-A42F-45A4-A5C4-A7EF74EF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0D5-B0F1-4DB3-BBF7-26937B6F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6C6-80A8-4603-9D5E-13A2528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C9E-0289-44C7-8086-B84423F1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209-A0F6-433C-A6B0-4FAB601E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62F-F495-4EEA-963F-F1810D7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AA5-3ABA-4A73-9D95-5001AF28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8C2-2D55-4129-B36B-D33DEA6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9712-03AB-4A65-AF4D-C80297D1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5 maträtte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0:34Z</dcterms:modified>
  <cp:revision>71</cp:revision>
  <dc:subject/>
  <dc:title>Bild 1</dc:title>
</cp:coreProperties>
</file>