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5095-32D7-44F0-8570-8D548D6B7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949D-BB25-488D-93EA-093A4D020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4DD9-F879-4EE9-BCA7-0C160BD17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05ED-55D9-4B8B-BC33-D0631606A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5418-2383-467D-8FB0-8051E8893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AFA1-2EF7-4D5D-994F-4CFEEFB83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4101-FE3C-4511-A391-DD77A7D6A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AAFF-585C-41AD-95B8-A73335CFA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2E63-0092-400A-8980-5AE2CE114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4964-A2F1-4FCE-AC19-D8F566DD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8CA1-4A49-449C-9766-B8548B62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6B8C-E4CD-4B77-96D4-2B04DF8B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40DBF-5916-402B-BB9E-CA817C0AEC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836640"/>
            <a:ext cx="8535960" cy="54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700" spc="-1" strike="noStrike">
                <a:solidFill>
                  <a:srgbClr val="ffffff"/>
                </a:solidFill>
                <a:latin typeface="Arial"/>
              </a:rPr>
              <a:t>7 möbler</a:t>
            </a:r>
            <a:endParaRPr b="0" lang="en-US" sz="17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3:26:39Z</dcterms:modified>
  <cp:revision>58</cp:revision>
  <dc:subject/>
  <dc:title>Bild 1</dc:title>
</cp:coreProperties>
</file>