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21D-0E94-4123-8A97-8BB17B7A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B53-0502-4A57-9D3A-22A3AB09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E32-E500-4D30-B7F6-F3EAD727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BF0-2152-4CBF-A68C-2BAEE70A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66F-15A9-4E04-A13E-777B67D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9D7-D1BE-452A-91C6-585390FD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335-A0F7-4CE4-9ED3-869B6FAC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F73-E562-4989-9BE7-F1D927D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931-5BAE-44A7-96A3-741A4B4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363-13EB-47A4-8A4E-1308194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13-66A6-4DE5-913B-B431A239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801-7A10-410A-91E5-BC7CB91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899E-1346-4A3F-ACB4-5F61D358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8 kroppsdela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6:14Z</dcterms:modified>
  <cp:revision>11</cp:revision>
  <dc:subject/>
  <dc:title>Bild 1</dc:title>
</cp:coreProperties>
</file>