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2496-A7E0-4E4C-B698-6088C3495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1E29-C6DE-410E-BD7C-8388AC300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9191-4B2D-4390-81C0-7343608F5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1B57-E9D6-40E3-969F-0D32903FF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2DE5-01B0-4833-8E88-1C5B9829C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7363-D268-464A-ABCE-AC5E42282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13D6-7C13-4ECA-9E21-47AE957E9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2C73-754A-4314-B244-ECBA0676A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85BE-1FED-4B5E-82D9-1C6218274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91A2-4099-40DA-906B-A077B9AA9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7DEC-ABEA-453A-8630-7E1CD2235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5216-EF4B-4F4E-A8B2-1C80F7E18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6ACC8-EA35-415D-A6E5-28852699D5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" y="404640"/>
            <a:ext cx="864216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333399"/>
                </a:solidFill>
                <a:latin typeface="Arial"/>
              </a:rPr>
              <a:t>Jag tror, jag vet, jag tar, jag gör, jag ser, jag kommer, jag vill, jag går ut, jag sk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6:29:47Z</dcterms:created>
  <dc:creator> </dc:creator>
  <dc:description/>
  <dc:language>en-US</dc:language>
  <cp:lastModifiedBy>Årjängs gymnasieskola</cp:lastModifiedBy>
  <dcterms:modified xsi:type="dcterms:W3CDTF">2009-04-24T03:36:48Z</dcterms:modified>
  <cp:revision>23</cp:revision>
  <dc:subject/>
  <dc:title>Bild 1</dc:title>
</cp:coreProperties>
</file>