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790-D957-4D46-B332-9C75D947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2AD-D974-4668-B9DB-91D25A87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791-D42A-4745-904D-9EE92512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1C7-CB0A-4CB0-9EE8-E039AEB9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A04-3C72-4598-8328-E31A16A1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E1A-FDA3-4D40-BE94-6ABDAF4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209-1606-48E2-A5F2-38AB540C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E95-3AD4-4FF4-8D36-DA40DCC7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E7B-A4A8-4A1D-9790-30C5B463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FC2-EF25-4B9E-B841-DBFB680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BA6-A8F5-4371-AA74-F7B55850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E96-0745-45C4-BE67-468C4F79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2DAB-569C-47D4-A248-6860185A9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4320"/>
            <a:ext cx="839160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Säg något ni har gjort idag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6:08Z</dcterms:modified>
  <cp:revision>41</cp:revision>
  <dc:subject/>
  <dc:title>Bild 1</dc:title>
</cp:coreProperties>
</file>