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3515-2D18-4A35-A4B3-59181895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8998-0401-4515-BBEB-AC88BDF0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6EFC-44A0-40D5-AA44-0261A99B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28E-7D8B-4A8C-AE2A-B9E41D47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60CC-510B-47B8-B21E-B9AA7E27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64ED-8390-4E79-B2BC-0813B28A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F7B-4A02-4804-9C11-5C9DC5A1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A0B-E34E-47D3-9FA9-033196A0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686-CDA7-4290-BE16-C32C1BA0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F8C-3DB3-452C-9A85-CC992EF9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A09-B7D5-4BC8-9D3E-750FD654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360-EFD8-40CE-82E8-ED2DCEF3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4D80-388F-453D-B8D0-72AE6D7D4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7888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4:58Z</dcterms:modified>
  <cp:revision>49</cp:revision>
  <dc:subject/>
  <dc:title>Bild 1</dc:title>
</cp:coreProperties>
</file>