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FB8C-39EF-46D3-98F6-2AF4879E0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2485-86B6-454C-BFA3-4C8FD535C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4A0A-56D5-4F4C-A4C3-3DDE68297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FC5D-03C6-4C7A-890C-64F06CE26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02BA-A6EB-4760-88AE-BE2A81E0C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2EA8-137B-403B-BC11-2293EE5CD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6ACE-F8D0-4DEC-9B3F-3D9A9518A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9560-90AA-4ABB-9CC7-FA2AE9575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EB48-B554-4770-9AA5-1266B81B4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AB52-848F-445F-AFDB-4C27EC8BB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A7C6-2606-44CF-8ECB-73658F598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2A8F-7416-4077-B877-1CAD14AB6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6898A-6587-4D7D-BE9C-329551CCA9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260280"/>
            <a:ext cx="8391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9000" spc="-1" strike="noStrike">
                <a:solidFill>
                  <a:srgbClr val="333399"/>
                </a:solidFill>
                <a:latin typeface="Arial"/>
              </a:rPr>
              <a:t>Beställ kött på restaurang och bestäm stekning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2:51:35Z</dcterms:modified>
  <cp:revision>36</cp:revision>
  <dc:subject/>
  <dc:title>Bild 1</dc:title>
</cp:coreProperties>
</file>