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B2D-7494-4DD2-9022-74D17AF1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833-D732-4324-A13B-CD7B8CB9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827-D659-4B82-9C08-C23D178F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377-E8B3-4B11-BF71-F2D378A6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5F7-4BBF-4C0D-AA28-08381E8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8FA-4EF4-4435-BAC1-B2A6097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C1C-A18F-4FBD-8380-027A3E01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FB3-F628-4274-8FFB-8E4DF1CB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A9D-17F8-4F88-AC37-485C3B0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9D3-7A14-4FE3-A24A-10655D8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661-29C3-4783-95D6-B4CF270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E3A-9E84-43A0-8C87-1EDEC05E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F625-621D-43BD-B136-7997DAD02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Beskriv 1 sak i rummet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6:35Z</dcterms:modified>
  <cp:revision>26</cp:revision>
  <dc:subject/>
  <dc:title>Bild 1</dc:title>
</cp:coreProperties>
</file>