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DC7-1252-423A-A110-3B5CAEB7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3D7-A662-42DF-8518-7FBA76F7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4B9-EAF9-4CAB-A0FE-EE5CC263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A91-C8EB-4923-9DCA-AC0892EC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62C-BA49-4DAB-952F-FEE826F3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57A-6D65-4E48-9498-2053A138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667-F8DE-45DC-A9CB-C9F4A861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16F-93BE-41F2-A1AE-A09DCD8E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45A-99FA-4E12-BEC2-F39DB1BF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B96-2B3E-470F-A88C-BC970B78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C7C-E086-449C-AA7F-24D9E3A4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187-8EC8-4448-97A5-34464DEF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354C-7330-44E9-BAA3-A2EB62835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842472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100" spc="-1" strike="noStrike">
                <a:solidFill>
                  <a:srgbClr val="333399"/>
                </a:solidFill>
                <a:latin typeface="Arial"/>
              </a:rPr>
              <a:t>10 tunnelbane-stationer i Paris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6:29:47Z</dcterms:created>
  <dc:creator> </dc:creator>
  <dc:description/>
  <dc:language>en-US</dc:language>
  <cp:lastModifiedBy>Årjängs gymnasieskola</cp:lastModifiedBy>
  <dcterms:modified xsi:type="dcterms:W3CDTF">2009-04-24T03:33:58Z</dcterms:modified>
  <cp:revision>3</cp:revision>
  <dc:subject/>
  <dc:title>Bild 1</dc:title>
</cp:coreProperties>
</file>