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59-D52B-4F9E-B38E-378D9173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88-AEEA-4156-A252-E60A6B8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D8C-871B-4402-9759-450DA9E9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990-EFA8-4D74-AA28-B36E417A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E37-5C5A-4A3D-B09B-692B027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282-5F34-476C-A7C6-053958E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7EC-CAD8-48D9-93C0-8F2847C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D5E-9DBF-48BB-9BCD-51AE7CD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8DE-CEC1-43FD-B5B6-40E276C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E06-C546-410E-A08A-5A437F40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4A6-7539-4B20-8102-6719ACE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AB9-BDA6-45D7-BDBC-339D917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227-2904-430B-A472-EC9DFCDC5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333399"/>
                </a:solidFill>
                <a:latin typeface="Arial"/>
              </a:rPr>
              <a:t>Säg: jag städar, jag lagar mat, jag diskar, jag shoppa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9:32Z</dcterms:modified>
  <cp:revision>28</cp:revision>
  <dc:subject/>
  <dc:title>Bild 1</dc:title>
</cp:coreProperties>
</file>