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B30A-B42C-4CDB-9312-96969A323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E47C-9460-4F57-9559-9FBE2DF3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E95E-3A65-41F7-A605-CF9BAEDE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7B72-9613-4BEB-8B4E-9ECC44184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642B-307E-40AB-9393-49C343E8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52BC-4FF0-4268-91EE-55B6FF08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9805-886C-4912-B7F5-58910C17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B711-2AEC-4062-95ED-8465F718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A851-148D-4631-8D1B-47A217E7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88C8-A4FB-4B36-8812-64743E3A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F3B3-09B2-49BD-802A-E75DCABD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7BD0-B639-43D7-AAA7-68194D3B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6743-809E-4D5C-ACBD-54A77EF67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052640"/>
            <a:ext cx="85359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ffffff"/>
                </a:solidFill>
                <a:latin typeface="Arial"/>
              </a:rPr>
              <a:t>Berätta om Napoléon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24:07Z</dcterms:modified>
  <cp:revision>47</cp:revision>
  <dc:subject/>
  <dc:title>Bild 1</dc:title>
</cp:coreProperties>
</file>