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B7B-95EE-4579-AB63-7EBAAAD4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77E-CA71-4524-95D7-7E77C1E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151-7192-49C7-90DB-DF212CBF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B6C-B951-491A-8552-E7174090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DF3-1C01-40B3-84E9-2BBAC69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49-CCF9-44DF-9EA9-BD609A3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FA7-B1F7-40E4-A4E5-A6A848A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56A-9D51-4708-9458-E2D7BAB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C46-9CF0-407E-A1E6-5234264D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468-AE97-441F-B2B2-C8B5179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580-E6E1-498C-A798-1FA3B69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2F1-6A9D-41A4-A679-37DEE3F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15A-D200-450B-BCF7-148FBDBE8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86421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200" spc="-1" strike="noStrike">
                <a:solidFill>
                  <a:srgbClr val="333399"/>
                </a:solidFill>
                <a:latin typeface="Arial"/>
              </a:rPr>
              <a:t>Säg vad ni skall göra i helgen</a:t>
            </a:r>
            <a:endParaRPr b="0" lang="en-US" sz="1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04:47Z</dcterms:modified>
  <cp:revision>12</cp:revision>
  <dc:subject/>
  <dc:title>Bild 1</dc:title>
</cp:coreProperties>
</file>