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43F-E1CF-4C64-A5D0-3E12131D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130-2284-4111-B0F1-1CBA3466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A0A-55AE-4DC1-B508-656540EA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92F-0981-45A6-9F04-23944C50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5BE-7FC6-4BD9-A8B9-3A65DABE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D42-2661-4E8F-9A7E-A6636799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2F1-E983-4BF3-A215-DDF2738E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0FF-8CED-4561-96CD-CDE42FF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6C1-6A0B-47CE-8356-C9DEBD0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4D8-5458-42A1-A76B-95C0D87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8FB-9D3D-4A0E-9CCE-C9B5FFF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AE4-2123-48F7-81A3-2A99990A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200C-5D14-4F27-B80F-B8FFDC034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600" spc="-1" strike="noStrike">
                <a:solidFill>
                  <a:srgbClr val="333399"/>
                </a:solidFill>
                <a:latin typeface="Arial"/>
              </a:rPr>
              <a:t>Fönster-leken!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3:48Z</dcterms:modified>
  <cp:revision>27</cp:revision>
  <dc:subject/>
  <dc:title>Bild 1</dc:title>
</cp:coreProperties>
</file>