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886-6DA6-47D0-BA70-7CB5D1B0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A65-415A-412D-BEF7-53F2A33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D79-C379-488E-AC9A-60236AA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85B-93DB-469F-B49B-61EDE272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37B-860B-41BF-A064-ECDC665E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9D9-CD18-4AA4-A343-95401C3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6F7-73A0-49C4-935F-2F080C6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DFD-D81A-4A2F-9812-7E76508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F41-9743-445C-A982-E1F74DDF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522-CFE4-4010-AD23-294F4E0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13E-33A6-4E88-9E0D-33C7956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7B8-985D-4855-8104-9E8528E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4D07-77E8-4B76-A5B7-CAEA0B20E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Veckodagarna på franska baklänges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8:32Z</dcterms:modified>
  <cp:revision>61</cp:revision>
  <dc:subject/>
  <dc:title>Bild 1</dc:title>
</cp:coreProperties>
</file>