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E38-CD96-4424-8D85-36E2E1C2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920-0DD7-466E-9C7B-C59904FD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8B0-7ED9-4952-A1AC-C9171688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175-DC00-4B4E-8D15-45E34D14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706-DEC5-49F5-944E-2B2AA33A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B18-40C3-45F6-80E9-E9D60125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96C-01AA-4C1D-80BC-7F465B41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7DA-81CC-4FB1-B9C6-431B882D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C01-2834-4018-999B-84214DCF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4CB-B0CD-40A6-9F68-1F42FBC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C99-5B70-4179-9C88-0B26C9A3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146-2797-4D3C-BB63-0C7E4086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3453-C6EF-4AA4-914C-4AF83E39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61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3300" spc="-1" strike="noStrike">
                <a:solidFill>
                  <a:srgbClr val="333399"/>
                </a:solidFill>
                <a:latin typeface="Arial"/>
              </a:rPr>
              <a:t>10 typiskt franska ord i svenskan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18:15Z</dcterms:modified>
  <cp:revision>15</cp:revision>
  <dc:subject/>
  <dc:title>Bild 1</dc:title>
</cp:coreProperties>
</file>