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857-56F4-4BCF-964C-A09BF217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5A4-80D2-409F-B94B-63CCF17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F9B-A7B0-4D69-BB8B-3EA5F9D5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27A-C414-4E3E-92F6-AFE72539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50F-9AAB-4620-9FC1-95A64ED4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CCE-E12C-4E00-83E4-BCEC158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EF8-3872-43AF-AAB6-506C26B8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4C7-E591-45CD-811E-1BB616CA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841-38A2-4455-8036-6F77959D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98C-5FA8-4578-A17E-BCE5E181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110-560F-4056-B18A-D334EEB0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4DB-A2D2-4AE0-A3A1-E642C4E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D6B-45BB-405E-A6FF-FD56E92A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ffffff"/>
                </a:solidFill>
                <a:latin typeface="Arial"/>
              </a:rPr>
              <a:t>Fråga hur gammal kompisen är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1:24Z</dcterms:modified>
  <cp:revision>66</cp:revision>
  <dc:subject/>
  <dc:title>Bild 1</dc:title>
</cp:coreProperties>
</file>