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77C0-88F0-4673-86A5-3626E7CEF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5C78-F27E-4C3D-835D-A01A576A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4594-B6B6-488F-9B04-C84D0B0EE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4674-7474-487A-88CB-70D4CFF8F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A4AF-2E46-452D-B759-6ADE6311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304F-52DF-4EC7-9AB1-341FAFEC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F704-0865-4DE4-821D-9622FB71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6795-A0B7-4A82-B2CF-7EBD8736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4F17-44E5-40D1-9EA1-0C7C4E08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1095-3F97-4C3D-9FDE-370F9EAA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9737-C744-4EEE-A571-4417894F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FE99-A1AF-40FD-9339-3D46DD27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F6FA-8868-42F0-9877-649354600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404640"/>
            <a:ext cx="842472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200" spc="-1" strike="noStrike">
                <a:solidFill>
                  <a:srgbClr val="333399"/>
                </a:solidFill>
                <a:latin typeface="Arial"/>
              </a:rPr>
              <a:t>Böj verbet avoir i presens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2:45:34Z</dcterms:modified>
  <cp:revision>5</cp:revision>
  <dc:subject/>
  <dc:title>Bild 1</dc:title>
</cp:coreProperties>
</file>