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C578-871A-45B7-B725-C8131D602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B294-4DE3-4B32-A331-3C9AEF05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95A0-16FD-497D-BDE2-4C2BDB354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7447-C11D-45A5-892E-DDE56D74F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C342-74C3-4A4A-8FB2-9CDE727B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5B67-12C5-4880-BC25-7C2F2094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9DDD-A853-4C9C-B07A-EBC3AED1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CEAD-542F-4238-8F5B-1769A5FD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3D00-D0EB-4C9F-B003-38E0E767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83B9-6CF7-40A4-850B-50CEC5B0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19DA-F6A3-4C71-B33B-21712BF6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A4AA-7FA6-49DF-9C1A-7BAC9017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AA6F-4B5F-48BE-8E3F-9C5C8AD46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36440"/>
            <a:ext cx="864216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500" spc="-1" strike="noStrike">
                <a:solidFill>
                  <a:srgbClr val="333399"/>
                </a:solidFill>
                <a:latin typeface="Arial"/>
              </a:rPr>
              <a:t>10 adjektiv på franska (inte färger)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05:41Z</dcterms:modified>
  <cp:revision>30</cp:revision>
  <dc:subject/>
  <dc:title>Bild 1</dc:title>
</cp:coreProperties>
</file>