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261-3C62-4D71-AC6B-704B5DA4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0ED-EE34-40F9-8416-47B05914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141-E8DD-431F-8F16-72069642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405-C6A6-41FE-8C6E-A7C517C4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55D-4480-446D-83AF-0C70F9E3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C13-F8F5-4434-B341-31E52367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6F6-2825-4B9F-8F21-A984867B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75A-814C-4AB5-90A4-8A44ECA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249-1D69-45F7-ABC4-D32527C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452-F467-4CD0-B862-D097929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56E-F183-4EA5-A657-64FAEE4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E4B-4FE3-4CBD-A4B7-AB85235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7FC-EA7B-47EF-A7CC-082A267C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Böj verbet être i presens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5:19Z</dcterms:modified>
  <cp:revision>4</cp:revision>
  <dc:subject/>
  <dc:title>Bild 1</dc:title>
</cp:coreProperties>
</file>