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D59-B890-4EFE-9D3C-A59D734E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C50-FCB4-4128-A59E-789F578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02C-B66E-453E-A1D2-94C4EF1E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586-ACAF-4BDC-8A28-8FF7B938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142-50DA-4026-B0FA-2DF0736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1D3-C76E-4B9D-B8A9-D3132D1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221-871E-4490-91E2-D57B9C1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5B6-4F7B-42BA-93BC-40B7FC3C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ECB-3A71-4F78-BB1C-B75BA639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4AB-3907-48A7-9E05-577EF2A3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615-2839-4B79-97AB-C74021A0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9B3-B307-4B30-835A-D13EE17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2699-B377-4C9F-A67E-DD9DEDEE7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53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400" spc="-1" strike="noStrike">
                <a:solidFill>
                  <a:srgbClr val="ffffff"/>
                </a:solidFill>
                <a:latin typeface="Arial"/>
              </a:rPr>
              <a:t>5 kända fransmän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9:37Z</dcterms:modified>
  <cp:revision>70</cp:revision>
  <dc:subject/>
  <dc:title>Bild 1</dc:title>
</cp:coreProperties>
</file>