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EE2-9082-46C5-AB14-371135CF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517-F743-41A3-BEAC-248378B0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22F-9844-48E8-BE7C-2D5DC8A9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5BC-D57D-4D9D-8E97-A487D1F1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0B3-8313-48BE-8076-21BB3FE1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BC5-EC7D-41F6-8974-0071171F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A88-6B0A-401A-9601-D05A42AA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669-67D3-4C5E-B5B6-9BB4AF31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11F-820C-4007-AF0C-668E5CC2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B87-9E3F-4F54-B8DA-7FEE01B5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8AB-ADF3-45A3-BF16-E14E022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4F6-F360-4EE5-BAAD-6CFD812E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806E-B27C-4591-A9D3-DBD9D3081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765000"/>
            <a:ext cx="83912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10 yrken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7:15Z</dcterms:modified>
  <cp:revision>37</cp:revision>
  <dc:subject/>
  <dc:title>Bild 1</dc:title>
</cp:coreProperties>
</file>