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03A2-E410-47B4-BFA7-B8765FE8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0D18-2316-4599-80C3-EDF4BF40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9E11-A906-47F8-85CD-B0BEF532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39B6-20D6-40E6-858E-A5701A57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C368-2457-464A-A818-E9C12D2C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EF87-7C9A-4C71-B00E-76AA106F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2ED8-9A4B-4077-9862-1089C3F2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627B-36DD-4F0E-A567-D45A3D08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6DB6-05FB-46F3-AEAB-C22DA8D1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EC97-59EE-41BA-955C-F997254D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6E9D-3330-4379-BBA0-430C7450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04A0-59C5-4823-A9FB-A52988D1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F402-F933-4C34-B30C-1EB8E9D6C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052640"/>
            <a:ext cx="8535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ffffff"/>
                </a:solidFill>
                <a:latin typeface="Arial"/>
              </a:rPr>
              <a:t>10 färger på franska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48:09Z</dcterms:modified>
  <cp:revision>63</cp:revision>
  <dc:subject/>
  <dc:title>Bild 1</dc:title>
</cp:coreProperties>
</file>