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FB1-BCAA-47A3-ACBE-B6FF28DF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511-98F3-4AB2-97BF-4D89FF9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B6B-969D-4C5C-8CB7-5338C88D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F2E-C81D-4AEF-8B3C-424C3AB9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F2A-EE56-4704-8453-FEFDA1F0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4DE-B05D-4F76-B8EC-A2A2104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F49-174D-4778-99A6-B87A134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4A9-EFDC-439A-BA19-00561037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BFC-C30E-47CA-B794-3038D9B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A2E-BD5A-4165-BB54-2187EEA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63F-1D45-4C05-9903-041DE22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DB0-AFC2-44FA-8905-56C495C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9B0-5F2C-4B28-A1A8-8983562E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500" spc="-1" strike="noStrike">
                <a:solidFill>
                  <a:srgbClr val="333399"/>
                </a:solidFill>
                <a:latin typeface="Arial"/>
              </a:rPr>
              <a:t>5 frågor till USA:s president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2:28Z</dcterms:modified>
  <cp:revision>33</cp:revision>
  <dc:subject/>
  <dc:title>Bild 1</dc:title>
</cp:coreProperties>
</file>