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088-813D-4DD8-8628-634F8642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FCF-ADB9-4462-B588-553F9D64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DD3-CFB1-4570-B87F-DD522E96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5B7-EB02-40F6-8AFD-6A4B449E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31B-A15B-4857-A19E-B62F2F39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D1D9-3162-4EC8-8A38-9436398C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01CE-ACCE-42E1-B9EA-22C29232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E5F8-69AA-4A13-9E8E-3994C2AA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DEF-BDFC-4B0A-8720-95DC188F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1FF-9F89-4F40-AA11-8F6BCE76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933-8BCE-4E49-95DC-EFF8E0D2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FDE-A2DB-4C08-9F50-9CA00685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BB29-C474-4BB4-9EDC-56506944F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20640"/>
            <a:ext cx="85359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ffffff"/>
                </a:solidFill>
                <a:latin typeface="Arial"/>
              </a:rPr>
              <a:t>Beställ 5 olika efterrätter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0:57Z</dcterms:modified>
  <cp:revision>56</cp:revision>
  <dc:subject/>
  <dc:title>Bild 1</dc:title>
</cp:coreProperties>
</file>