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0CC-5E43-4032-9D1C-A7982DC0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6B5-7FF9-4DF6-8593-F4DA044E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50E-FC6C-4D5C-8DC6-F936FF33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2DD-B92B-4C9F-9BF8-6BA5BAFA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669-6CEC-4AAD-9240-A4A46DCC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419-CE8E-4CD8-96C5-8AE9167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98F-B4E7-4C24-814E-C2D4919A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8AE-77F5-4805-BDD9-BF65999E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E94-E0C7-4091-86E0-8D92DEA6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182-CBEE-41CA-B488-8732B85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C96-67D4-4608-A438-A8528BA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C68-77F1-4A70-B65A-644BEC7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7C2-BE97-4630-9689-2C6B2D297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33360"/>
            <a:ext cx="8569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3399"/>
                </a:solidFill>
                <a:latin typeface="Arial"/>
              </a:rPr>
              <a:t>Tala om hur lång ni är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9:55Z</dcterms:modified>
  <cp:revision>35</cp:revision>
  <dc:subject/>
  <dc:title>Bild 1</dc:title>
</cp:coreProperties>
</file>