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D200-E146-4AE8-AE59-291E5374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1C61-0E1B-4ABE-B99F-9C40DF34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20AA-83D1-4C7F-9E94-FBA938C5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0EF8-CB11-44A0-A682-E44BD852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515A-36E7-4435-87CE-71E6B5DC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F3E2-F378-4160-91AE-D08CF67F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C734-BDB4-4D0A-9777-21A06089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C86-B284-4466-9AA2-EA416E19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7B4C-84FA-45A1-8142-2C04A7BC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AA25-83AA-43FF-AE5B-C3CE3B1E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C4F7-210C-4913-9B59-C377AB17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15ED-542E-4D56-B0BD-415F23C9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9E81-4AB1-4520-A742-887D77631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628640"/>
            <a:ext cx="853596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500" spc="-1" strike="noStrike">
                <a:solidFill>
                  <a:srgbClr val="ffffff"/>
                </a:solidFill>
                <a:latin typeface="Arial"/>
              </a:rPr>
              <a:t>Du är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IT-Avdelningen</cp:lastModifiedBy>
  <dcterms:modified xsi:type="dcterms:W3CDTF">2009-09-30T03:40:53Z</dcterms:modified>
  <cp:revision>81</cp:revision>
  <dc:subject/>
  <dc:title>Bild 1</dc:title>
</cp:coreProperties>
</file>