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0EE-CFEF-4D0B-9517-709B1A61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879-4690-4BD1-8F41-550463B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890-CFD9-4C4F-B8EC-BBBE6B81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730-E55A-4C34-9F3B-F068C9F4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97B-DDF1-4C45-AD70-2FFA43E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DDB-2EEF-43C7-8E74-890B4458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6CD-906E-4ECC-99AF-5C9C446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B71-EEE6-463B-84C4-4236959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448-36E9-4697-84B0-E3FD55A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9BC-5D89-427B-A1AA-E38C4EA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86B-B45C-435F-85C8-677CFAF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551-F5F8-4481-BF2A-1550127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C712-0E9E-4520-80C2-DDD2110C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5359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Arial"/>
              </a:rPr>
              <a:t>Var bor du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9:26Z</dcterms:modified>
  <cp:revision>45</cp:revision>
  <dc:subject/>
  <dc:title>Bild 1</dc:title>
</cp:coreProperties>
</file>