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A62-E0A2-4A0C-92D4-FC1F8B18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D22-7B9C-4E2D-A740-0274CB57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852-87B2-4892-982D-B400F0A2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527-30CE-484A-AA08-EC6CB2BF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D74-E4D9-477E-9E0A-AC2F908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5A3-330A-4685-B423-DE8707D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057-827B-4813-A710-46D3B466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79F-D924-4AFB-A265-95610C98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453-721D-42D0-AD30-7ABCEBE5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9F2-9E4F-44E7-80F8-13BAEFC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3DA-EA0F-4157-869B-228F0C00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E39-D209-48C7-83FF-E8D6D089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0554-70E2-4A90-A5FA-7C703186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333399"/>
                </a:solidFill>
                <a:latin typeface="Arial"/>
              </a:rPr>
              <a:t>C’est bon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7:04Z</dcterms:modified>
  <cp:revision>21</cp:revision>
  <dc:subject/>
  <dc:title>Bild 1</dc:title>
</cp:coreProperties>
</file>