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1B8-6598-4906-AC40-552AB738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237-CFFD-48BD-83C0-4A6724B3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4E0-B58C-4975-B909-8BCEACBE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320-DFEA-45BD-AEBF-B14BC6D2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E41-1FD0-4D9C-94BB-45347B9A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4D3-C318-449D-87A2-90019436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4D9-CF35-4403-AC8E-C785E25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B71-D5D8-4E4E-AC38-51F9847A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0E0-6BF0-4529-A391-44CC2C7B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A01-1F12-4338-AFF9-45673E2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92F-4A6F-473F-8DEB-57FE4C8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CDC-E6DD-4B70-8D0C-648CADB5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FAB2-8DAF-4CF9-924A-63B5B8DB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L’addition, s’il vous plaît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 </cp:lastModifiedBy>
  <dcterms:modified xsi:type="dcterms:W3CDTF">2006-11-13T17:00:33Z</dcterms:modified>
  <cp:revision>2</cp:revision>
  <dc:subject/>
  <dc:title>Bild 1</dc:title>
</cp:coreProperties>
</file>