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FF5-939C-4195-AA5A-22C23B7A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4A3-E325-4BAC-BB17-35298F64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8CA-F0DA-48C0-B67A-74F7C98C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998-2292-4193-ABA2-3624CA32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BF6-32B7-46A2-A25D-F1877CD3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1E2-AE02-43D1-9DCA-E9852627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480-8027-4EFF-9650-A3DFC1F8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7D5-A8F8-46B4-BDB6-B02C0C3E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C76-4790-4582-8DDA-01C1016D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69C-C028-427A-A0CE-11E53C9B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2DA-B19A-4B76-A90D-7D434A6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FDC-7405-4029-97EB-7F515656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EC40-176D-4CDF-A39D-D0998120F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Vem är det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0:41Z</dcterms:modified>
  <cp:revision>50</cp:revision>
  <dc:subject/>
  <dc:title>Bild 1</dc:title>
</cp:coreProperties>
</file>