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4FC-FACC-448D-B2E6-4E3B6A72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489-1B3A-43F8-9330-29886CD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B1A-A5C3-451F-BA40-8FE4C428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4D7-8022-4019-A346-AAF2D93D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B21-C19D-4E48-9BF9-1976106C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1D8-0238-4705-B8A6-0B28237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457-F3A4-4C14-8C0B-EC62221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34B-AD36-4240-AB55-29CDD9F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6DD-A69F-407D-8E72-3DADA915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406-7E02-4AC8-97D4-B9A9AC3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A78-9E2A-4EEB-8E24-472B43F8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4D-2437-4938-AA06-3AE11F9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4DB-6106-4953-A3A0-DF765EAF1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79.ppt" TargetMode="External"/><Relationship Id="rId13" Type="http://schemas.openxmlformats.org/officeDocument/2006/relationships/hyperlink" Target="file:///39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78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35:29Z</dcterms:modified>
  <cp:revision>19</cp:revision>
  <dc:subject/>
  <dc:title>Bild 1</dc:title>
</cp:coreProperties>
</file>