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913-41D0-457F-8E0E-4EC24FEA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6D0-1AB3-41F1-82DB-7751B4B8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463-2BF4-4876-93C8-13D5900E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ED1-7EE6-4A11-B8A2-569771DC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BD0-4216-411A-BAD7-B36A2E0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B51-304A-4CAE-978A-7DE07CA7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37B-68F1-490D-9CD7-900EC0E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7E6-81AF-4656-AC04-05B523D7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E3A-5C54-487F-8FFF-888691C7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DAE-BBE6-4033-B565-28B2486E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469-662B-4681-ABBE-5505B68C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062-695A-4183-BBF0-892689BD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3DFA-7869-4F34-A415-A1F4D1BA0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Vilken färg är det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0:29Z</dcterms:modified>
  <cp:revision>49</cp:revision>
  <dc:subject/>
  <dc:title>Bild 1</dc:title>
</cp:coreProperties>
</file>