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16A-363C-4F5E-A65E-8FD4DABA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0DA-A59E-4167-A620-441040D1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B17-DE62-4502-8956-1228F75B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7B5-9379-416C-AAB6-BD295EE1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E76-6708-488F-B2D2-1ED2F72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9B7-0D1D-438D-80DA-C9595D1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3BF-B18F-4854-A97E-78A38B27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9C9-4E5E-4C1A-8A09-AF50BA8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DDE-CDA1-402E-8947-9CE9C01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5C3-273F-4280-8A31-1633DB0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F07-9478-4EED-A902-53C28A3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DF3-8FFE-4E44-8C26-7D4C712F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700-89D3-4EA3-B7B9-291AF712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Jag heter Stefan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3:43Z</dcterms:modified>
  <cp:revision>63</cp:revision>
  <dc:subject/>
  <dc:title>Bild 1</dc:title>
</cp:coreProperties>
</file>