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91C0-FAC7-43B3-AA43-3DB2C7749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16A1-5720-4287-A3E0-7A99684E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6BD3-2FBC-46E2-8083-5E7BBD37E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2870-8D55-433E-9706-911371D0C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9AFC-4449-4F29-B1B0-16CE4FF9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71AD-FCE5-443D-BB37-21C14B25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0C71-B6E9-43A5-8470-74F604DD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7429-D11C-4912-BCB2-2167D516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182D-B050-45F2-8D8D-D82FF10B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E2BE-1B9D-41AE-9537-DDD90DCF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DEA1-7F66-4EE8-ABB6-1897CB52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B944-C110-40C8-B2A5-F330896F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054F-4D50-4168-9B7C-C264432B7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404640"/>
            <a:ext cx="842472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600" spc="-1" strike="noStrike">
                <a:solidFill>
                  <a:srgbClr val="333399"/>
                </a:solidFill>
                <a:latin typeface="Arial"/>
              </a:rPr>
              <a:t>Je voudrais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01:52Z</dcterms:modified>
  <cp:revision>6</cp:revision>
  <dc:subject/>
  <dc:title>Bild 1</dc:title>
</cp:coreProperties>
</file>