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1B9-FE24-4799-AD4D-67A38AEB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169-E068-484C-A81F-ADE8E177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E6D-6293-4266-9383-1B33DCE5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F20-815B-48DA-A434-15D69157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BF4-BA1D-47D7-8975-A7E70DE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154-AA3F-498E-8ACF-2CC5B784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53A-94B7-4EFE-95EB-A1D9AEE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F62-1F0A-40CD-A67B-9F5FDF11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2DB-2083-4728-803C-5D2E842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0F4-CC26-4775-B7C0-E553208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88D-2536-4499-AB3F-E2829FC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5B4-26B2-42AD-9146-BAA7158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4AC9-345D-45D9-A80A-3058DF97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vet inte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5:52Z</dcterms:modified>
  <cp:revision>72</cp:revision>
  <dc:subject/>
  <dc:title>Bild 1</dc:title>
</cp:coreProperties>
</file>