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124-EE1A-4270-9BB5-90ABD404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06C-B149-4CEB-B442-8058A36C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82B-B2BF-4C7D-BAC3-22338BA1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E79-2953-4AF4-967A-0631DD3F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105-5B69-44AC-A826-AE345DA7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562-ED08-4D6D-8A69-1AB94B4A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9E7-8109-4319-845B-B678AC83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7E6-2FD9-433F-B80E-6D5B8A76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93F-DA30-483C-8721-B5585184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C84-99C6-4243-83B2-CDF28850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2C7-A894-4515-8F5B-D9214DE9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0F0-7620-4D7D-8B4A-1ECF9ED8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F606-477A-4DCD-9C36-A715B558C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36440"/>
            <a:ext cx="8642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800" spc="-1" strike="noStrike">
                <a:solidFill>
                  <a:srgbClr val="333399"/>
                </a:solidFill>
                <a:latin typeface="Arial"/>
              </a:rPr>
              <a:t>Il fait beau</a:t>
            </a:r>
            <a:endParaRPr b="0" lang="en-US" sz="1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10:33Z</dcterms:modified>
  <cp:revision>30</cp:revision>
  <dc:subject/>
  <dc:title>Bild 1</dc:title>
</cp:coreProperties>
</file>