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0B8-8590-422C-A37F-FB0ECA1A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CAA-A892-4137-BBC3-C6C681D3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287-7C8D-4120-8531-89D05BC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584-7046-406F-B74C-19B7C56D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7FC-63DF-4753-9222-B7A5F05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20D-9EBD-451B-BEB8-1F32912E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34B-06D7-4C8C-9E3D-3A51521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1D2-02AF-447B-B31A-D6B9039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9B4-2651-4FD5-8600-8742A17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77A-913F-4603-83C6-BD889A7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334-97E8-406F-A048-32DAF43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B65-BB3E-4E37-B8BB-D305400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0EB-7E31-4249-8F7A-D862A9E72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492280"/>
            <a:ext cx="8391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Je suis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40:17Z</dcterms:modified>
  <cp:revision>40</cp:revision>
  <dc:subject/>
  <dc:title>Bild 1</dc:title>
</cp:coreProperties>
</file>