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187-62D1-42C8-934A-584E0423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C7F-1E5A-484F-B98F-A528FA6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AA9-24C0-46B0-B3E9-1A064C2A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EAE-977E-4E45-99FD-D773441E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7DE-400C-4C7B-8039-03535F4F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8F7-D563-4687-879C-1CFE02E0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630-FECD-43C6-8224-9D9FF7A6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E72-E61D-4F0E-B6C5-34757AB5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420-5D9D-4E31-A7E1-E926C77F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456-E31D-44FB-8C38-51F90530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207-B3CA-47F5-9B94-ABB5943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8E3-383C-4E1E-9A71-DC274BB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08FF-6A25-43C8-9390-6D3960823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ffffff"/>
                </a:solidFill>
                <a:latin typeface="Arial"/>
              </a:rPr>
              <a:t>Det är Maria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2:09Z</dcterms:modified>
  <cp:revision>57</cp:revision>
  <dc:subject/>
  <dc:title>Bild 1</dc:title>
</cp:coreProperties>
</file>