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F015-CE42-44D8-B93B-E43BCC5B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39AD-89D7-48F9-AB81-EDFBA8FC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47B3-C5A2-4A4D-8F06-B53509ACA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B590-0DB9-40D4-AB9B-09B315774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4D69-ED01-4A9B-8A9C-EA5ABEAD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D03C-E000-4457-8F53-C6DBC998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3DA5-F118-47A2-AF37-46606E87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7B64-396D-4246-A8A5-55326245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08AF-86E4-4EBC-9089-850915D8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DB98-595E-4ED7-BE05-1C411413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BA0A-7437-4272-B358-80F46DF8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01D4-D938-4D3F-99CA-FDA75E5C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4E62-9DF4-4BF8-99B4-AFEF6C9B6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404640"/>
            <a:ext cx="842472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600" spc="-1" strike="noStrike">
                <a:solidFill>
                  <a:srgbClr val="333399"/>
                </a:solidFill>
                <a:latin typeface="Arial"/>
              </a:rPr>
              <a:t>Je suis Suédois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01:12Z</dcterms:modified>
  <cp:revision>3</cp:revision>
  <dc:subject/>
  <dc:title>Bild 1</dc:title>
</cp:coreProperties>
</file>