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0FF1-3B82-4175-93C1-26A8C968B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B14F-B18A-4B58-84F8-0A60EA11B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0382-40B4-4554-A33C-62EBF6996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5B62-D0DC-4DEE-BEA2-CCFA79F3E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DAD4-5A2C-4F30-AE09-CCD4C5A80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B72D-EBFF-4FCA-98F7-4748E9231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5E25-3E3A-4998-A183-048FCAE4C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F025-5D37-4330-9EEF-C182F8E4F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CC9F-E516-45ED-A5CD-D4570E0F1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99BD-5126-4812-AB9C-E853066BF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5AC3-E062-4757-A8B6-45E3F8D84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DF41-6C05-4C4D-AFC0-C39FD742B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63617-98FD-4CD3-A7CD-0C9C14EF82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404640"/>
            <a:ext cx="8642160" cy="54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700" spc="-1" strike="noStrike">
                <a:solidFill>
                  <a:srgbClr val="333399"/>
                </a:solidFill>
                <a:latin typeface="Arial"/>
              </a:rPr>
              <a:t>Tu fumes?</a:t>
            </a:r>
            <a:endParaRPr b="0" lang="en-US" sz="17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 </cp:lastModifiedBy>
  <dcterms:modified xsi:type="dcterms:W3CDTF">2006-11-13T17:03:26Z</dcterms:modified>
  <cp:revision>11</cp:revision>
  <dc:subject/>
  <dc:title>Bild 1</dc:title>
</cp:coreProperties>
</file>