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F07-CD60-421B-974B-60E37344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893-8B9F-4CC6-8C81-6A49A5F1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ADD-58DA-41A1-BC70-956260BE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32B-0E74-47E4-A87D-8ADDD0CC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211-D47B-4941-9CA2-62252146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366-AFED-477C-8710-CD0B9790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401-0AB8-42C2-B038-B3301CE5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EAF-A748-40B4-87EE-15F92375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AE7-7A87-457B-9507-C83C4D0E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CE6-9CDB-4B94-B7F1-A9F6894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E5F-758F-4500-AFAC-4D4BF372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44B-1606-4E00-A92E-4B17937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476E-093B-4704-BB36-71D6D8BF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är svensk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4:55Z</dcterms:modified>
  <cp:revision>68</cp:revision>
  <dc:subject/>
  <dc:title>Bild 1</dc:title>
</cp:coreProperties>
</file>