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047-3D9D-4C8B-959B-E92CDB08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08C-4CD1-4531-8125-0F5C0635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C30-F5C1-4E09-8C3F-C7CC2B55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61E-143E-4E96-AF69-83129247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F38-D807-4030-AE0D-A2769154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8FA-2B2B-4150-9E96-BBB29C26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1955-BAE1-484E-A3D8-D035D1EA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80A-0B7C-435A-9252-FAD7F46E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ACA-A7D8-4112-A576-AD62AE66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786-6CA0-4EC3-AD55-6122AF56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60B-3359-4B20-B45C-B7B7B5F9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3FE-E7D3-4FA5-8282-1D6B6FBE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1990-CD6E-4A4B-9039-D014CEB6E09D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Lokala%20inst&#228;llningar/Temp/Tempor&#228;r%20katalog%202%20f&#246;r%20j&#233;opardy.zip/j&#233;opardy/chiff1.ppt" TargetMode="External"/><Relationship Id="rId3" Type="http://schemas.openxmlformats.org/officeDocument/2006/relationships/hyperlink" Target="file:///../../Lokala%20inst&#228;llningar/Temp/Tempor&#228;r%20katalog%202%20f&#246;r%20j&#233;opardy.zip/j&#233;opardy/quest1.ppt" TargetMode="External"/><Relationship Id="rId4" Type="http://schemas.openxmlformats.org/officeDocument/2006/relationships/hyperlink" Target="file:///../../Lokala%20inst&#228;llningar/Temp/Tempor&#228;r%20katalog%202%20f&#246;r%20j&#233;opardy.zip/j&#233;opardy/chiff1.ppt" TargetMode="External"/><Relationship Id="rId5" Type="http://schemas.openxmlformats.org/officeDocument/2006/relationships/hyperlink" Target="file:///../../Lokala%20inst&#228;llningar/Temp/Tempor&#228;r%20katalog%202%20f&#246;r%20j&#233;opardy.zip/j&#233;opardy/chiff1.ppt" TargetMode="External"/><Relationship Id="rId6" Type="http://schemas.openxmlformats.org/officeDocument/2006/relationships/hyperlink" Target="file:///../../Lokala%20inst&#228;llningar/Temp/Tempor&#228;r%20katalog%202%20f&#246;r%20j&#233;opardy.zip/j&#233;opardy/chiff1.ppt" TargetMode="External"/><Relationship Id="rId7" Type="http://schemas.openxmlformats.org/officeDocument/2006/relationships/hyperlink" Target="file:///../../Lokala%20inst&#228;llningar/Temp/Tempor&#228;r%20katalog%202%20f&#246;r%20j&#233;opardy.zip/j&#233;opardy/chiff1.ppt" TargetMode="External"/><Relationship Id="rId8" Type="http://schemas.openxmlformats.org/officeDocument/2006/relationships/hyperlink" Target="file:///../../Lokala%20inst&#228;llningar/Temp/Tempor&#228;r%20katalog%202%20f&#246;r%20j&#233;opardy.zip/j&#233;opardy/chiff1.ppt" TargetMode="External"/><Relationship Id="rId9" Type="http://schemas.openxmlformats.org/officeDocument/2006/relationships/hyperlink" Target="file:///../../Lokala%20inst&#228;llningar/Temp/Tempor&#228;r%20katalog%202%20f&#246;r%20j&#233;opardy.zip/j&#233;opardy/quest1.ppt" TargetMode="External"/><Relationship Id="rId10" Type="http://schemas.openxmlformats.org/officeDocument/2006/relationships/hyperlink" Target="file:///../../Lokala%20inst&#228;llningar/Temp/Tempor&#228;r%20katalog%202%20f&#246;r%20j&#233;opardy.zip/j&#233;opardy/chiff1.ppt" TargetMode="External"/><Relationship Id="rId11" Type="http://schemas.openxmlformats.org/officeDocument/2006/relationships/hyperlink" Target="file:///../../Lokala%20inst&#228;llningar/Temp/Tempor&#228;r%20katalog%202%20f&#246;r%20j&#233;opardy.zip/j&#233;opardy/quest1.ppt" TargetMode="External"/><Relationship Id="rId12" Type="http://schemas.openxmlformats.org/officeDocument/2006/relationships/hyperlink" Target="file:///../../Lokala%20inst&#228;llningar/Temp/Tempor&#228;r%20katalog%202%20f&#246;r%20j&#233;opardy.zip/j&#233;opardy/chiff1.ppt" TargetMode="External"/><Relationship Id="rId13" Type="http://schemas.openxmlformats.org/officeDocument/2006/relationships/hyperlink" Target="file:///../../Lokala%20inst&#228;llningar/Temp/Tempor&#228;r%20katalog%202%20f&#246;r%20j&#233;opardy.zip/j&#233;opardy/chiff1.ppt" TargetMode="External"/><Relationship Id="rId14" Type="http://schemas.openxmlformats.org/officeDocument/2006/relationships/hyperlink" Target="file:///../../Lokala%20inst&#228;llningar/Temp/Tempor&#228;r%20katalog%202%20f&#246;r%20j&#233;opardy.zip/j&#233;opardy/chiff1.ppt" TargetMode="External"/><Relationship Id="rId15" Type="http://schemas.openxmlformats.org/officeDocument/2006/relationships/hyperlink" Target="file:///../../Lokala%20inst&#228;llningar/Temp/Tempor&#228;r%20katalog%202%20f&#246;r%20j&#233;opardy.zip/j&#233;opardy/chiff1.ppt" TargetMode="External"/><Relationship Id="rId16" Type="http://schemas.openxmlformats.org/officeDocument/2006/relationships/hyperlink" Target="file:///../../Lokala%20inst&#228;llningar/Temp/Tempor&#228;r%20katalog%202%20f&#246;r%20j&#233;opardy.zip/j&#233;opardy/chiff1.ppt" TargetMode="External"/><Relationship Id="rId17" Type="http://schemas.openxmlformats.org/officeDocument/2006/relationships/hyperlink" Target="file:///../../Lokala%20inst&#228;llningar/Temp/Tempor&#228;r%20katalog%202%20f&#246;r%20j&#233;opardy.zip/j&#233;opardy/quest1.ppt" TargetMode="External"/><Relationship Id="rId18" Type="http://schemas.openxmlformats.org/officeDocument/2006/relationships/hyperlink" Target="file:///../../Lokala%20inst&#228;llningar/Temp/Tempor&#228;r%20katalog%202%20f&#246;r%20j&#233;opardy.zip/j&#233;opardy/chiff1.ppt" TargetMode="External"/><Relationship Id="rId19" Type="http://schemas.openxmlformats.org/officeDocument/2006/relationships/hyperlink" Target="file:///../../Lokala%20inst&#228;llningar/Temp/Tempor&#228;r%20katalog%202%20f&#246;r%20j&#233;opardy.zip/j&#233;opardy/quest1.ppt" TargetMode="External"/><Relationship Id="rId20" Type="http://schemas.openxmlformats.org/officeDocument/2006/relationships/hyperlink" Target="file:///../../Lokala%20inst&#228;llningar/Temp/Tempor&#228;r%20katalog%202%20f&#246;r%20j&#233;opardy.zip/j&#233;opardy/chiff1.ppt" TargetMode="External"/><Relationship Id="rId21" Type="http://schemas.openxmlformats.org/officeDocument/2006/relationships/hyperlink" Target="file:///../../Lokala%20inst&#228;llningar/Temp/Tempor&#228;r%20katalog%202%20f&#246;r%20j&#233;opardy.zip/j&#233;opardy/chiff1.ppt" TargetMode="External"/><Relationship Id="rId22" Type="http://schemas.openxmlformats.org/officeDocument/2006/relationships/hyperlink" Target="file:///../../Lokala%20inst&#228;llningar/Temp/Tempor&#228;r%20katalog%202%20f&#246;r%20j&#233;opardy.zip/j&#233;opardy/chiff1.ppt" TargetMode="External"/><Relationship Id="rId23" Type="http://schemas.openxmlformats.org/officeDocument/2006/relationships/hyperlink" Target="file:///../../Lokala%20inst&#228;llningar/Temp/Tempor&#228;r%20katalog%202%20f&#246;r%20j&#233;opardy.zip/j&#233;opardy/chiff1.ppt" TargetMode="External"/><Relationship Id="rId24" Type="http://schemas.openxmlformats.org/officeDocument/2006/relationships/hyperlink" Target="file:///../../Lokala%20inst&#228;llningar/Temp/Tempor&#228;r%20katalog%202%20f&#246;r%20j&#233;opardy.zip/j&#233;opardy/chiff1.ppt" TargetMode="External"/><Relationship Id="rId25" Type="http://schemas.openxmlformats.org/officeDocument/2006/relationships/hyperlink" Target="file:///../../Lokala%20inst&#228;llningar/Temp/Tempor&#228;r%20katalog%202%20f&#246;r%20j&#233;opardy.zip/j&#233;opardy/quest1.ppt" TargetMode="External"/><Relationship Id="rId26" Type="http://schemas.openxmlformats.org/officeDocument/2006/relationships/hyperlink" Target="file:///../../Lokala%20inst&#228;llningar/Temp/Tempor&#228;r%20katalog%202%20f&#246;r%20j&#233;opardy.zip/j&#233;opardy/chiff1.ppt" TargetMode="External"/><Relationship Id="rId27" Type="http://schemas.openxmlformats.org/officeDocument/2006/relationships/hyperlink" Target="file:///../../Lokala%20inst&#228;llningar/Temp/Tempor&#228;r%20katalog%202%20f&#246;r%20j&#233;opardy.zip/j&#233;opardy/quest1.ppt" TargetMode="External"/><Relationship Id="rId28" Type="http://schemas.openxmlformats.org/officeDocument/2006/relationships/hyperlink" Target="file:///../../Lokala%20inst&#228;llningar/Temp/Tempor&#228;r%20katalog%202%20f&#246;r%20j&#233;opardy.zip/j&#233;opardy/chiff1.ppt" TargetMode="External"/><Relationship Id="rId29" Type="http://schemas.openxmlformats.org/officeDocument/2006/relationships/hyperlink" Target="file:///../../Lokala%20inst&#228;llningar/Temp/Tempor&#228;r%20katalog%202%20f&#246;r%20j&#233;opardy.zip/j&#233;opardy/chiff1.ppt" TargetMode="External"/><Relationship Id="rId30" Type="http://schemas.openxmlformats.org/officeDocument/2006/relationships/hyperlink" Target="file:///../../Lokala%20inst&#228;llningar/Temp/Tempor&#228;r%20katalog%202%20f&#246;r%20j&#233;opardy.zip/j&#233;opardy/chiff1.ppt" TargetMode="External"/><Relationship Id="rId31" Type="http://schemas.openxmlformats.org/officeDocument/2006/relationships/hyperlink" Target="file:///../../Lokala%20inst&#228;llningar/Temp/Tempor&#228;r%20katalog%202%20f&#246;r%20j&#233;opardy.zip/j&#233;opardy/chiff1.ppt" TargetMode="External"/><Relationship Id="rId32" Type="http://schemas.openxmlformats.org/officeDocument/2006/relationships/hyperlink" Target="file:///../../Lokala%20inst&#228;llningar/Temp/Tempor&#228;r%20katalog%202%20f&#246;r%20j&#233;opardy.zip/j&#233;opardy/chiff1.ppt" TargetMode="External"/><Relationship Id="rId33" Type="http://schemas.openxmlformats.org/officeDocument/2006/relationships/hyperlink" Target="file:///../../Lokala%20inst&#228;llningar/Temp/Tempor&#228;r%20katalog%202%20f&#246;r%20j&#233;opardy.zip/j&#233;opardy/quest1.ppt" TargetMode="External"/><Relationship Id="rId34" Type="http://schemas.openxmlformats.org/officeDocument/2006/relationships/hyperlink" Target="file:///../../Lokala%20inst&#228;llningar/Temp/Tempor&#228;r%20katalog%202%20f&#246;r%20j&#233;opardy.zip/j&#233;opardy/chiff1.ppt" TargetMode="External"/><Relationship Id="rId35" Type="http://schemas.openxmlformats.org/officeDocument/2006/relationships/hyperlink" Target="file:///../../Lokala%20inst&#228;llningar/Temp/Tempor&#228;r%20katalog%202%20f&#246;r%20j&#233;opardy.zip/j&#233;opardy/quest1.ppt" TargetMode="External"/><Relationship Id="rId36" Type="http://schemas.openxmlformats.org/officeDocument/2006/relationships/hyperlink" Target="file:///../../Lokala%20inst&#228;llningar/Temp/Tempor&#228;r%20katalog%202%20f&#246;r%20j&#233;opardy.zip/j&#233;opardy/chiff1.ppt" TargetMode="External"/><Relationship Id="rId37" Type="http://schemas.openxmlformats.org/officeDocument/2006/relationships/hyperlink" Target="file:///../../Lokala%20inst&#228;llningar/Temp/Tempor&#228;r%20katalog%202%20f&#246;r%20j&#233;opardy.zip/j&#233;opardy/chiff1.ppt" TargetMode="External"/><Relationship Id="rId38" Type="http://schemas.openxmlformats.org/officeDocument/2006/relationships/hyperlink" Target="file:///../../Lokala%20inst&#228;llningar/Temp/Tempor&#228;r%20katalog%202%20f&#246;r%20j&#233;opardy.zip/j&#233;opardy/chiff1.ppt" TargetMode="External"/><Relationship Id="rId39" Type="http://schemas.openxmlformats.org/officeDocument/2006/relationships/hyperlink" Target="file:///../../Lokala%20inst&#228;llningar/Temp/Tempor&#228;r%20katalog%202%20f&#246;r%20j&#233;opardy.zip/j&#233;opardy/chiff1.ppt" TargetMode="External"/><Relationship Id="rId40" Type="http://schemas.openxmlformats.org/officeDocument/2006/relationships/hyperlink" Target="file:///../../Lokala%20inst&#228;llningar/Temp/Tempor&#228;r%20katalog%202%20f&#246;r%20j&#233;opardy.zip/j&#233;opardy/chiff1.ppt" TargetMode="External"/><Relationship Id="rId41" Type="http://schemas.openxmlformats.org/officeDocument/2006/relationships/hyperlink" Target="file:///../../Lokala%20inst&#228;llningar/Temp/Tempor&#228;r%20katalog%202%20f&#246;r%20j&#233;opardy.zip/j&#233;opardy/quest1.ppt" TargetMode="External"/><Relationship Id="rId42" Type="http://schemas.openxmlformats.org/officeDocument/2006/relationships/hyperlink" Target="file:///../../Lokala%20inst&#228;llningar/Temp/Tempor&#228;r%20katalog%202%20f&#246;r%20j&#233;opardy.zip/j&#233;opardy/chiff1.ppt" TargetMode="External"/><Relationship Id="rId43" Type="http://schemas.openxmlformats.org/officeDocument/2006/relationships/hyperlink" Target="file:///../../Lokala%20inst&#228;llningar/Temp/Tempor&#228;r%20katalog%202%20f&#246;r%20j&#233;opardy.zip/j&#233;opardy/quest1.ppt" TargetMode="External"/><Relationship Id="rId44" Type="http://schemas.openxmlformats.org/officeDocument/2006/relationships/hyperlink" Target="file:///../../Lokala%20inst&#228;llningar/Temp/Tempor&#228;r%20katalog%202%20f&#246;r%20j&#233;opardy.zip/j&#233;opardy/chiff1.ppt" TargetMode="External"/><Relationship Id="rId45" Type="http://schemas.openxmlformats.org/officeDocument/2006/relationships/hyperlink" Target="file:///../../Lokala%20inst&#228;llningar/Temp/Tempor&#228;r%20katalog%202%20f&#246;r%20j&#233;opardy.zip/j&#233;opardy/chiff1.ppt" TargetMode="External"/><Relationship Id="rId46" Type="http://schemas.openxmlformats.org/officeDocument/2006/relationships/hyperlink" Target="file:///../../Lokala%20inst&#228;llningar/Temp/Tempor&#228;r%20katalog%202%20f&#246;r%20j&#233;opardy.zip/j&#233;opardy/chiff1.ppt" TargetMode="External"/><Relationship Id="rId47" Type="http://schemas.openxmlformats.org/officeDocument/2006/relationships/hyperlink" Target="file:///../../Lokala%20inst&#228;llningar/Temp/Tempor&#228;r%20katalog%202%20f&#246;r%20j&#233;opardy.zip/j&#233;opardy/chiff1.ppt" TargetMode="External"/><Relationship Id="rId48" Type="http://schemas.openxmlformats.org/officeDocument/2006/relationships/hyperlink" Target="file:///../../Lokala%20inst&#228;llningar/Temp/Tempor&#228;r%20katalog%202%20f&#246;r%20j&#233;opardy.zip/j&#233;opardy/chiff1.ppt" TargetMode="External"/><Relationship Id="rId49" Type="http://schemas.openxmlformats.org/officeDocument/2006/relationships/hyperlink" Target="file:///../../Lokala%20inst&#228;llningar/Temp/Tempor&#228;r%20katalog%202%20f&#246;r%20j&#233;opardy.zip/j&#233;opardy/quest1.ppt" TargetMode="External"/><Relationship Id="rId50" Type="http://schemas.openxmlformats.org/officeDocument/2006/relationships/hyperlink" Target="file:///../../Lokala%20inst&#228;llningar/Temp/Tempor&#228;r%20katalog%202%20f&#246;r%20j&#233;opardy.zip/j&#233;opardy/chiff1.ppt" TargetMode="External"/><Relationship Id="rId51" Type="http://schemas.openxmlformats.org/officeDocument/2006/relationships/hyperlink" Target="file:///../../Lokala%20inst&#228;llningar/Temp/Tempor&#228;r%20katalog%202%20f&#246;r%20j&#233;opardy.zip/j&#233;opardy/quest1.ppt" TargetMode="External"/><Relationship Id="rId52" Type="http://schemas.openxmlformats.org/officeDocument/2006/relationships/hyperlink" Target="file:///../../Lokala%20inst&#228;llningar/Temp/Tempor&#228;r%20katalog%202%20f&#246;r%20j&#233;opardy.zip/j&#233;opardy/chiff1.ppt" TargetMode="External"/><Relationship Id="rId53" Type="http://schemas.openxmlformats.org/officeDocument/2006/relationships/hyperlink" Target="file:///../../Lokala%20inst&#228;llningar/Temp/Tempor&#228;r%20katalog%202%20f&#246;r%20j&#233;opardy.zip/j&#233;opardy/chiff1.ppt" TargetMode="External"/><Relationship Id="rId54" Type="http://schemas.openxmlformats.org/officeDocument/2006/relationships/hyperlink" Target="file:///../../Lokala%20inst&#228;llningar/Temp/Tempor&#228;r%20katalog%202%20f&#246;r%20j&#233;opardy.zip/j&#233;opardy/chiff1.ppt" TargetMode="External"/><Relationship Id="rId55" Type="http://schemas.openxmlformats.org/officeDocument/2006/relationships/hyperlink" Target="file:///../../Lokala%20inst&#228;llningar/Temp/Tempor&#228;r%20katalog%202%20f&#246;r%20j&#233;opardy.zip/j&#233;opardy/chiff1.ppt" TargetMode="External"/><Relationship Id="rId56" Type="http://schemas.openxmlformats.org/officeDocument/2006/relationships/hyperlink" Target="file:///../../Lokala%20inst&#228;llningar/Temp/Tempor&#228;r%20katalog%202%20f&#246;r%20j&#233;opardy.zip/j&#233;opardy/chiff1.ppt" TargetMode="External"/><Relationship Id="rId57" Type="http://schemas.openxmlformats.org/officeDocument/2006/relationships/hyperlink" Target="file:///../../Lokala%20inst&#228;llningar/Temp/Tempor&#228;r%20katalog%202%20f&#246;r%20j&#233;opardy.zip/j&#233;opardy/quest1.ppt" TargetMode="External"/><Relationship Id="rId58" Type="http://schemas.openxmlformats.org/officeDocument/2006/relationships/hyperlink" Target="file:///../../Lokala%20inst&#228;llningar/Temp/Tempor&#228;r%20katalog%202%20f&#246;r%20j&#233;opardy.zip/j&#233;opardy/chiff1.ppt" TargetMode="External"/><Relationship Id="rId59" Type="http://schemas.openxmlformats.org/officeDocument/2006/relationships/hyperlink" Target="file:///../../Lokala%20inst&#228;llningar/Temp/Tempor&#228;r%20katalog%202%20f&#246;r%20j&#233;opardy.zip/j&#233;opardy/quest1.ppt" TargetMode="External"/><Relationship Id="rId60" Type="http://schemas.openxmlformats.org/officeDocument/2006/relationships/hyperlink" Target="file:///../../Lokala%20inst&#228;llningar/Temp/Tempor&#228;r%20katalog%202%20f&#246;r%20j&#233;opardy.zip/j&#233;opardy/chiff1.ppt" TargetMode="External"/><Relationship Id="rId61" Type="http://schemas.openxmlformats.org/officeDocument/2006/relationships/hyperlink" Target="file:///../../Lokala%20inst&#228;llningar/Temp/Tempor&#228;r%20katalog%202%20f&#246;r%20j&#233;opardy.zip/j&#233;opardy/chiff1.ppt" TargetMode="External"/><Relationship Id="rId62" Type="http://schemas.openxmlformats.org/officeDocument/2006/relationships/hyperlink" Target="file:///../../Lokala%20inst&#228;llningar/Temp/Tempor&#228;r%20katalog%202%20f&#246;r%20j&#233;opardy.zip/j&#233;opardy/chiff1.ppt" TargetMode="External"/><Relationship Id="rId63" Type="http://schemas.openxmlformats.org/officeDocument/2006/relationships/hyperlink" Target="file:///../../Lokala%20inst&#228;llningar/Temp/Tempor&#228;r%20katalog%202%20f&#246;r%20j&#233;opardy.zip/j&#233;opardy/chiff1.ppt" TargetMode="External"/><Relationship Id="rId64" Type="http://schemas.openxmlformats.org/officeDocument/2006/relationships/hyperlink" Target="file:///../../Lokala%20inst&#228;llningar/Temp/Tempor&#228;r%20katalog%202%20f&#246;r%20j&#233;opardy.zip/j&#233;opardy/chiff1.ppt" TargetMode="External"/><Relationship Id="rId65" Type="http://schemas.openxmlformats.org/officeDocument/2006/relationships/hyperlink" Target="file:///../../Lokala%20inst&#228;llningar/Temp/Tempor&#228;r%20katalog%202%20f&#246;r%20j&#233;opardy.zip/j&#233;opardy/quest1.ppt" TargetMode="External"/><Relationship Id="rId66" Type="http://schemas.openxmlformats.org/officeDocument/2006/relationships/hyperlink" Target="file:///../../Lokala%20inst&#228;llningar/Temp/Tempor&#228;r%20katalog%202%20f&#246;r%20j&#233;opardy.zip/j&#233;opardy/chiff1.ppt" TargetMode="External"/><Relationship Id="rId67" Type="http://schemas.openxmlformats.org/officeDocument/2006/relationships/hyperlink" Target="file:///../../Lokala%20inst&#228;llningar/Temp/Tempor&#228;r%20katalog%202%20f&#246;r%20j&#233;opardy.zip/j&#233;opardy/quest1.ppt" TargetMode="External"/><Relationship Id="rId68" Type="http://schemas.openxmlformats.org/officeDocument/2006/relationships/hyperlink" Target="file:///../../Lokala%20inst&#228;llningar/Temp/Tempor&#228;r%20katalog%202%20f&#246;r%20j&#233;opardy.zip/j&#233;opardy/chiff1.ppt" TargetMode="External"/><Relationship Id="rId69" Type="http://schemas.openxmlformats.org/officeDocument/2006/relationships/hyperlink" Target="file:///../../Lokala%20inst&#228;llningar/Temp/Tempor&#228;r%20katalog%202%20f&#246;r%20j&#233;opardy.zip/j&#233;opardy/chiff1.ppt" TargetMode="External"/><Relationship Id="rId70" Type="http://schemas.openxmlformats.org/officeDocument/2006/relationships/hyperlink" Target="file:///../../Lokala%20inst&#228;llningar/Temp/Tempor&#228;r%20katalog%202%20f&#246;r%20j&#233;opardy.zip/j&#233;opardy/chiff1.ppt" TargetMode="External"/><Relationship Id="rId71" Type="http://schemas.openxmlformats.org/officeDocument/2006/relationships/hyperlink" Target="file:///../../Lokala%20inst&#228;llningar/Temp/Tempor&#228;r%20katalog%202%20f&#246;r%20j&#233;opardy.zip/j&#233;opardy/chiff1.ppt" TargetMode="External"/><Relationship Id="rId72" Type="http://schemas.openxmlformats.org/officeDocument/2006/relationships/hyperlink" Target="file:///../../Lokala%20inst&#228;llningar/Temp/Tempor&#228;r%20katalog%202%20f&#246;r%20j&#233;opardy.zip/j&#233;opardy/chiff1.ppt" TargetMode="External"/><Relationship Id="rId73" Type="http://schemas.openxmlformats.org/officeDocument/2006/relationships/hyperlink" Target="file:///../../Lokala%20inst&#228;llningar/Temp/Tempor&#228;r%20katalog%202%20f&#246;r%20j&#233;opardy.zip/j&#233;opardy/quest1.ppt" TargetMode="External"/><Relationship Id="rId74" Type="http://schemas.openxmlformats.org/officeDocument/2006/relationships/hyperlink" Target="file:///../../Lokala%20inst&#228;llningar/Temp/Tempor&#228;r%20katalog%202%20f&#246;r%20j&#233;opardy.zip/j&#233;opardy/chiff1.ppt" TargetMode="External"/><Relationship Id="rId75" Type="http://schemas.openxmlformats.org/officeDocument/2006/relationships/hyperlink" Target="file:///../../Lokala%20inst&#228;llningar/Temp/Tempor&#228;r%20katalog%202%20f&#246;r%20j&#233;opardy.zip/j&#233;opardy/chiff1.ppt" TargetMode="External"/><Relationship Id="rId76" Type="http://schemas.openxmlformats.org/officeDocument/2006/relationships/hyperlink" Target="file:///../../Lokala%20inst&#228;llningar/Temp/Tempor&#228;r%20katalog%202%20f&#246;r%20j&#233;opardy.zip/j&#233;opardy/chiff1.ppt" TargetMode="External"/><Relationship Id="rId77" Type="http://schemas.openxmlformats.org/officeDocument/2006/relationships/hyperlink" Target="file:///../../Lokala%20inst&#228;llningar/Temp/Tempor&#228;r%20katalog%202%20f&#246;r%20j&#233;opardy.zip/j&#233;opardy/chiff1.ppt" TargetMode="External"/><Relationship Id="rId78" Type="http://schemas.openxmlformats.org/officeDocument/2006/relationships/hyperlink" Target="file:///../../Lokala%20inst&#228;llningar/Temp/Tempor&#228;r%20katalog%202%20f&#246;r%20j&#233;opardy.zip/j&#233;opardy/chiff1.ppt" TargetMode="External"/><Relationship Id="rId79" Type="http://schemas.openxmlformats.org/officeDocument/2006/relationships/hyperlink" Target="file:///../../Lokala%20inst&#228;llningar/Temp/Tempor&#228;r%20katalog%202%20f&#246;r%20j&#233;opardy.zip/j&#233;opardy/quest1.ppt" TargetMode="External"/><Relationship Id="rId8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6012000" y="40464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948360" y="40464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/>
          </p:cNvPr>
          <p:cNvSpPr/>
          <p:nvPr/>
        </p:nvSpPr>
        <p:spPr>
          <a:xfrm>
            <a:off x="250920" y="404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/>
          </p:cNvPr>
          <p:cNvSpPr/>
          <p:nvPr/>
        </p:nvSpPr>
        <p:spPr>
          <a:xfrm>
            <a:off x="4932360" y="40464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/>
          </p:cNvPr>
          <p:cNvSpPr/>
          <p:nvPr/>
        </p:nvSpPr>
        <p:spPr>
          <a:xfrm>
            <a:off x="3780000" y="40464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/>
          </p:cNvPr>
          <p:cNvSpPr/>
          <p:nvPr/>
        </p:nvSpPr>
        <p:spPr>
          <a:xfrm>
            <a:off x="2627280" y="404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/>
          </p:cNvPr>
          <p:cNvSpPr/>
          <p:nvPr/>
        </p:nvSpPr>
        <p:spPr>
          <a:xfrm>
            <a:off x="1403280" y="404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/>
          </p:cNvPr>
          <p:cNvSpPr/>
          <p:nvPr/>
        </p:nvSpPr>
        <p:spPr>
          <a:xfrm>
            <a:off x="8028000" y="40464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/>
          </p:cNvPr>
          <p:cNvSpPr/>
          <p:nvPr/>
        </p:nvSpPr>
        <p:spPr>
          <a:xfrm>
            <a:off x="6012000" y="105264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1"/>
          </p:cNvPr>
          <p:cNvSpPr/>
          <p:nvPr/>
        </p:nvSpPr>
        <p:spPr>
          <a:xfrm>
            <a:off x="6948360" y="105264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2"/>
          </p:cNvPr>
          <p:cNvSpPr/>
          <p:nvPr/>
        </p:nvSpPr>
        <p:spPr>
          <a:xfrm>
            <a:off x="250920" y="1052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3"/>
          </p:cNvPr>
          <p:cNvSpPr/>
          <p:nvPr/>
        </p:nvSpPr>
        <p:spPr>
          <a:xfrm>
            <a:off x="4932360" y="105264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4"/>
          </p:cNvPr>
          <p:cNvSpPr/>
          <p:nvPr/>
        </p:nvSpPr>
        <p:spPr>
          <a:xfrm>
            <a:off x="3780000" y="105264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5"/>
          </p:cNvPr>
          <p:cNvSpPr/>
          <p:nvPr/>
        </p:nvSpPr>
        <p:spPr>
          <a:xfrm>
            <a:off x="2627280" y="1052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6"/>
          </p:cNvPr>
          <p:cNvSpPr/>
          <p:nvPr/>
        </p:nvSpPr>
        <p:spPr>
          <a:xfrm>
            <a:off x="1403280" y="1052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7"/>
          </p:cNvPr>
          <p:cNvSpPr/>
          <p:nvPr/>
        </p:nvSpPr>
        <p:spPr>
          <a:xfrm>
            <a:off x="8028000" y="105264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8"/>
          </p:cNvPr>
          <p:cNvSpPr/>
          <p:nvPr/>
        </p:nvSpPr>
        <p:spPr>
          <a:xfrm>
            <a:off x="6012000" y="1700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9"/>
          </p:cNvPr>
          <p:cNvSpPr/>
          <p:nvPr/>
        </p:nvSpPr>
        <p:spPr>
          <a:xfrm>
            <a:off x="6948360" y="1700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0"/>
          </p:cNvPr>
          <p:cNvSpPr/>
          <p:nvPr/>
        </p:nvSpPr>
        <p:spPr>
          <a:xfrm>
            <a:off x="250920" y="1700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1"/>
          </p:cNvPr>
          <p:cNvSpPr/>
          <p:nvPr/>
        </p:nvSpPr>
        <p:spPr>
          <a:xfrm>
            <a:off x="4932360" y="1700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2"/>
          </p:cNvPr>
          <p:cNvSpPr/>
          <p:nvPr/>
        </p:nvSpPr>
        <p:spPr>
          <a:xfrm>
            <a:off x="3780000" y="1700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3"/>
          </p:cNvPr>
          <p:cNvSpPr/>
          <p:nvPr/>
        </p:nvSpPr>
        <p:spPr>
          <a:xfrm>
            <a:off x="2627280" y="1700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4"/>
          </p:cNvPr>
          <p:cNvSpPr/>
          <p:nvPr/>
        </p:nvSpPr>
        <p:spPr>
          <a:xfrm>
            <a:off x="1403280" y="1700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5"/>
          </p:cNvPr>
          <p:cNvSpPr/>
          <p:nvPr/>
        </p:nvSpPr>
        <p:spPr>
          <a:xfrm>
            <a:off x="8028000" y="1700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6"/>
          </p:cNvPr>
          <p:cNvSpPr/>
          <p:nvPr/>
        </p:nvSpPr>
        <p:spPr>
          <a:xfrm>
            <a:off x="6012000" y="2349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7"/>
          </p:cNvPr>
          <p:cNvSpPr/>
          <p:nvPr/>
        </p:nvSpPr>
        <p:spPr>
          <a:xfrm>
            <a:off x="6948360" y="2349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8"/>
          </p:cNvPr>
          <p:cNvSpPr/>
          <p:nvPr/>
        </p:nvSpPr>
        <p:spPr>
          <a:xfrm>
            <a:off x="250920" y="2349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9"/>
          </p:cNvPr>
          <p:cNvSpPr/>
          <p:nvPr/>
        </p:nvSpPr>
        <p:spPr>
          <a:xfrm>
            <a:off x="4932360" y="2349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30"/>
          </p:cNvPr>
          <p:cNvSpPr/>
          <p:nvPr/>
        </p:nvSpPr>
        <p:spPr>
          <a:xfrm>
            <a:off x="3780000" y="2349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31"/>
          </p:cNvPr>
          <p:cNvSpPr/>
          <p:nvPr/>
        </p:nvSpPr>
        <p:spPr>
          <a:xfrm>
            <a:off x="2627280" y="2349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32"/>
          </p:cNvPr>
          <p:cNvSpPr/>
          <p:nvPr/>
        </p:nvSpPr>
        <p:spPr>
          <a:xfrm>
            <a:off x="1403280" y="2349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3"/>
          </p:cNvPr>
          <p:cNvSpPr/>
          <p:nvPr/>
        </p:nvSpPr>
        <p:spPr>
          <a:xfrm>
            <a:off x="8028000" y="2349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4"/>
          </p:cNvPr>
          <p:cNvSpPr/>
          <p:nvPr/>
        </p:nvSpPr>
        <p:spPr>
          <a:xfrm>
            <a:off x="6012000" y="2924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5"/>
          </p:cNvPr>
          <p:cNvSpPr/>
          <p:nvPr/>
        </p:nvSpPr>
        <p:spPr>
          <a:xfrm>
            <a:off x="6948360" y="2924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6"/>
          </p:cNvPr>
          <p:cNvSpPr/>
          <p:nvPr/>
        </p:nvSpPr>
        <p:spPr>
          <a:xfrm>
            <a:off x="250920" y="2924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7"/>
          </p:cNvPr>
          <p:cNvSpPr/>
          <p:nvPr/>
        </p:nvSpPr>
        <p:spPr>
          <a:xfrm>
            <a:off x="4932360" y="2924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8"/>
          </p:cNvPr>
          <p:cNvSpPr/>
          <p:nvPr/>
        </p:nvSpPr>
        <p:spPr>
          <a:xfrm>
            <a:off x="3780000" y="2924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9"/>
          </p:cNvPr>
          <p:cNvSpPr/>
          <p:nvPr/>
        </p:nvSpPr>
        <p:spPr>
          <a:xfrm>
            <a:off x="2627280" y="2924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40"/>
          </p:cNvPr>
          <p:cNvSpPr/>
          <p:nvPr/>
        </p:nvSpPr>
        <p:spPr>
          <a:xfrm>
            <a:off x="1403280" y="2924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41"/>
          </p:cNvPr>
          <p:cNvSpPr/>
          <p:nvPr/>
        </p:nvSpPr>
        <p:spPr>
          <a:xfrm>
            <a:off x="8028000" y="2924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2"/>
          </p:cNvPr>
          <p:cNvSpPr/>
          <p:nvPr/>
        </p:nvSpPr>
        <p:spPr>
          <a:xfrm>
            <a:off x="6012000" y="3573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43"/>
          </p:cNvPr>
          <p:cNvSpPr/>
          <p:nvPr/>
        </p:nvSpPr>
        <p:spPr>
          <a:xfrm>
            <a:off x="6948360" y="3573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44"/>
          </p:cNvPr>
          <p:cNvSpPr/>
          <p:nvPr/>
        </p:nvSpPr>
        <p:spPr>
          <a:xfrm>
            <a:off x="250920" y="3573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45"/>
          </p:cNvPr>
          <p:cNvSpPr/>
          <p:nvPr/>
        </p:nvSpPr>
        <p:spPr>
          <a:xfrm>
            <a:off x="4932360" y="3573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6"/>
          </p:cNvPr>
          <p:cNvSpPr/>
          <p:nvPr/>
        </p:nvSpPr>
        <p:spPr>
          <a:xfrm>
            <a:off x="3780000" y="3573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7"/>
          </p:cNvPr>
          <p:cNvSpPr/>
          <p:nvPr/>
        </p:nvSpPr>
        <p:spPr>
          <a:xfrm>
            <a:off x="2627280" y="3573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8"/>
          </p:cNvPr>
          <p:cNvSpPr/>
          <p:nvPr/>
        </p:nvSpPr>
        <p:spPr>
          <a:xfrm>
            <a:off x="1403280" y="3573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49"/>
          </p:cNvPr>
          <p:cNvSpPr/>
          <p:nvPr/>
        </p:nvSpPr>
        <p:spPr>
          <a:xfrm>
            <a:off x="8028000" y="3573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50"/>
          </p:cNvPr>
          <p:cNvSpPr/>
          <p:nvPr/>
        </p:nvSpPr>
        <p:spPr>
          <a:xfrm>
            <a:off x="6012000" y="422100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51"/>
          </p:cNvPr>
          <p:cNvSpPr/>
          <p:nvPr/>
        </p:nvSpPr>
        <p:spPr>
          <a:xfrm>
            <a:off x="6948360" y="422100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52"/>
          </p:cNvPr>
          <p:cNvSpPr/>
          <p:nvPr/>
        </p:nvSpPr>
        <p:spPr>
          <a:xfrm>
            <a:off x="250920" y="422100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53"/>
          </p:cNvPr>
          <p:cNvSpPr/>
          <p:nvPr/>
        </p:nvSpPr>
        <p:spPr>
          <a:xfrm>
            <a:off x="4932360" y="422100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54"/>
          </p:cNvPr>
          <p:cNvSpPr/>
          <p:nvPr/>
        </p:nvSpPr>
        <p:spPr>
          <a:xfrm>
            <a:off x="3780000" y="422100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55"/>
          </p:cNvPr>
          <p:cNvSpPr/>
          <p:nvPr/>
        </p:nvSpPr>
        <p:spPr>
          <a:xfrm>
            <a:off x="2627280" y="422100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6"/>
          </p:cNvPr>
          <p:cNvSpPr/>
          <p:nvPr/>
        </p:nvSpPr>
        <p:spPr>
          <a:xfrm>
            <a:off x="1403280" y="422100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57"/>
          </p:cNvPr>
          <p:cNvSpPr/>
          <p:nvPr/>
        </p:nvSpPr>
        <p:spPr>
          <a:xfrm>
            <a:off x="8028000" y="422100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8"/>
          </p:cNvPr>
          <p:cNvSpPr/>
          <p:nvPr/>
        </p:nvSpPr>
        <p:spPr>
          <a:xfrm>
            <a:off x="6012000" y="4797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59"/>
          </p:cNvPr>
          <p:cNvSpPr/>
          <p:nvPr/>
        </p:nvSpPr>
        <p:spPr>
          <a:xfrm>
            <a:off x="6948360" y="4797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60"/>
          </p:cNvPr>
          <p:cNvSpPr/>
          <p:nvPr/>
        </p:nvSpPr>
        <p:spPr>
          <a:xfrm>
            <a:off x="250920" y="4797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61"/>
          </p:cNvPr>
          <p:cNvSpPr/>
          <p:nvPr/>
        </p:nvSpPr>
        <p:spPr>
          <a:xfrm>
            <a:off x="4932360" y="4797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62"/>
          </p:cNvPr>
          <p:cNvSpPr/>
          <p:nvPr/>
        </p:nvSpPr>
        <p:spPr>
          <a:xfrm>
            <a:off x="3780000" y="4797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63"/>
          </p:cNvPr>
          <p:cNvSpPr/>
          <p:nvPr/>
        </p:nvSpPr>
        <p:spPr>
          <a:xfrm>
            <a:off x="2627280" y="4797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64"/>
          </p:cNvPr>
          <p:cNvSpPr/>
          <p:nvPr/>
        </p:nvSpPr>
        <p:spPr>
          <a:xfrm>
            <a:off x="1403280" y="4797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65"/>
          </p:cNvPr>
          <p:cNvSpPr/>
          <p:nvPr/>
        </p:nvSpPr>
        <p:spPr>
          <a:xfrm>
            <a:off x="8028000" y="4797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66"/>
          </p:cNvPr>
          <p:cNvSpPr/>
          <p:nvPr/>
        </p:nvSpPr>
        <p:spPr>
          <a:xfrm>
            <a:off x="6012000" y="537372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7"/>
          </p:cNvPr>
          <p:cNvSpPr/>
          <p:nvPr/>
        </p:nvSpPr>
        <p:spPr>
          <a:xfrm>
            <a:off x="6948360" y="537372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8"/>
          </p:cNvPr>
          <p:cNvSpPr/>
          <p:nvPr/>
        </p:nvSpPr>
        <p:spPr>
          <a:xfrm>
            <a:off x="250920" y="537372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69"/>
          </p:cNvPr>
          <p:cNvSpPr/>
          <p:nvPr/>
        </p:nvSpPr>
        <p:spPr>
          <a:xfrm>
            <a:off x="4932360" y="537372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70"/>
          </p:cNvPr>
          <p:cNvSpPr/>
          <p:nvPr/>
        </p:nvSpPr>
        <p:spPr>
          <a:xfrm>
            <a:off x="3780000" y="537372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71"/>
          </p:cNvPr>
          <p:cNvSpPr/>
          <p:nvPr/>
        </p:nvSpPr>
        <p:spPr>
          <a:xfrm>
            <a:off x="2627280" y="537372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72"/>
          </p:cNvPr>
          <p:cNvSpPr/>
          <p:nvPr/>
        </p:nvSpPr>
        <p:spPr>
          <a:xfrm>
            <a:off x="1403280" y="537372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73"/>
          </p:cNvPr>
          <p:cNvSpPr/>
          <p:nvPr/>
        </p:nvSpPr>
        <p:spPr>
          <a:xfrm>
            <a:off x="8028000" y="537372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6021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48360" y="6021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74"/>
          </p:cNvPr>
          <p:cNvSpPr/>
          <p:nvPr/>
        </p:nvSpPr>
        <p:spPr>
          <a:xfrm>
            <a:off x="250920" y="6021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75"/>
          </p:cNvPr>
          <p:cNvSpPr/>
          <p:nvPr/>
        </p:nvSpPr>
        <p:spPr>
          <a:xfrm>
            <a:off x="4932360" y="6021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76"/>
          </p:cNvPr>
          <p:cNvSpPr/>
          <p:nvPr/>
        </p:nvSpPr>
        <p:spPr>
          <a:xfrm>
            <a:off x="3780000" y="6021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77"/>
          </p:cNvPr>
          <p:cNvSpPr/>
          <p:nvPr/>
        </p:nvSpPr>
        <p:spPr>
          <a:xfrm>
            <a:off x="2627280" y="6021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8"/>
          </p:cNvPr>
          <p:cNvSpPr/>
          <p:nvPr/>
        </p:nvSpPr>
        <p:spPr>
          <a:xfrm>
            <a:off x="1403280" y="6021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79"/>
          </p:cNvPr>
          <p:cNvSpPr/>
          <p:nvPr/>
        </p:nvSpPr>
        <p:spPr>
          <a:xfrm>
            <a:off x="8028000" y="6021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11-13T17:32:19Z</dcterms:modified>
  <cp:revision>15</cp:revision>
  <dc:subject/>
  <dc:title>Bild 1</dc:title>
</cp:coreProperties>
</file>