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FD5-4484-4E9D-AFA4-CCABF9A0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55B-BC21-46A6-A426-123B863C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9ABD-2F87-4353-967C-34DC1273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906-7595-4E9F-A050-5DB53973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3DB-A022-49AA-AAA1-5AAFDB0C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79E-EDF9-4DD3-8E74-F93EA028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E3A-A6FF-44E1-BF04-672CCDB9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787-D516-45E8-AD9E-D8913FC0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F8B9-DBC6-4526-834E-29D76028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642D-B198-45E1-BFC7-CD75CC8D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DB8A-BB69-4B5C-B0DE-7C8A5970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18C-C31A-4CD0-8AC9-ACCF02C1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DE40-7377-4825-9521-3D6B5933F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92280"/>
            <a:ext cx="85359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0" spc="-1" strike="noStrike">
                <a:solidFill>
                  <a:srgbClr val="333399"/>
                </a:solidFill>
                <a:latin typeface="Arial"/>
              </a:rPr>
              <a:t>C’est combien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17:02Z</dcterms:modified>
  <cp:revision>41</cp:revision>
  <dc:subject/>
  <dc:title>Bild 1</dc:title>
</cp:coreProperties>
</file>