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896-1389-44A3-B359-CCFAB586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029-6888-4F4C-B97A-69FA6D75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AAC-510A-4F86-951E-FF936AAE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B20-1EAF-4DDE-A1B1-04B91474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F24-E0DD-4512-8F22-1DED87FE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565-2F1E-4D09-8831-98D4C4D7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88F-0A96-4F83-9585-BC1CA57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46D-0F9A-4989-A4C0-9F7D62F0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E68-F142-4C57-8771-BC132F6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FD1-D25B-43A2-A15A-EACAEE0B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535-ADE7-428F-AD01-66E099C4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974-3941-453A-B088-AC51DEC3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924-40C2-4FBB-830A-27A56C929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3912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Qu’est-ce que tu aimes?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2:08Z</dcterms:modified>
  <cp:revision>35</cp:revision>
  <dc:subject/>
  <dc:title>Bild 1</dc:title>
</cp:coreProperties>
</file>