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8F4F-DC4E-4D72-984C-07E2BB3F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8399-0392-49A6-BEAD-66534BC8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AF3F-BF94-46EF-AEB0-0F839ECF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9533-DEF9-4027-8B08-EBAC480E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BD9B-C64E-4392-8FAF-D3022A8A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656E-2957-49E2-B0FC-E108ED26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C978-87E1-44B8-9413-CD4C66FE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76F9-BEC1-4A88-8BE3-0367DCB9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B7B1-F911-4A77-8186-407EC6C5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99E4-59ED-4A37-B014-927B4C48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83C7-3E7D-432F-BC3E-B0441BF3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AC0D-2DAE-49E7-9AA3-9D8E102E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04FA-A03F-4845-B0D5-BDE06B898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836640"/>
            <a:ext cx="853596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500" spc="-1" strike="noStrike">
                <a:solidFill>
                  <a:srgbClr val="ffffff"/>
                </a:solidFill>
                <a:latin typeface="Arial"/>
              </a:rPr>
              <a:t>Det är måndag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22:47Z</dcterms:modified>
  <cp:revision>60</cp:revision>
  <dc:subject/>
  <dc:title>Bild 1</dc:title>
</cp:coreProperties>
</file>