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CF3-DF32-4EE7-A317-0146708C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747-82B1-460A-9ECD-29970F6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AE9-2AA5-4679-AB0E-F3A2750C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6B7-9A94-4719-A161-FABB024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1B7-3FED-4A52-923E-2A6552DF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59D-EF32-4928-83BE-9163171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040-069F-4935-B770-C1AB08D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230-835B-45F7-B153-64A4E26F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45B-39B6-411F-A421-A13F7F5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B9C-E658-4CAB-BBAD-417267C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F68-26AC-4E80-861E-62D17F3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CCD-A4FA-410E-B50D-03115B6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5D7D-A8E1-4810-8572-E7AF257D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Vad gillar du?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7:32Z</dcterms:modified>
  <cp:revision>76</cp:revision>
  <dc:subject/>
  <dc:title>Bild 1</dc:title>
</cp:coreProperties>
</file>