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52D9-A43D-453A-BC4B-F46BF4B2C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EC17-E862-4C97-8B3E-56B9A71A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B52A-DC8C-47EF-B4FD-010738F44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4B7C-AE6C-497E-8F60-B91C30078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ACE8-50AD-4012-AD97-1D6A38B7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56C2-D48C-49B5-AE0B-937DE74B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B831-8733-4B28-B85C-0C492089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9385-D7F5-446C-B1CA-1416CD1E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7CC0-3E40-46BE-A3F2-40310416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ACA4-91A1-4C3A-9601-FF04A180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EBFC-62E8-4C12-B8FB-06DDD6F5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8FD7-31AD-45AD-982A-544F0203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7FEF-5FFF-40CF-AD19-3A17A54CD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981000"/>
            <a:ext cx="8535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Arial"/>
              </a:rPr>
              <a:t>Röker du?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24:35Z</dcterms:modified>
  <cp:revision>66</cp:revision>
  <dc:subject/>
  <dc:title>Bild 1</dc:title>
</cp:coreProperties>
</file>