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FAE-121D-4B04-9779-9EA86E65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296-DD4F-4896-A87B-87150475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89F-542B-4ED0-969A-0388C4AA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946-DB8E-4753-8955-FE7A538D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041-292E-4557-9C54-0CC3A6FB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0CF-48D1-4518-B500-C69F3D96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2FD-E9AC-4482-A5A2-AC8CB9CE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408-FF93-4270-AD06-93CA9D0C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AEB-1A2A-43E3-8D0A-87E2A779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0DE-0BD1-4A48-8E6B-86BE831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67A-E8FC-4EB5-8DBA-35A85797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EC3-FD9A-4750-A5B1-2EBDFAD1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28DC-DFA2-4314-B566-8A2956DD1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333399"/>
                </a:solidFill>
                <a:latin typeface="Arial"/>
              </a:rPr>
              <a:t>je ne sais pas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2:11Z</dcterms:modified>
  <cp:revision>7</cp:revision>
  <dc:subject/>
  <dc:title>Bild 1</dc:title>
</cp:coreProperties>
</file>