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73E-615E-46BB-BA21-02E2F4B1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674-92FD-49DE-BC1E-570F9DE2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ED3-126D-453F-9852-C238EA83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39A-87D8-4966-9EA5-D314B19F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279-19C6-4046-A5CF-ECDBAEB5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751-9ABD-40F9-9A22-F498D31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B74-E412-4E99-951F-F68124CD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A09-EEF1-4306-8C01-D711E41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552-047F-4BD0-B3E4-8DE1DA2F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B57-6400-41B3-9222-EE3E162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F6B-9512-4EB1-AABC-BFCA2EB1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11E-2D8B-4A46-9355-53A81E6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3983-F242-4017-B900-37FC8332C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4320"/>
            <a:ext cx="839160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Je cherche la Tour Eiffel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6:35Z</dcterms:modified>
  <cp:revision>40</cp:revision>
  <dc:subject/>
  <dc:title>Bild 1</dc:title>
</cp:coreProperties>
</file>