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EB2-C905-498A-81A3-FC016EBF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9F7-A812-42C5-8556-757ABC6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E37-CA87-4588-90B2-523B0E8D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684-65AF-40A7-8046-C1B959DE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BF4-2AB0-4239-8698-095F354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739-71A7-436C-8D9D-F498A3A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C50-197D-4127-A6FC-492F104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D11-4121-4F08-9C43-8049F1F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451-8973-4827-85F5-4501A60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1EF-ADF6-40ED-AEAA-995EC4F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941-28CB-4483-9408-C18E155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495-72A7-400D-B194-F087181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2BB-ABA2-48BE-80B5-B5A31F06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Det är grönt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2:37Z</dcterms:modified>
  <cp:revision>59</cp:revision>
  <dc:subject/>
  <dc:title>Bild 1</dc:title>
</cp:coreProperties>
</file>