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1C2-DF64-45B7-B90A-3169246F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99C-EDAB-43B5-9393-3CD4749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C86-5EAE-4EE3-B600-8623DF85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606-6390-424B-BE59-B0EF6FE2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FE4-206C-4688-847C-B2E2F877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FCE-EDB9-4283-A199-0B0FA198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919-AEEE-4815-9A70-F0F7797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4FC-CF9E-4099-A67A-56D72E7A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3BF-57DE-48A8-81D1-7A418448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C61-8F94-4255-B7F1-D9200E3B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1E7-7BEF-41BF-93AA-2B67154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2D4-F211-47A7-AFA0-CAC5E93B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A1F0-5FAF-47ED-ABCD-CB957B3C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je ne comprends pas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2:38Z</dcterms:modified>
  <cp:revision>8</cp:revision>
  <dc:subject/>
  <dc:title>Bild 1</dc:title>
</cp:coreProperties>
</file>