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684-71CD-46E7-BDC6-FD345230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1C5-10CC-4E30-940F-1FB090A4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39C-FDA7-403A-985E-C9F0677A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244-4AD8-42E5-93CC-B201B57C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1F2-6E4B-45A3-96A8-733E8888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E0E-D945-4880-AC55-355770F2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105-2E77-4A94-A730-9F8788D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199-7D28-4775-AA2D-1984020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3FD-F716-49B8-8751-83903D23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605-F772-4E5B-86FA-EDD9974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F4A-1A56-48A3-8183-DC913C0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8BA-B573-469A-A198-9BC59F8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F093-C78B-4EF9-BB4C-302F91B8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Hur gammal är du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9:45Z</dcterms:modified>
  <cp:revision>46</cp:revision>
  <dc:subject/>
  <dc:title>Bild 1</dc:title>
</cp:coreProperties>
</file>