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3BE-3023-4724-9874-A91B4583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A54-1FD7-46C6-9EB2-9692A83F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CBC-FA64-45A2-9CF9-B8066199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DD7-6128-4CE0-9385-3FC8D1F0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40C-BDBA-40DC-8F56-0D34E826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5BF-7E05-4BF8-91B2-7B997B9E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3BE-5787-4C39-A1D7-13180BE4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000-3FBB-49CD-8B0C-694ECEA5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7C0-DE67-471B-B4BF-8AA34EE1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D1C-9120-46E5-ABE0-070F222D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23C-C22C-4EA2-A38E-38C65CCB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0AB-DC6F-43FF-A041-98FB26DB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0538-B0C7-4D55-8A42-48C5F7ADB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C’est quelle date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4:11Z</dcterms:modified>
  <cp:revision>13</cp:revision>
  <dc:subject/>
  <dc:title>Bild 1</dc:title>
</cp:coreProperties>
</file>