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D2ED-B725-4184-9B1E-1C38AD04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366A-FBA7-4A16-9F0F-FB0FEB3C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BA28-D318-4B61-BAA1-3BA709889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DC0B-FDE6-4153-AC7D-9A754348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C4C0-B088-456D-A719-92611CEB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2F97-5EC9-4755-8278-CEDE6C98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B3A3-5FAE-4C24-9175-27C76BEB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3410-1817-48CE-81E1-5A37DA23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1275-3D8A-431C-9DCA-282DB670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526D-0F13-432D-9DED-0ACE7CB8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0442-4016-4DC8-939D-4225272E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AC60-32DB-41D2-82B4-A7E459E3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38E0-5FF8-4ADB-B9CC-871936171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981000"/>
            <a:ext cx="8535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400" spc="-1" strike="noStrike">
                <a:solidFill>
                  <a:srgbClr val="ffffff"/>
                </a:solidFill>
                <a:latin typeface="Arial"/>
              </a:rPr>
              <a:t>jag förstår inte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25:40Z</dcterms:modified>
  <cp:revision>71</cp:revision>
  <dc:subject/>
  <dc:title>Bild 1</dc:title>
</cp:coreProperties>
</file>