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AF2-B699-4ECF-A0F5-4A8C8213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3C1-69A1-408C-85F5-19B99ED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AC2-C74D-432D-83C6-33EC4F44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9B4-9E3E-4962-8C3C-7488127A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DA3-DDEB-40C2-A938-EBC3C2B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7ED-8521-4EAF-B1F7-6E22A9D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797-7E6B-4ABF-9C1C-AEC3431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8E4-6601-49D9-9CD8-5F3E19B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760-F266-4845-903D-94F43D6F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54E-C257-4E0B-9287-71FE629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AF5-BD97-424B-83EE-69391905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288-D259-4976-BC15-6C6290A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ECA0-2599-4224-93C8-8762A78944E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j’habite à Västerå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Stefan Gustafsson</cp:lastModifiedBy>
  <dcterms:modified xsi:type="dcterms:W3CDTF">2015-09-26T09:59:37Z</dcterms:modified>
  <cp:revision>20</cp:revision>
  <dc:subject/>
  <dc:title>Bild 1</dc:title>
</cp:coreProperties>
</file>