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624-850D-4DEE-A378-C44AB333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DEB-9C7F-49F5-8AA3-3687A9D5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17B-B5D8-4B7E-B91A-AE4AA8AD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A1EF-823F-477B-9451-180D7E71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351-DFE5-4567-AB1F-C81351CE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0BB3-8942-4AF3-96E7-0DC6D675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155-6F0C-4021-9B73-8279D7D8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F1D-A998-4706-B779-FDBBE7BB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4E9-46D7-449E-8239-F872BC34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B17-4CB7-4696-9453-D009612F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27E-70C7-4120-896B-B52A9A1D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D50-D1FB-4DCA-9787-CA33DF3C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E31F-D03E-4C14-9DE2-5F212DB54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64216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333399"/>
                </a:solidFill>
                <a:latin typeface="Arial"/>
              </a:rPr>
              <a:t>C’est quelle couleur?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4:21Z</dcterms:modified>
  <cp:revision>14</cp:revision>
  <dc:subject/>
  <dc:title>Bild 1</dc:title>
</cp:coreProperties>
</file>