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F332B-B04B-4FA1-9755-EE395AD7B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B8016-17F6-451F-BC09-96230A793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1AAB8-E0FE-464F-8ADF-FC4A5F004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46F0C-0719-4DEF-9DE6-6AC4D176B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C5221-87C0-44F5-9A2D-3563EBA8E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DB940-0247-479B-87FD-E72636DF3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AE31D-39C3-4B34-949E-7FE37586D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D8D8B-1817-4EC2-9729-671A7F31C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5B838-210B-44FE-A150-880D9C908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0D4AD-6B14-4FBE-963A-AD67980CF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1CC76-C975-4808-B808-08C6BBE36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DC414-73C4-45D3-B45E-60E051E6F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ED0D8-DB1E-4F4F-81A4-F21922EEFC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836640"/>
            <a:ext cx="853596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3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3300" spc="-1" strike="noStrike">
                <a:solidFill>
                  <a:srgbClr val="ffffff"/>
                </a:solidFill>
                <a:latin typeface="Arial"/>
              </a:rPr>
              <a:t>Vad är det för väder?</a:t>
            </a:r>
            <a:endParaRPr b="0" lang="en-US" sz="1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3T16:29:47Z</dcterms:created>
  <dc:creator> </dc:creator>
  <dc:description/>
  <dc:language>en-US</dc:language>
  <cp:lastModifiedBy> </cp:lastModifiedBy>
  <dcterms:modified xsi:type="dcterms:W3CDTF">2006-11-13T17:21:03Z</dcterms:modified>
  <cp:revision>52</cp:revision>
  <dc:subject/>
  <dc:title>Bild 1</dc:title>
</cp:coreProperties>
</file>