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426-2F52-4F4D-A201-AA8ED52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FE6-00AE-4F01-A626-0262B64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076-7386-48AB-9A47-96A31FAA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998-B2CC-485F-BF24-B0DF6B07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D2F-F79D-46DB-B638-85E97C7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41A-45DA-478E-B137-8E716293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5C1-8A76-44A1-B0AB-75CD60B0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147-B2FA-43D3-90B3-25D85F2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DB7-D012-4535-A907-AE5B23EF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87E-4B9B-4C10-84F1-6F4DD61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7C2-EF64-40B1-BEBC-6B955B8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086-B2EC-43FA-AF05-DA1D40A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AF6-7E97-4080-A563-DF56D4E59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Det är gott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7:52Z</dcterms:modified>
  <cp:revision>78</cp:revision>
  <dc:subject/>
  <dc:title>Bild 1</dc:title>
</cp:coreProperties>
</file>