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7D0-33F3-41DE-A8C3-9AECB35C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FF3-A277-433E-AD1E-A9C30911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77F-16E6-4B37-A734-AA2C7592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0ED-4C9A-4057-AB61-646D5039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85D-50DE-47C3-8984-A98B8E6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4E9-2C04-4618-A9C6-45DC84C1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0DD-94A5-4AFF-B9AB-D3693B63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919-122C-4515-950F-81A6AB0F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B6B-06CC-404E-A8DA-99E9C2E1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17D-F2DB-450E-B2C9-03F32186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E2D-B4C4-4291-8DB3-0EC5F8A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60E-8A70-4F61-9F4C-1647682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F272-25DD-4E1D-906F-370737D86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Det är vackert väder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6:21Z</dcterms:modified>
  <cp:revision>73</cp:revision>
  <dc:subject/>
  <dc:title>Bild 1</dc:title>
</cp:coreProperties>
</file>