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9F9-5A59-4755-B0E4-03C8D3B6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795-7D35-4511-B830-94932B4C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701-F4A7-4C55-823B-0E3071D3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968-166A-4FB1-ABD3-11B0F60A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682-D907-4168-9E5F-72C3B6CD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EFB4-CBFE-4B83-849C-79DB4582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37C-9ECD-4781-AF30-5A99D371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172-73CF-4D62-93B1-DF0086E7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C888-1224-41AB-8757-70DC2E9E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CC4-CC57-4143-95B5-FF2149C0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9DE-89CA-49F9-A68C-603B29DF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ABE-BCDC-45B5-AD4F-F4417EA4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55AB-6356-434F-A805-F67B72370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Vad önskas?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1:25Z</dcterms:modified>
  <cp:revision>54</cp:revision>
  <dc:subject/>
  <dc:title>Bild 1</dc:title>
</cp:coreProperties>
</file>