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9A4-FA23-4099-A070-ABD35AC1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92F-DAB7-4221-AA5C-6F97689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F25-E71D-492B-A105-708A96CB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4D9-FF12-457B-AB74-4789EDE4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82F-D0A9-43A9-A9E0-44462EB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0D1-A224-4153-9D4F-332EC9FB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BCF-4574-43B5-8AB2-AC27124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904-FE06-4EFB-BA57-74EBF5E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9DC-E260-4BB3-8F44-A1BA586A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F55-9FEC-4BB5-AE0A-B70E875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ADB-7C02-459D-B9CE-1BB524B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9A2-F55D-4034-BA5D-8B967E8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A18D-419C-412F-9FE7-95748029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391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Qu’est-ce que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1:58Z</dcterms:modified>
  <cp:revision>34</cp:revision>
  <dc:subject/>
  <dc:title>Bild 1</dc:title>
</cp:coreProperties>
</file>