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7CB-67B6-4961-B567-EFC1E2C6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355-2EBD-4317-9D4D-CED22DFD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C90-98D4-4582-B802-7F7CBF8C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60B-14C2-4AE2-AA14-3BE505DB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B91-4E4F-4ABF-B78E-FA27AD72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4CF-EE50-4CFB-9D7B-5971865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186-1AF0-4388-AF35-BD47148B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1E3-888F-43FB-A45B-D8B4D8B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945-DD68-4523-A9D7-39BA9661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6A6-51D3-43C5-AF9F-4F7B023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F28-6A54-4E70-8DD3-FEA55BC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4E1-FFDA-452C-A467-CF55758F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7DB7-DE93-4015-8C5A-E3FECDDB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är 14 år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4:05Z</dcterms:modified>
  <cp:revision>65</cp:revision>
  <dc:subject/>
  <dc:title>Bild 1</dc:title>
</cp:coreProperties>
</file>