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6E1-E1DB-41EF-A7FF-7A097A2B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850-4ED2-4021-B66E-EB70BE7E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E19-55A2-4BE9-8CCD-E74057F0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686-1142-49FA-8F63-A7A2F06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E64-A85D-43E8-B59B-06218E6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D0B-26F3-49DC-8957-6F2AD542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1A3-78E4-43D8-A88A-049117F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E06-8752-408E-AD1F-992FA2D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188-9210-4EF4-9C46-F1DAF62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66A-5767-4DF2-A7B4-3D081DC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710-8E3C-4D0F-B52F-BDF15D0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CFD-CD20-41C3-9408-808F4B6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D3E-EBB2-41BB-AA42-D5A6D5E63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45Z</dcterms:modified>
  <cp:revision>18</cp:revision>
  <dc:subject/>
  <dc:title>Bild 1</dc:title>
</cp:coreProperties>
</file>