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4EE1-9B56-4129-AA52-70E4AE8F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D166-12BE-4D0E-8C32-3296656C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936B-9B79-4F5E-A483-F2B96B0B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3236-EFE7-432A-BBDB-E798B5D6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0A96-921E-48A6-A974-1CF0A014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0B64-848F-46B8-A9A5-F557136B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27B2-3A34-4730-849F-B3FA03BF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1CAE-1A5E-457D-8D31-6ED6A9A3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4C1D-3B68-4073-B2AC-A3ED9269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63E9-597A-427A-9385-C706E9A8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6958-6F14-4AD2-9B29-744890F5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E671-5511-45F7-9454-8A707412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748B-E8D5-486A-BC75-CE969EA1E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765000"/>
            <a:ext cx="839124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500" spc="-1" strike="noStrike">
                <a:solidFill>
                  <a:srgbClr val="333399"/>
                </a:solidFill>
                <a:latin typeface="Arial"/>
              </a:rPr>
              <a:t>Vous désirez?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13:18Z</dcterms:modified>
  <cp:revision>37</cp:revision>
  <dc:subject/>
  <dc:title>Bild 1</dc:title>
</cp:coreProperties>
</file>