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2533-7FB8-4CEE-AD9A-5CCD011C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C297-7660-465C-B885-35DF8969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6F22-EAFE-48FF-B619-1AC3F1E6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48FE-8E8A-4A64-9EBB-44F2DB44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4B56-281D-45A2-A3BB-9401ACE6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E383-EE7E-470B-9711-48077A45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22E0-30FA-48AE-B9F4-838559E5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BCF0-C096-4D83-8E50-EF4A55B2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4C78-A858-4B49-87D5-34A8D60C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689F-0AB9-4D58-B8A5-473D6B5F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FFD-B6A1-4F34-8FFA-242BBAF2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E67F-74D7-4CEC-AFD6-3AD4E25B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8AAA-E12E-4F38-89DF-433C94DEF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907920"/>
            <a:ext cx="85359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ffffff"/>
                </a:solidFill>
                <a:latin typeface="Arial"/>
              </a:rPr>
              <a:t>Det finns – finns det?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26:52Z</dcterms:modified>
  <cp:revision>74</cp:revision>
  <dc:subject/>
  <dc:title>Bild 1</dc:title>
</cp:coreProperties>
</file>