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E11-6D73-4502-A6AB-6B44839E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CEC-89C6-4906-9E49-1D91F994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A02-4D53-409A-8144-4F9758E1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C56-38D7-4296-87AA-C09B9931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197-7E94-4E2A-9418-768CF396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650-4ED7-44F6-8375-A07B7277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354-0F26-4190-91EC-C58113E6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3F4-43E8-43BB-A39A-BC8AB3A0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8CB-7591-4D6A-ABE0-CF794030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FE3-03F6-4B91-8C69-376EC51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740-8185-4561-ACA9-203CD85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72D-1EF9-4108-86A5-FA1B707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4940-A49C-447C-8A61-BAFC92F4D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9228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Vilken dag är det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9:58Z</dcterms:modified>
  <cp:revision>47</cp:revision>
  <dc:subject/>
  <dc:title>Bild 1</dc:title>
</cp:coreProperties>
</file>