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F22-DFCC-48C2-9CFA-FE7F5630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A37-7CE0-4C36-9BCA-4ADAA5CD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8BD-9DA5-4B9E-8C2E-FE583925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7C1-F44D-4820-82B4-A1610D82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DCD-1858-4F0B-8B83-96DDF65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7AE-170A-4949-9AF7-DCD2E3D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8CD-2942-43D9-8A0B-8C7E306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F48-5B02-4E06-9AC4-7921944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FAE-2EE0-4237-922C-0B5D35A8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1D7-4EFB-48D4-A152-2340A60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DB5-1A26-4949-A10B-4F00F96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8FE-E4C6-424A-BF00-C27C91B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A89-5F0E-4E94-99ED-E054E9F7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Comme boisson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1:42Z</dcterms:modified>
  <cp:revision>5</cp:revision>
  <dc:subject/>
  <dc:title>Bild 1</dc:title>
</cp:coreProperties>
</file>