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AD00-C468-4688-AC79-43B1EE15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91C3-755A-4075-815C-D9E206D7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5150-412C-4349-9FA1-07BECB888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01FB-49A7-4DF1-9192-0393B14E9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34E3-9230-4B91-BB2B-25A77820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313E-1705-4F80-B3F3-3CFDA9D1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D61E-EEB6-4ED0-992C-C1FCBAB6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FED1-B101-4DE4-8192-205DA653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E373-00F0-4420-9385-F9A2A23A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9D23-38B8-4D2B-9E20-C9D59E63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3F88-5727-4E27-823C-C5BB19C4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D498-02C1-44D8-B75D-44113370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2F72-BE84-423A-AD9F-E0EB981E7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981000"/>
            <a:ext cx="8535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400" spc="-1" strike="noStrike">
                <a:solidFill>
                  <a:srgbClr val="ffffff"/>
                </a:solidFill>
                <a:latin typeface="Arial"/>
              </a:rPr>
              <a:t>Det är suveränt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25:09Z</dcterms:modified>
  <cp:revision>69</cp:revision>
  <dc:subject/>
  <dc:title>Bild 1</dc:title>
</cp:coreProperties>
</file>