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3C73-5491-4F42-A69B-309BD064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DE44-59B5-40A8-9868-DAC70B84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51AE-588F-463B-911A-D4D598DB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F4EF-12F0-4062-A716-4249E81A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CE36-F720-4169-B187-EACA48C7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9099-8DCF-4184-ACE0-10DB6C48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E49A-08DC-45F4-8AD7-5F22EDB0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6E81-EC41-4837-A14B-127CB2B9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13E5-1F62-478A-AA7A-2F456838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D99F-8F2A-4349-91E3-A916DCD2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9967-349F-440D-8D08-BC3724FC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B32F-8F29-48D2-B1E0-749425F8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2B2C-72BC-4A17-A18B-D87B36523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981000"/>
            <a:ext cx="8535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400" spc="-1" strike="noStrike">
                <a:solidFill>
                  <a:srgbClr val="ffffff"/>
                </a:solidFill>
                <a:latin typeface="Arial"/>
              </a:rPr>
              <a:t>Jag röker inte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24:45Z</dcterms:modified>
  <cp:revision>67</cp:revision>
  <dc:subject/>
  <dc:title>Bild 1</dc:title>
</cp:coreProperties>
</file>