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55B-7387-432F-9A87-40756CCE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189-3CAF-4F36-9566-109C9607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417-90D7-41F9-AA40-EA72BB49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8B2-35A3-4E36-B1C3-FF2C7B0E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B6C-3BE6-4950-84FC-6B3A51EF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2BA-298A-4613-B960-1EE825B0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45A-D7D3-4753-9D41-37C9C6C1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DAC-A7A1-411D-BF78-8E9CCAC1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A8D-EBFE-4DA9-9C26-AE085ABB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B3F1-1FF4-44F0-A9C3-5812CC5D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156D-B52C-411B-AA21-0CA41569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D81-D943-480C-872D-FD8D1465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445C-EA82-4BF2-BFD1-9D0A38CB6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42472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600" spc="-1" strike="noStrike">
                <a:solidFill>
                  <a:srgbClr val="333399"/>
                </a:solidFill>
                <a:latin typeface="Arial"/>
              </a:rPr>
              <a:t>Comme entrée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1:33Z</dcterms:modified>
  <cp:revision>4</cp:revision>
  <dc:subject/>
  <dc:title>Bild 1</dc:title>
</cp:coreProperties>
</file>