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FA8-6473-47B4-A326-954F8FDD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49A-9EA3-4BB1-9510-DBD06BD7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A0C-E4A2-4228-960F-7F01EA73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E64-0886-48C0-846C-ECB90603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BCD-2CB0-4171-A9E3-B1BD74B3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663-E66C-49E7-AC99-6615B7C3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950-9BCD-4721-A3FF-061F9117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49D-A98C-487B-AEC6-E7257663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415-9A03-457F-920E-09887573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0E1-252B-4E36-9150-875A05F0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315-0A82-4E4E-BA5A-B15F372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743-B91E-4505-8FD6-770BBD62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74B6-7D3A-4B8B-BCEA-2950964A4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81000"/>
            <a:ext cx="8642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C’est le 30 septembr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IT-Avdelningen</cp:lastModifiedBy>
  <dcterms:modified xsi:type="dcterms:W3CDTF">2009-09-30T03:39:45Z</dcterms:modified>
  <cp:revision>29</cp:revision>
  <dc:subject/>
  <dc:title>Bild 1</dc:title>
</cp:coreProperties>
</file>