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52B-C95E-4697-89DA-59D4C3A7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1F2-73AD-4084-9287-C08A2D18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8DD-5C7E-4465-B407-898268AB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475-47F0-4759-8375-D0953F6C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F64-98AE-4C59-B4D8-786AFD24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3F9-1920-41A5-A2FA-07C9C1FF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63B8-9A0A-4633-A235-3A95E1EE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6EC-99B1-4575-8311-3058ABF6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F01-159C-4FFA-BC1A-86E3C10C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152-4220-43EF-B347-6544BD09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9BB-D113-4FF9-A578-E792D215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8D7-BACC-4E4A-8DA7-F2EC1390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5F51-95CB-419D-B3C9-1CAF93295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25360"/>
            <a:ext cx="86421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0" spc="-1" strike="noStrike">
                <a:solidFill>
                  <a:srgbClr val="333399"/>
                </a:solidFill>
                <a:latin typeface="Arial"/>
              </a:rPr>
              <a:t>J’ai 14 ans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6:00Z</dcterms:modified>
  <cp:revision>18</cp:revision>
  <dc:subject/>
  <dc:title>Bild 1</dc:title>
</cp:coreProperties>
</file>