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23C6-48FF-48C4-B4A5-BD6776D3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45FE-D8B7-4809-99C0-A24696B1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428B-2B76-4534-8939-A4711549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35E1-34B0-4AE2-BE52-F5856FF8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74CF-5CD9-4C8B-AB54-E6F2F350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6F71-69AC-4A33-8DB2-90BA7770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0A44-7F06-4ACF-884F-DC80EAF0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3A16-FBA1-4962-A794-2F561373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34A8-0BC7-4882-911B-B36CDE63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B41A-4133-4511-A160-4A10FA85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DE55-6AC4-4E5F-BDA9-68131931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6D81-F974-4EA5-AD11-FD2A67B3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C3D1-D1CC-47AC-9ECF-18A215CCA9FB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836640"/>
            <a:ext cx="85359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ffff"/>
                </a:solidFill>
                <a:latin typeface="Arial"/>
              </a:rPr>
              <a:t>Du har (har du?)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Stefan Gustafsson</cp:lastModifiedBy>
  <dcterms:modified xsi:type="dcterms:W3CDTF">2015-09-26T10:00:18Z</dcterms:modified>
  <cp:revision>55</cp:revision>
  <dc:subject/>
  <dc:title>Bild 1</dc:title>
</cp:coreProperties>
</file>