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375-9567-43C9-9883-93704564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F22-8B8D-4FAC-9F85-91CFEE7E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6C-A83E-4FE8-8648-03D4AD23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ED0-B404-4BAE-8967-BA2F77DA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D90-47DF-4E01-AEFE-43698B51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5A8-E6F7-484E-AA70-8329978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C2B-0385-40B8-B4A7-8BDDE79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BF-5CF5-4996-8DF2-082C7004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5BF-30D8-4B10-9A61-21A89CD4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7A4-DEF8-4A34-8852-E414ECE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88F-17C3-4921-9154-C4DF8CF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92D-B939-42F0-B6BD-2C02C7A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47D3-CAEF-41E0-8C0A-E275025E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535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ffffff"/>
                </a:solidFill>
                <a:latin typeface="Arial"/>
              </a:rPr>
              <a:t>Vad heter du?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9:06Z</dcterms:modified>
  <cp:revision>44</cp:revision>
  <dc:subject/>
  <dc:title>Bild 1</dc:title>
</cp:coreProperties>
</file>