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41A-C2B7-4B29-B5C2-B6F46BAC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8AB-25A2-4F69-893A-0EB31984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F71-0DC0-4DC7-B669-1C9D9A4D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51A-75B4-4E41-B72F-33C3BDB3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DF2-EAC1-4864-AF26-C8BC5179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75F-B1A6-4792-9F7B-6C86CD7A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C14-95EA-4D36-80EA-5F582FE9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A44-813F-4C62-832D-9ABD22B5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67C-C5A6-4AFB-ABA6-87E253FE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B2C-76F6-4301-BF25-36A5B037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8D9-6BB0-4ECD-B5F4-304B8C22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9AB-10BE-445A-80DC-CC0DB1A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1F4C-384F-4ED8-8801-922E4E432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37000"/>
            <a:ext cx="8642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500" spc="-1" strike="noStrike">
                <a:solidFill>
                  <a:srgbClr val="333399"/>
                </a:solidFill>
                <a:latin typeface="Arial"/>
              </a:rPr>
              <a:t>Tu es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IT-Avdelningen</cp:lastModifiedBy>
  <dcterms:modified xsi:type="dcterms:W3CDTF">2009-09-30T03:41:43Z</dcterms:modified>
  <cp:revision>34</cp:revision>
  <dc:subject/>
  <dc:title>Bild 1</dc:title>
</cp:coreProperties>
</file>