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F49-FCC2-4B0E-8D36-0F7727D3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B7A-6B78-4334-880B-B9B8A1BC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B94-32AD-40C9-B3F8-DEB94994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97A-64CF-4A1A-A129-A940DD0A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932-8BCA-47CE-A4F5-36B62DE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045-F0F8-4AFF-B498-9585182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D44-40E4-40D7-B6B7-D8D02B9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F23-2C56-49C9-A9A2-1CE22519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D2B-DC8F-4FC6-AC07-C37A4CC2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C3E-C776-4AD2-9999-F6E63E0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024-3CCC-459F-9B0C-DAE195F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A65-1558-44D8-AC67-2751FCD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1B21-2EF8-41B6-8F1B-A6930B1A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333399"/>
                </a:solidFill>
                <a:latin typeface="Arial"/>
              </a:rPr>
              <a:t>Je ne fume pas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3:11Z</dcterms:modified>
  <cp:revision>10</cp:revision>
  <dc:subject/>
  <dc:title>Bild 1</dc:title>
</cp:coreProperties>
</file>