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728-54B2-4693-BF15-546F3420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B29-FA0F-4EDB-8B49-3A22BC2F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ED9-FACD-4B34-8CDA-CEB8C0FF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98A-F467-413B-AEC4-8068F084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98B-E326-4577-A949-783042E6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226-B2B8-4C87-BE08-1AAAC58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BB8-CE11-43A0-81C3-E35CF75D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28F-D203-4EA7-97D2-61BF0CA3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82A-CC4B-4BD7-923C-8EA1E598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E0C-E078-4710-9C06-23D724A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651-2613-4542-AEC4-3051256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CC2-91FA-4FA0-BEF0-BAF997C5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C0D8-D5BC-4E13-9ECB-C46999C6D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Qui est-ce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7:40Z</dcterms:modified>
  <cp:revision>23</cp:revision>
  <dc:subject/>
  <dc:title>Bild 1</dc:title>
</cp:coreProperties>
</file>