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C2FB-D98A-4327-8AE4-071DAD76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11CC-8FE1-42D6-88F4-1D460BF5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1C65-D5F4-4D2B-A758-AA9D6A83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0ED1-947A-4547-AE24-61785A846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2296-A207-408D-9B21-CA592BCD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D173-B6BF-4630-B7CD-0F97E61B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8694-039E-487A-9615-C95A635C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D273-633E-4A20-8E68-067ECA6B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DCB9-0F81-454D-B46C-A5BA06ED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ED7E-BCEB-45FF-A0BB-EC3BBC5C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9E8F-3B65-4432-BE95-0F13B7A3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9C01-7BD5-4846-8D14-A01C34A8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04E5-9CD9-48E3-A45C-ABDD1B326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04640"/>
            <a:ext cx="864216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333399"/>
                </a:solidFill>
                <a:latin typeface="Arial"/>
              </a:rPr>
              <a:t>Tu t’appelles comment?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04:33Z</dcterms:modified>
  <cp:revision>15</cp:revision>
  <dc:subject/>
  <dc:title>Bild 1</dc:title>
</cp:coreProperties>
</file>