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56D-CE6A-4507-A481-C11E5FA1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E9D-DCB8-4B72-A127-8565AB8F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6C0-B37B-435D-8B94-C0FD79FF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610-FF93-4FF7-8692-AF24CBE8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470-6E44-490A-9D1D-0A73124E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611-0F86-479D-9741-AC6EA4A0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C72-3EEA-407F-8CC1-BCD58317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F7B-778C-4273-B2B5-95238B98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A35-7356-4EFE-94B2-9906274A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9DB-E1B7-4DFD-BADE-E23B5591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AFF-4AA0-4FFC-AAE3-101A67E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F73-3825-4D2D-9419-C987B7D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10DD-3E45-4A5D-A0DF-C0E053BCF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8642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Tu habites où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5:41Z</dcterms:modified>
  <cp:revision>17</cp:revision>
  <dc:subject/>
  <dc:title>Bild 1</dc:title>
</cp:coreProperties>
</file>