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F4A-948A-4F47-9383-89CC7E48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C17-19B7-4B28-90ED-0C4D420C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A95-0013-4D62-BD2A-5DA64E2F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29B-854D-40A2-9075-AC804CF8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AFB-3928-41D4-980D-56DE8E79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A9F-A698-40B8-BE88-3B970CEF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462-E272-4176-969F-2880F8B9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ED4-A0C6-4671-985F-7DA0B13B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FB6-9442-4FA7-A5ED-B19F4331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BB8-FD48-4171-9AF8-4ECA561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9DD-9820-4267-AB4A-3673978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E49-A366-4DBE-A59C-6EE030BD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C72E-DFC3-4A81-BC5D-4A906091C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333399"/>
                </a:solidFill>
                <a:latin typeface="Arial"/>
              </a:rPr>
              <a:t>C’est quel jour?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3:55Z</dcterms:modified>
  <cp:revision>12</cp:revision>
  <dc:subject/>
  <dc:title>Bild 1</dc:title>
</cp:coreProperties>
</file>