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403-5F26-49E4-A21F-6006360C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280-828E-48AC-9698-E2858EFD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F67-E30B-4F2E-A10B-F9778B57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D50-6465-4280-B5E2-A38C3DD9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D99-832E-4222-846C-FADD3F46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C78-D802-43F2-8E0E-D9D91576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E6D-7636-4AA1-BADD-F10F7436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93B-F984-41DE-BC97-42AEECED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D2D-29C2-434E-B826-9EC8D17D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711-3CA3-43E3-AD19-B9A17EFC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814-B360-4734-AA1F-40B03C1E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8B4-B093-41C6-81CD-017AC53B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3A7D-9F62-4F9F-8065-06DC8C44B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81000"/>
            <a:ext cx="86421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333399"/>
                </a:solidFill>
                <a:latin typeface="Arial"/>
              </a:rPr>
              <a:t>C’est vert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9:38Z</dcterms:modified>
  <cp:revision>28</cp:revision>
  <dc:subject/>
  <dc:title>Bild 1</dc:title>
</cp:coreProperties>
</file>