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41C-38DC-4356-8CBD-93B9887F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A18-08D7-4E2A-99FC-D71590C8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E80-126E-4A3D-8734-F6D47196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794-8664-4889-86A1-3AEFA2B5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DD4-A9E6-4765-9B26-24E2673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E90-10ED-46FB-96C2-AE96A04C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C5E-28FD-4C96-B602-C216E100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83C-E2EC-41FC-B1B4-C1515A4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DD1-BAF3-44F8-89F1-50F93016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840-B974-4409-959B-63DA0A3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487-1A07-4EF1-B86F-07CB4DD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09C-BB7E-4D53-9DA7-89E1711C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FC3-FADA-4E77-BA79-584DA7202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Jag letar efter Eiffeltornet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8:33Z</dcterms:modified>
  <cp:revision>79</cp:revision>
  <dc:subject/>
  <dc:title>Bild 1</dc:title>
</cp:coreProperties>
</file>