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6F8-1EA4-4E0C-A159-1DCCE082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DA3-F789-4DB4-8944-94BF0047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E91-5FB9-45D4-8FA2-7C9F891A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5E2-823B-4948-A968-DECCCEBD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23D-46CE-4DC3-9891-A1D1F9F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723-3C93-40E3-B189-A24BE2C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135-8885-4128-971A-C445AD8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87F-A744-41EE-8038-6971E16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F40-AEDA-47D6-AFC7-AC65BC2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483-072D-4CB4-9188-9FCB3E1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DE5-E427-4916-9BE4-AFA5B85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140-E12F-46BA-8D5C-8E7E899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9A5-C590-4884-9A3F-B3226C38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’est un styl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8:47Z</dcterms:modified>
  <cp:revision>25</cp:revision>
  <dc:subject/>
  <dc:title>Bild 1</dc:title>
</cp:coreProperties>
</file>