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63B-44EB-4010-B6C9-B9CA3B7C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398-1F79-4D66-897B-966F9A50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36F-0E56-4E50-B223-2B590638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190-344C-48CA-97AC-2D69EE5D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0FC-CA3B-4481-B7FD-F4E35EF2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A05-63C4-4596-837A-8BFBCD64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456-2AC6-4EC1-8F49-B653609A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563-10E6-4A6F-A70F-522056E1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AB8-04DA-4273-A60A-4C27E3F3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F5C-3293-4598-9866-A833ADE6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1BD-B22F-454E-BBB1-2A18A30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70F-1EC3-418A-9D4A-F91FD1D8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E625-A3E4-4AB6-868B-A5468FCD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765000"/>
            <a:ext cx="839124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500" spc="-1" strike="noStrike">
                <a:solidFill>
                  <a:srgbClr val="333399"/>
                </a:solidFill>
                <a:latin typeface="Arial"/>
              </a:rPr>
              <a:t>Il y a</a:t>
            </a:r>
            <a:endParaRPr b="0" lang="en-US" sz="2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2:38Z</dcterms:modified>
  <cp:revision>36</cp:revision>
  <dc:subject/>
  <dc:title>Bild 1</dc:title>
</cp:coreProperties>
</file>