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53F-AB93-4FE7-80D2-AFD53058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655-123D-4CEA-8B61-78BB6F5F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022-EDD3-4B2B-8E40-E8ADB042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809-F786-4023-A80C-3889CEEF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6D4-67FA-4BB4-9CA7-58547163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626-A89F-4847-8D6D-F37FC5E4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E76-1153-4729-BA8D-E375C215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E85-E6B2-4501-88D8-694E6172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2BB-1896-4D36-8725-05F9C022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C3F-D165-4ED4-AF98-90147A2A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248-7D5C-46A4-B7D6-3F80D58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5B3-8E04-4D5E-B385-64A7D5C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2021-D3D9-4257-B550-979D5C430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Vilket datum är det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20:16Z</dcterms:modified>
  <cp:revision>48</cp:revision>
  <dc:subject/>
  <dc:title>Bild 1</dc:title>
</cp:coreProperties>
</file>