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2B9-644A-458D-87D5-5D92B8A2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DE4-A2ED-48A1-B1CF-DAC4FCF4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28C-507C-49A8-AB5A-C347D4FE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43F-4364-4937-9675-07EB429C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157B-105D-4A2C-84DA-99C386C8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714-5E2A-4B39-B5CD-2760A739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DB8-5223-4427-AB43-B98761A7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5F6D-697A-42E2-8F95-8A534DAB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9BF-E832-437F-AFB1-7CDF0218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B84-B73E-4925-9C06-CC15703F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3EF-E7A4-46FA-9EBF-FC4D5521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5A85-9E91-43F9-8D5C-AFF7608F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1176-9342-4D00-A0DE-BAC462EFF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07920"/>
            <a:ext cx="864216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600" spc="-1" strike="noStrike">
                <a:solidFill>
                  <a:srgbClr val="333399"/>
                </a:solidFill>
                <a:latin typeface="Arial"/>
              </a:rPr>
              <a:t>C’est Maria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8:29Z</dcterms:modified>
  <cp:revision>24</cp:revision>
  <dc:subject/>
  <dc:title>Bild 1</dc:title>
</cp:coreProperties>
</file>