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3A6-8F53-422E-B389-2C6B1E46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701-E365-4E92-8A1A-B61463A0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F6C-DFA2-4FF9-BB60-C737FE30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DDD-362B-4649-B6DB-CCFB8292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2DF-93FA-413A-B3E6-ABEF6C7B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82B-F33F-47C0-8C37-76D689B3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54B-283A-4C19-9A57-3104BF74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AA9-C5B3-41D0-9AF5-CEECA2B1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FFE-6628-4E25-95E8-F958394D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D37-0557-4548-9E3C-B8F7E06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AEA-24CF-435A-8040-9A1098E4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CE7-2F2E-4ED7-9E3A-7FE51F16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C9E1-47D5-4148-B051-58CE8CFC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5359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Arial"/>
              </a:rPr>
              <a:t>Jag gillar godis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7:42Z</dcterms:modified>
  <cp:revision>77</cp:revision>
  <dc:subject/>
  <dc:title>Bild 1</dc:title>
</cp:coreProperties>
</file>