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7D0-0D60-4012-AA51-F5D2431D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36C-F765-46A5-9E05-2E41F62C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AC2-0CF3-4AD1-AFDB-799D788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055-3618-4706-9785-E7DCDCF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6D7-D3FD-49BB-A63F-39C035E2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12D-0792-4113-AE69-91CB8447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31C-65F5-4CE5-99C8-21F8DA9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B0E-9857-4BAF-88CE-39A658CC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ED7-0976-4A47-9A26-1532A2E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370-894E-4C87-B3B9-39E3359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348-98D6-4D6C-9810-20F9857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0B0-099D-4448-B52B-CCD133A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E85-E97C-469C-9AD0-B4D1EF091C7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54936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bor i Västerå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Stefan Gustafsson</cp:lastModifiedBy>
  <dcterms:modified xsi:type="dcterms:W3CDTF">2015-09-26T10:00:39Z</dcterms:modified>
  <cp:revision>65</cp:revision>
  <dc:subject/>
  <dc:title>Bild 1</dc:title>
</cp:coreProperties>
</file>