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9F3-71C2-41E4-A389-BE38C4BC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8DE-9D01-4324-AEBB-643794C1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DFD-B4A7-4023-BAE8-ECC64ABF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F2B-293F-4CC2-A898-FFDCA9D4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345-95AB-4057-9A9E-4CE28218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E59-03B1-4793-B803-28FEFA6E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139-4789-4A2A-B4A8-06294937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FBA-7176-4FBC-B24C-A89322B8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29B-E9D5-4D62-BFCE-8A3646C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C13-0FE0-483D-8241-94CFEEF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D53-E6CE-4C47-B28C-756C397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92B-5658-4AE6-AB80-AB0113DF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911A-DC16-4EB6-9999-FB8E2A870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ffffff"/>
                </a:solidFill>
                <a:latin typeface="Arial"/>
              </a:rPr>
              <a:t>Till förrätt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1:49Z</dcterms:modified>
  <cp:revision>55</cp:revision>
  <dc:subject/>
  <dc:title>Bild 1</dc:title>
</cp:coreProperties>
</file>