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A2D-E8A7-4A76-8618-C78B9736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617-778C-441B-B617-17EB443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7D4-DBEA-435F-A8BD-3A5A84C9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D19-396D-476B-A574-F14810EB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DE7-2272-4CB7-94D7-054A6E5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4E2-9310-4DC1-A853-564C4E0D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30F-3CC5-487F-B1C0-94230A9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84F-B857-4576-86B7-EBB22DA1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DBF-72F5-4835-88BE-F1D2B23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1C3-234E-4B05-A2FA-C4AF09F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D7F-B887-4602-9A1B-ABC91D5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E6B-C3E2-4B64-AE7D-868FAA0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A3E-06F5-4325-9776-A9A950A8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133720"/>
            <a:ext cx="8535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</a:rPr>
              <a:t>Jag ä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40:37Z</dcterms:modified>
  <cp:revision>82</cp:revision>
  <dc:subject/>
  <dc:title>Bild 1</dc:title>
</cp:coreProperties>
</file>