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A216-BDE0-455C-9008-BFD02E49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676-39FB-482B-A2B9-881DEE69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CE8-32D6-4D3C-AC8A-65DC1ABA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E04-4E6F-4239-8583-8CA7F562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16C-DCA8-46BA-B738-6A8873DC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AE56-2AD6-4BD3-9376-2D9A5AAC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65B3-76FE-4473-949F-B84D8409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B4A-7AF1-4096-9503-82BD994E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31D-1E79-4152-A025-36E65FAE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2B56-33B5-42FC-B39C-59094A1C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D71-0AC1-4B9D-B577-36B5D649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83E3-C84B-464D-B177-07FEC99F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FB10-A817-4B38-A013-410F76FC3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25360"/>
            <a:ext cx="8535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ffffff"/>
                </a:solidFill>
                <a:latin typeface="Arial"/>
              </a:rPr>
              <a:t>Vad kostar det?</a:t>
            </a: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18:52Z</dcterms:modified>
  <cp:revision>43</cp:revision>
  <dc:subject/>
  <dc:title>Bild 1</dc:title>
</cp:coreProperties>
</file>