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DE85-699E-48CD-86A4-C613B1B86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CF36-67C0-4888-9529-3A48BF9F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E8C4-D906-4DEB-B29C-255581D02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494D-0180-45E7-B90D-86C49081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DDD4-A23B-4BD2-9F38-5739B8C8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92A1-A056-44AE-9772-86DEB38B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FA9C-D1A2-4E90-924A-0778ADBC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A73E-4809-4C19-B2DB-FE7DF550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7389-75A9-4E55-9AF9-B1B9CC2F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9498-FB22-4CE0-8E74-A5650352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1A0B-F48D-40B3-852D-F109ABED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B0AE-7AA9-4BBF-9C1B-8F91B720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5C6E-EC59-4382-92BE-0253C8B90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836640"/>
            <a:ext cx="853596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700" spc="-1" strike="noStrike">
                <a:solidFill>
                  <a:srgbClr val="ffffff"/>
                </a:solidFill>
                <a:latin typeface="Arial"/>
              </a:rPr>
              <a:t>Till att dricka</a:t>
            </a:r>
            <a:endParaRPr b="0" lang="en-US" sz="1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21:59Z</dcterms:modified>
  <cp:revision>56</cp:revision>
  <dc:subject/>
  <dc:title>Bild 1</dc:title>
</cp:coreProperties>
</file>