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BBCF-0DFD-4A68-B8C9-B6399640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0E42-ED0B-49B9-AB47-326D0967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0D53-3F75-4F5D-A088-C2EAD8DA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F21-79CD-43F9-9F71-0B9E7876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6FB3-9B6F-4EA2-B149-4CCE398C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337B-AACB-41B1-B8C4-B3DC8DBB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C46F-A385-4FE0-BCFF-C866BD89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AD9C-263F-4A30-B042-25B808D1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BB6-370A-4788-A4DA-2D8C2E6C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6AAC-8B2C-42ED-AF78-916B4E68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0A4C-E5A3-4E50-AD7A-EE4AC20B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7C8-418B-49F9-80D1-8B6BCC69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14E2-3B04-4F69-9DCE-CBE5AF8FF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765000"/>
            <a:ext cx="83912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900" spc="-1" strike="noStrike">
                <a:solidFill>
                  <a:srgbClr val="333399"/>
                </a:solidFill>
                <a:latin typeface="Arial"/>
              </a:rPr>
              <a:t>Et toi?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15:35Z</dcterms:modified>
  <cp:revision>38</cp:revision>
  <dc:subject/>
  <dc:title>Bild 1</dc:title>
</cp:coreProperties>
</file>