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24A-CCE9-41EF-9CF0-9FAA2F66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117-2B71-4D23-8A89-F1A74BD5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0CB-1439-4354-B950-4F3BCCEA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FA3-6115-49E5-AD2A-41C7875C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FAD-6388-4455-803C-20577937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2A4-1FBC-4C06-A9BA-DC4304AC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29F-4B4A-4EA9-AECB-1EFC5DEE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650-D297-4BB2-8396-E8489068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4AC-7D1A-4E04-A151-79A98257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825-5334-4F43-AFAB-819C5209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7D9-6284-457C-94CB-335F3870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EC1-0D94-4F5F-A080-3F7FCC9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A1C9-9B21-4C75-83B7-D05F51DAC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700" spc="-1" strike="noStrike">
                <a:solidFill>
                  <a:srgbClr val="ffffff"/>
                </a:solidFill>
                <a:latin typeface="Arial"/>
              </a:rPr>
              <a:t>Notan, tack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3:24Z</dcterms:modified>
  <cp:revision>62</cp:revision>
  <dc:subject/>
  <dc:title>Bild 1</dc:title>
</cp:coreProperties>
</file>