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6F5-8B80-4F75-BDE0-FDEE6133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0C9-6883-467B-A96A-135F4704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0BD-26C7-4FE1-AB0C-686E3107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7C1-0D91-44EE-922D-E67EDA81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898-59C3-40DA-AD16-F1C3023A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904-63E4-434B-A7F9-DD27CA30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C2C-F9B0-4EAB-B2DA-F7A4A069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593-2341-4A98-81E5-D020C041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D66-7106-4BBC-A418-48E58D68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83F-DC85-402B-ACB5-FBCCA935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75C-AB52-4584-9204-CCDD6EFA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D61-165D-4CFE-8F33-6272516E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62C3-9043-4180-975D-36E1942B9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36440"/>
            <a:ext cx="864216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0" spc="-1" strike="noStrike">
                <a:solidFill>
                  <a:srgbClr val="333399"/>
                </a:solidFill>
                <a:latin typeface="Arial"/>
              </a:rPr>
              <a:t>Quel temps fait-il?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10:15Z</dcterms:modified>
  <cp:revision>29</cp:revision>
  <dc:subject/>
  <dc:title>Bild 1</dc:title>
</cp:coreProperties>
</file>