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5FE5-3690-4E85-9227-B51F268A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CAE3-8E8E-4696-9146-CA34985C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AEA0-10FF-4940-881A-CEF14426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3CFF-8F66-4A32-B718-71B6C281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F5F7-B4DC-4273-9800-2E155011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D588-C3BA-47DF-809D-A4DA04F3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5494-6098-44CD-B0FD-88EEE9F0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04DB-0ECC-412F-97C8-89B8DEFD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EA51-40F2-449E-869D-DFEB26C9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41E5-BD4F-4A48-9093-6FE5B899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B81F-029A-4527-BCC9-D2C1F76D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1922-0DEF-4F39-A35B-D7F87489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E107-84C4-497E-882D-31C567D82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836640"/>
            <a:ext cx="85359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ffffff"/>
                </a:solidFill>
                <a:latin typeface="Arial"/>
              </a:rPr>
              <a:t>Vad är det?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20:52Z</dcterms:modified>
  <cp:revision>51</cp:revision>
  <dc:subject/>
  <dc:title>Bild 1</dc:title>
</cp:coreProperties>
</file>