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32A4-C4DA-4AF5-8FC6-3842855E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F9A-E258-4DAC-8CDE-793E1B38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6C21-EF07-4038-99DC-5B338E8E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58F4-3A2D-41BD-B39B-4F2659C5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D7E-90B2-4B2E-8FC1-9A270C66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5C3C-FE14-4320-A4CD-C3AD2A3F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6C9-9478-48B9-BD93-E89AFCC2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14B-DEF8-4B56-968F-59A60A7D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FCF8-1279-49E1-8D3E-3ABA75A4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CD7-CA32-4B23-A3CF-8964DC0E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6F5-C44F-4B65-BEEF-110449D4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BE74-1FFA-4649-B378-B3E277EA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8C2C-75A6-4B01-8E90-042F67656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20640"/>
            <a:ext cx="8391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4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500" spc="-1" strike="noStrike">
                <a:solidFill>
                  <a:srgbClr val="333399"/>
                </a:solidFill>
                <a:latin typeface="Arial"/>
              </a:rPr>
              <a:t>J’aime les bonbons</a:t>
            </a: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11:48Z</dcterms:modified>
  <cp:revision>33</cp:revision>
  <dc:subject/>
  <dc:title>Bild 1</dc:title>
</cp:coreProperties>
</file>