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255-B8F6-4DEF-B5C2-B078E158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7D9-0625-419D-8E62-B502296E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1738-1815-44B8-BB68-691B01AD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1859-5979-4FFB-BFD5-8B387732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5A7E-EF0B-400F-B53D-8EA4FD18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BAE-375B-4430-A952-6843E41B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999-1C7F-402C-9DEE-64798534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4D87-4CB0-4642-8261-8389BF24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2E2-D0AA-484B-ABD0-130E0CFC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DB52-BDC9-45F3-A351-1AD74BCD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09B1-92AA-4578-883D-B98CC4A7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F152-692A-4922-882B-374825CD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93A0-E14D-4AC4-BB16-35012B4A7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907920"/>
            <a:ext cx="864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400" spc="-1" strike="noStrike">
                <a:solidFill>
                  <a:srgbClr val="333399"/>
                </a:solidFill>
                <a:latin typeface="Arial"/>
              </a:rPr>
              <a:t>Qu’est-ce que c’est?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7:27Z</dcterms:modified>
  <cp:revision>22</cp:revision>
  <dc:subject/>
  <dc:title>Bild 1</dc:title>
</cp:coreProperties>
</file>