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C2A-28B3-40F8-A1F8-68637FB1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BF1-7374-4EAE-8B6D-5DE52E12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F1A-F3C7-4987-A6D0-338C9E81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100-0DA6-4F6C-AED7-ABD3188F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473-1A73-49E8-8A67-3395F65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631-605B-42B1-B411-17F3B7C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A9F-FF59-462D-A6CF-C97EDBB4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118-6956-4AF8-9A99-F400787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D40-ED7D-4D21-ADA1-7A1E8E5D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5A4-118D-439C-9BB4-9E003DC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588-FB2B-4E93-8BD1-98903AE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DF5-6FCE-448B-9466-9C95B8E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78F7-AE16-49B8-BFDB-4A4B2D59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C’est génia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2:54Z</dcterms:modified>
  <cp:revision>9</cp:revision>
  <dc:subject/>
  <dc:title>Bild 1</dc:title>
</cp:coreProperties>
</file>