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0E6-B1AD-4B5D-9CDD-531F12E3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E6B-642B-4DB1-882D-3D6972EF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51F-8E51-4390-92AF-644D6235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A6A-40E7-472B-BBA7-D47E7AA7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AC1-BF94-45FF-B5AC-6CC02DFA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1D9-91B7-4EE1-873F-7F94A253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6E4-23A0-4142-88A3-3B755410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CF7-C409-4A6F-81FB-C1AA762E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5B6-89AB-454F-A4A2-7271D256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D24-5FBF-4A94-A315-623DEF58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684-D2AF-419F-927A-1E09766A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0E1-C630-43BC-BC96-4B0973B4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DDFA-C5B6-4184-8E69-01432A5F4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Jag skulle vilja ha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5:29Z</dcterms:modified>
  <cp:revision>70</cp:revision>
  <dc:subject/>
  <dc:title>Bild 1</dc:title>
</cp:coreProperties>
</file>