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E9C2-835A-4CA5-92D7-482032F20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9D2B-67D4-47C1-BE1B-37E78431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CD57-0D33-41A5-BF18-140FA952D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9103-A9C7-411F-8C9C-A6BA712F0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F150-B9EF-44EB-A206-F5E7A8557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ACA5-E9F5-46B3-B052-698028498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64F5-DAE3-49B0-88E4-7ED21CCDE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AAEA-FA98-4D08-8F4C-D968C14B7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FB3F-DAEB-4CF4-8955-D06AAD23C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5BCF-70A9-4D3C-A641-8F658A2F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0C5D-8A53-457F-A24A-3265669D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A966-E97E-4CB1-9C7A-4FCF2527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262B4-9016-4EB9-8E14-9CF41A679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907920"/>
            <a:ext cx="864216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600" spc="-1" strike="noStrike">
                <a:solidFill>
                  <a:srgbClr val="333399"/>
                </a:solidFill>
                <a:latin typeface="Arial"/>
              </a:rPr>
              <a:t>C’est lundi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 </cp:lastModifiedBy>
  <dcterms:modified xsi:type="dcterms:W3CDTF">2006-11-13T17:08:56Z</dcterms:modified>
  <cp:revision>26</cp:revision>
  <dc:subject/>
  <dc:title>Bild 1</dc:title>
</cp:coreProperties>
</file>