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BD8-E31D-4D3E-B804-07C79C36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D794-F586-4E6B-AF00-AA0DAF91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5AD5-CF95-44B2-AF36-47FF62E4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D061-7370-45DF-A2D9-323BD1A3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A9BF-0EC8-4665-ADF4-4A55AE5B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18C-87C3-43AB-B735-CF0C8B73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C34A-14E6-4F65-A624-A9F18142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942-E044-4105-941F-2019F2D9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9D1F-B42D-41B6-93A3-D211641F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ADBD-6884-449D-8831-744688F7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F229-C6F4-4F4F-8F70-96B6F0B2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2D1-02DF-42B0-AD4A-872519E9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C111-2524-4E41-9F61-453EF2A41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549360"/>
            <a:ext cx="85359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ffffff"/>
                </a:solidFill>
                <a:latin typeface="Arial"/>
              </a:rPr>
              <a:t>Det är den 30:e september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IT-Avdelningen</cp:lastModifiedBy>
  <dcterms:modified xsi:type="dcterms:W3CDTF">2009-09-30T03:39:23Z</dcterms:modified>
  <cp:revision>62</cp:revision>
  <dc:subject/>
  <dc:title>Bild 1</dc:title>
</cp:coreProperties>
</file>