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911-1DCF-4F4F-91DF-86CEA55B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B31-2D33-4804-A16A-FBE991A7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626-9510-4423-9BB5-C810D308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3E3-0FEA-4648-BB67-F412F48C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A3C4-1E63-46AE-98AA-21B70532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379F-49CB-4234-9DE3-4F4757B3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B2D-F3B4-4F7F-8ED9-5822EA6D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8A01-239F-4605-A547-7E986A4D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338-E561-47AA-BCB3-1F0FB80D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64CB-A3A4-4D35-AC41-4F838348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A27-60FC-4DA3-A808-37685CF4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5CD9-C33A-4CEF-A278-88EF7F8D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5BB1-94E2-4B74-811E-C9CC5F5DA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25360"/>
            <a:ext cx="86421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0" spc="-1" strike="noStrike">
                <a:solidFill>
                  <a:srgbClr val="333399"/>
                </a:solidFill>
                <a:latin typeface="Arial"/>
              </a:rPr>
              <a:t>Tu as quel âge?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5:33Z</dcterms:modified>
  <cp:revision>17</cp:revision>
  <dc:subject/>
  <dc:title>Bild 1</dc:title>
</cp:coreProperties>
</file>