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AEF0-11FA-49CA-8600-C6B73B6A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1FBF-4D12-4F9F-8C1A-424F549E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100F-6F7B-4AF2-BC97-890F425F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33B8-4789-47FA-AC08-2FC990FE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CA00-3359-417B-B137-FC6B7C0A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A111-FAE5-4DD8-A419-71E7FC5A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6723-AB06-4866-B345-B7245348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5E39-2970-4B6E-B1BD-E09CCD47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80CF-40CA-458D-A517-7FCC24C7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ACDE-6398-4EDA-8029-23EB59F0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B6C8-082D-4408-8994-824EC3FC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F34-4C16-4BC2-BDBB-A71C23F2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B38A-EBCA-44B9-9B8B-0FDF49B0D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60280"/>
            <a:ext cx="864216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4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500" spc="-1" strike="noStrike">
                <a:solidFill>
                  <a:srgbClr val="333399"/>
                </a:solidFill>
                <a:latin typeface="Arial"/>
              </a:rPr>
              <a:t>Je m’appelle Stefan</a:t>
            </a: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06:48Z</dcterms:modified>
  <cp:revision>20</cp:revision>
  <dc:subject/>
  <dc:title>Bild 1</dc:title>
</cp:coreProperties>
</file>