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93D8-8E4A-42CF-ACDF-7E45D24E2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1309-9C16-4C88-B520-4E9F54F98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33A3-E880-4AEA-BC00-42FB53F42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7559-C1D9-4C78-A89F-1BF779BB5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136E-E587-4934-BA90-A4C8A8589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84CF-027D-4218-A8CA-52CD5923C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8B06-2793-4689-94A8-08FC6A59D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90E9-F583-49BC-A315-F3B80FE85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0545-87EF-48C4-B051-BB4CDBBB9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51D9-E5D9-4612-A20A-03E4DCF3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4EDE-7B91-4AFB-A51A-BACDE60D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54D8-0BE4-41F7-9F69-0974197E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2DE16-23B7-4F81-BC6F-33E0B7A9C0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2349360"/>
            <a:ext cx="864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400" spc="-1" strike="noStrike">
                <a:solidFill>
                  <a:srgbClr val="333399"/>
                </a:solidFill>
                <a:latin typeface="Arial"/>
              </a:rPr>
              <a:t>Tu as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IT-Avdelningen</cp:lastModifiedBy>
  <dcterms:modified xsi:type="dcterms:W3CDTF">2009-09-30T03:42:21Z</dcterms:modified>
  <cp:revision>32</cp:revision>
  <dc:subject/>
  <dc:title>Bild 1</dc:title>
</cp:coreProperties>
</file>