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193-E820-4829-B892-97BEFA88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869-5412-4A1D-B08A-4BD52704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71C-DFA2-4E07-8721-A3F37AFD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B03-BE46-48E6-9A32-34E190C2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295-69AA-4C24-BDCB-64BDF5F3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0F7-B2DF-4A99-97FF-8C79739F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9CE-FFFF-4CB7-B49B-0868253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C01-5249-4F08-AB84-47C5303C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8C5-AFE5-4794-9304-316B3E08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7D4-A263-4E46-85E7-78E50CE0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2AA-0F51-4B4E-8388-A8A2868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39B-FD30-4132-9540-2B90E5D2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C29A-A21B-425F-9B3D-42EF0BF1C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5359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"/>
              </a:rPr>
              <a:t>Och du?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30:09Z</dcterms:modified>
  <cp:revision>82</cp:revision>
  <dc:subject/>
  <dc:title>Bild 1</dc:title>
</cp:coreProperties>
</file>