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DC4-9234-4F09-A443-D29B1623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D9D-4E2D-428C-908E-44A6DC08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F53-E50B-4D51-A0BE-05691991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626-0734-4292-8779-216E8656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CB6-CA7C-43B7-A8E8-5C4FDD1D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57F-8C8D-4771-964B-9EB626E2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026-AF75-4BDB-B4CB-43E0AAF4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97E-79D9-48B2-8811-B8BF12BE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38C-DE6C-4A9F-AEDA-4ADAA7EE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004-793E-43A4-9D34-575B0B32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469-EDA6-414E-85E2-89E4CBBF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9E2-EF90-45B4-9AAC-1BC0A588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AFA3-A04E-4A8E-BB54-3C4370034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ff"/>
                </a:solidFill>
                <a:latin typeface="Arial"/>
              </a:rPr>
              <a:t>Det är en penna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2:24Z</dcterms:modified>
  <cp:revision>58</cp:revision>
  <dc:subject/>
  <dc:title>Bild 1</dc:title>
</cp:coreProperties>
</file>