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72D-BCA1-41C3-AC05-7D0CDAA6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008-2846-4EB8-ABC8-9B0797CE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F1C-A2D9-428B-AEB0-11E00F4D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76D-C2AD-4137-A660-D8B3FE60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602-2821-4546-B1FA-B949A23B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A38-E819-4C5C-B4B1-68743163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EA4-43FB-457C-B73D-22EEBC95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267-EAE1-460B-9935-DF5CFC31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827-4585-4407-87AE-42B312FD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5A6-F8A4-4AFA-BA47-7A38AC0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F38-EF90-4764-B662-2B600652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FB5-8C2F-4E63-BCF9-45BFEE9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E67A-C688-4141-AF3C-9E2C2197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200" spc="-1" strike="noStrike">
                <a:solidFill>
                  <a:srgbClr val="ffffff"/>
                </a:solidFill>
                <a:latin typeface="Arial"/>
              </a:rPr>
              <a:t>Vad?</a:t>
            </a:r>
            <a:endParaRPr b="0" lang="en-US" sz="2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7:15Z</dcterms:modified>
  <cp:revision>75</cp:revision>
  <dc:subject/>
  <dc:title>Bild 1</dc:title>
</cp:coreProperties>
</file>