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A90-F103-445B-B157-E2C6DF54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CD6-0772-4010-AD2B-1132ABCA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028-9C6E-4C63-BD99-F9AB551E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19F-6501-4001-A04E-43C2AEF9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892-7B47-4394-ABED-C565A975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00A-FC5F-4592-9612-290DEFE2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C78-65CB-4B99-AFD6-6436B1AE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62A-49A1-4DFE-9027-0B2817DE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F67-C8CF-4C87-A985-598C4784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0CC-B49B-4B3C-98C7-C2B7A992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4B5-F496-47F9-8009-8A780A1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478-50EF-42C2-AF3B-1EBBAB56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53AF-CA91-4D01-BA61-B31D0C338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92280"/>
            <a:ext cx="87138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ccff33"/>
                </a:solidFill>
                <a:latin typeface="Sylfaen"/>
              </a:rPr>
              <a:t>_____voitures (fpl) = era bilar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IT-Avdelningen</cp:lastModifiedBy>
  <dcterms:modified xsi:type="dcterms:W3CDTF">2010-12-06T04:15:17Z</dcterms:modified>
  <cp:revision>7</cp:revision>
  <dc:subject/>
  <dc:title>Bild 1</dc:title>
</cp:coreProperties>
</file>