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764-F11E-47D6-A4BB-A6D70DDA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2A2-40A1-4765-997A-D3AE159D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FFC-75A5-4F00-9D35-E0E6E217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AA8-3724-48BE-AD6E-5C107402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361-D4DF-4CC0-8E61-A3501146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715-CA39-4B12-A90D-FF69EEB3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211-D872-40A9-90FC-1B73B3B4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58B-5310-443F-95F3-1BD9E537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E5B-E44D-492C-9E45-A26C6057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56A-EBCD-448E-BFA2-9633BD4C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648-B58D-41F2-A20C-DA1DC362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FF02-F200-4B20-B985-D8BEB28E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C599-3163-452D-A4CD-0E185916B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92280"/>
            <a:ext cx="8569080" cy="71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ff"/>
                </a:solidFill>
                <a:latin typeface="Sylfaen"/>
              </a:rPr>
              <a:t>Du lyssnar på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IT-Avdelningen</cp:lastModifiedBy>
  <dcterms:modified xsi:type="dcterms:W3CDTF">2010-12-06T04:16:56Z</dcterms:modified>
  <cp:revision>8</cp:revision>
  <dc:subject/>
  <dc:title>Bild 1</dc:title>
</cp:coreProperties>
</file>