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7E7-0B6F-45EE-8D87-C11310B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5D9-5118-4305-9099-CE6218BF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5EE-1FEE-4D97-84FE-DA8CA9AC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4EB-25A9-4D7A-B3F6-D1E42F65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977-B3B4-477A-805D-E2082CA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45E-77BC-4FCE-A55B-B0D12C5E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AF3-8563-40DF-A29C-83CB55C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BCD-43BF-41C7-B632-582A97BB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22B-6BA8-4D51-A156-E450607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610-B140-46CC-BA88-0FD71B5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7FC-A839-48C9-A061-D8F5D9FE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79A-E353-4685-B812-D483EF4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2D3C-E875-4D42-AAF2-D0F5B4DE34B3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0" spc="-1" strike="noStrike">
                <a:solidFill>
                  <a:srgbClr val="ffff00"/>
                </a:solidFill>
                <a:latin typeface="Times New Roman"/>
              </a:rPr>
              <a:t>Ni har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-Avdelningen</cp:lastModifiedBy>
  <dcterms:modified xsi:type="dcterms:W3CDTF">2010-12-06T04:19:32Z</dcterms:modified>
  <cp:revision>9</cp:revision>
  <dc:subject/>
  <dc:title>PowerPoint Presentation</dc:title>
</cp:coreProperties>
</file>