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F18-23E6-465E-AB1F-0D521312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6B5-6C8D-41AE-BD9E-857382F7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D10-D677-4BCD-A9FE-4A573CCC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60E-D7A1-4067-9D92-EA16CE36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2329-A24F-4110-BFEE-3B4463FE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FE31-75F7-4CFB-9F72-9C667FA5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EE7-F076-4FA8-A60D-5BAC6B90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E878-B4EF-43E8-A7D3-EE0BAD87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F51-778E-46BA-B568-1C57FAEC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9463-A59A-449F-AC22-BC07D740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13B-B4F2-4ED9-88A3-7A80DF7A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5FA-A77A-4A3A-80C6-5CFA2B24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BB02-6014-4E61-A1D6-69CBFC5F5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69328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Årjängs gymnasieskola</cp:lastModifiedBy>
  <dcterms:modified xsi:type="dcterms:W3CDTF">2008-09-15T03:03:20Z</dcterms:modified>
  <cp:revision>7</cp:revision>
  <dc:subject/>
  <dc:title>Bild 1</dc:title>
</cp:coreProperties>
</file>