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2C2-C3D2-43B7-A11C-8E291BCF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528-E26D-4431-A713-A4BB6FE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D77-576D-43D0-A0CA-CF118F22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C1C-4BBF-425E-96F0-3B655FB1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7D7-BE2E-4191-89E3-AA4BC67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43E-4F1E-499D-8372-9D9DF3E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E55-FA11-491C-A5F1-283F263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BED-8A61-4398-A50C-2D53630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26B-AFA6-4F2B-A1D4-24E5F73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45F-AC93-4676-A0E5-0567A31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6CB-F09E-4E5F-9824-6AC97FD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646-0F3D-402F-B878-B13428C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044-C71D-4EEE-81DF-6A78A265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197000"/>
            <a:ext cx="8425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Sylfaen"/>
              </a:rPr>
              <a:t>Vad gör du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IT-Avdelningen</cp:lastModifiedBy>
  <dcterms:modified xsi:type="dcterms:W3CDTF">2010-12-06T04:16:02Z</dcterms:modified>
  <cp:revision>8</cp:revision>
  <dc:subject/>
  <dc:title>Bild 1</dc:title>
</cp:coreProperties>
</file>