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2DE-AC53-4DE7-9024-4C341BEC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9A9-48F9-4E56-903C-436E058C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0EB-3326-4E19-9234-F52059A1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8CA-B70E-4366-BCC0-B3F2726F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9CE-E5AE-445A-A25D-22E3FBE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656-8A93-4BC0-B0DF-9DC51563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D8B-14D6-4FA7-9220-059CCE44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489-9D39-42BF-BF64-BB5AC039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922-B538-4CB1-BF75-E7BE682A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497-A461-4D81-9036-B1F345D2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1AE-80C3-4FA0-9DC5-130794A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1C6-439A-40AD-9ED1-736DAAF9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A55-835F-412C-B42D-501647B29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8446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cc00cc"/>
                </a:solidFill>
                <a:latin typeface="Sylfaen"/>
              </a:rPr>
              <a:t>C’est bien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IT-Avdelningen</cp:lastModifiedBy>
  <dcterms:modified xsi:type="dcterms:W3CDTF">2010-12-06T04:12:36Z</dcterms:modified>
  <cp:revision>8</cp:revision>
  <dc:subject/>
  <dc:title>Bild 1</dc:title>
</cp:coreProperties>
</file>