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32F-C202-4B81-969D-A51C2E79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0FD-9EFD-4C46-B8DE-7AF0101F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A18-CF76-4B58-997E-522462C5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DA2-E2D2-4BF5-B8BE-C4069887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2D15-9D4F-4ED4-B87E-3E3ECB27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0F5-5256-4046-9415-53B8D46B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C88-8C1D-4D0F-9B15-67D04D7D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8E7-B2AE-4657-9C59-0023C755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70F-5E80-41B0-B392-A22978DB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064-C3F4-48CB-A964-7AD99FC8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21B-6FB4-4CF3-AD55-C86CC46B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ABA-EC3F-4D5A-A20C-29312CFA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D347-C881-4D07-82F4-B1AD8F845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20640"/>
            <a:ext cx="853272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500" spc="-1" strike="noStrike">
                <a:solidFill>
                  <a:srgbClr val="ccff33"/>
                </a:solidFill>
                <a:latin typeface="Sylfaen"/>
              </a:rPr>
              <a:t>_______ professeur(m)= vår lärare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IT-Avdelningen</cp:lastModifiedBy>
  <dcterms:modified xsi:type="dcterms:W3CDTF">2010-12-06T04:14:11Z</dcterms:modified>
  <cp:revision>7</cp:revision>
  <dc:subject/>
  <dc:title>Bild 1</dc:title>
</cp:coreProperties>
</file>