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939-B96C-4AC5-95EB-33F2D5A3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F7A-758B-4BB2-9A34-A60D344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EEC-152E-468B-A223-619AD411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824-C916-449F-BBB8-D6624A79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6B4-F532-4C8F-87C3-29781B0E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7B8-60DA-491E-A613-2056C5B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BD6-0FF1-489D-BDA8-3898E64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91F-1E43-482A-8DF6-2AF307C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167-38F0-40E7-9C4D-EB0AC2D5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662-5224-4368-98E4-DCAD2A38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56A-7652-4675-81F7-4872A7B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479-84AC-40C2-97D7-337B24E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ACB9-9AEF-4774-A9FD-64E2D2443829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557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0" spc="-1" strike="noStrike">
                <a:solidFill>
                  <a:srgbClr val="ffff00"/>
                </a:solidFill>
                <a:latin typeface="Times New Roman"/>
              </a:rPr>
              <a:t>Hon är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-Avdelningen</cp:lastModifiedBy>
  <dcterms:modified xsi:type="dcterms:W3CDTF">2010-12-06T04:19:51Z</dcterms:modified>
  <cp:revision>9</cp:revision>
  <dc:subject/>
  <dc:title>PowerPoint Presentation</dc:title>
</cp:coreProperties>
</file>