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980B-CABA-459B-9C29-ECF44B30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D393-47ED-4398-A9E9-CCB1BBCC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616A-90B3-4C89-B146-2F188F65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D8A5-AEA2-4DAD-BCF6-82B40BC2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61F6-2DCF-42B7-AB04-5592337E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9C50-931D-4ADD-B83E-D786F681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59E7-4E64-4B24-90F1-4AFDA191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C6F9-C342-4E93-BBC4-DF81E09C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57E7-10D1-403D-8D87-50119A3C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7720-F2E4-48E0-A7AF-F4951B35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A121-8C18-464F-9F78-37CC05DF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6BC9-430C-4EAA-9C2E-8152F1F1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B716-7F7A-49DD-9661-2A2A1883D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828036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100" spc="-1" strike="noStrike">
                <a:solidFill>
                  <a:srgbClr val="cc00cc"/>
                </a:solidFill>
                <a:latin typeface="Sylfaen"/>
              </a:rPr>
              <a:t>Il rit = han skrattar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IT-Avdelningen</cp:lastModifiedBy>
  <dcterms:modified xsi:type="dcterms:W3CDTF">2010-12-06T04:11:04Z</dcterms:modified>
  <cp:revision>7</cp:revision>
  <dc:subject/>
  <dc:title>Bild 1</dc:title>
</cp:coreProperties>
</file>