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98BD-F7F8-44E1-97F6-C13FF0A78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0436-3521-4CD5-8FF8-665930A4D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3DAE-D19B-421A-8116-871E37E55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74BC-DEC0-4FA0-8925-7948FFC86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ACCD-E7EB-4C4F-826E-3B807F2C6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4533-1F0F-42FE-BE24-3B06B5765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9B58-C26A-4412-8EBC-F07B7F4DF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FBF1-95D4-47A7-8DEE-371F423B0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1CE5-BFB4-4F80-93D8-58117B12D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8BD9-7233-410C-B0AB-9D9FAC59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A27F-A08D-4D88-8CED-AB65E3924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418C-7AD7-436F-8B0D-B3C769B94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F121C-BE56-45C9-81E6-85A902477C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1341360"/>
            <a:ext cx="8785440" cy="51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9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1100" spc="-1" strike="noStrike">
                <a:solidFill>
                  <a:srgbClr val="ccff33"/>
                </a:solidFill>
                <a:latin typeface="Sylfaen"/>
              </a:rPr>
              <a:t>___chemise(f) =hans skjorta</a:t>
            </a:r>
            <a:endParaRPr b="0" lang="en-US" sz="1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46:56Z</dcterms:created>
  <dc:creator> </dc:creator>
  <dc:description/>
  <dc:language>en-US</dc:language>
  <cp:lastModifiedBy>IT-Avdelningen</cp:lastModifiedBy>
  <dcterms:modified xsi:type="dcterms:W3CDTF">2010-12-06T04:14:55Z</dcterms:modified>
  <cp:revision>7</cp:revision>
  <dc:subject/>
  <dc:title>Bild 1</dc:title>
</cp:coreProperties>
</file>