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08D-A7CF-450C-BEC4-87A7DEEB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249-995C-45B1-AD75-4D31EEFD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DF3-390B-4FDE-8FBB-1C58DC10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0A67-033F-4838-9C2D-6885F982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9CE-672E-4E2D-AA4C-19045D9A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B66-11B9-457B-9140-1D082B98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AFA-7482-4B4D-9786-AE991E5C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C2B-D869-408B-B900-23773420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118-6790-4FC9-AFD7-D8DD4202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DD0-8DB5-49B1-8FA8-5906D855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757-9F48-446D-BC89-99B314ED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674-C7DF-49CA-82F7-801D7A82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12D8-9FF3-4916-90F4-D984BBDA3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53272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500" spc="-1" strike="noStrike">
                <a:solidFill>
                  <a:srgbClr val="ccff33"/>
                </a:solidFill>
                <a:latin typeface="Sylfaen"/>
              </a:rPr>
              <a:t>____vélo (m) = min cyk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IT-Avdelningen</cp:lastModifiedBy>
  <dcterms:modified xsi:type="dcterms:W3CDTF">2010-12-06T04:13:13Z</dcterms:modified>
  <cp:revision>6</cp:revision>
  <dc:subject/>
  <dc:title>Bild 1</dc:title>
</cp:coreProperties>
</file>