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A8A-E3AF-40E9-A239-25BF5688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0DE-41B0-40D9-BC64-0C11FC5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6CE-C4F8-4DB5-8DB3-3C99552F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91A-7FA7-4170-B966-EDF0289A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EAE-78E9-4A6E-83EB-96649B4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AB0-B48A-4D63-88BE-CE0F4138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DC8-BC5C-4CA1-82C4-88FE0F6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3DA-C980-493F-9905-AC4FDC30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2B6-2A62-4C42-B25F-128512B9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4F9-2D94-41CC-A74B-243570A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6F6-10AE-4AB9-B033-CA14E00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C27-CE2A-4648-8F29-0ABBFE2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0077-1A87-415A-B120-EBFA7D36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83516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cc00cc"/>
                </a:solidFill>
                <a:latin typeface="Sylfaen"/>
              </a:rPr>
              <a:t>Il aime les bonbons = </a:t>
            </a:r>
            <a:r>
              <a:rPr b="0" lang="sv-SE" sz="8800" spc="-1" strike="noStrike">
                <a:solidFill>
                  <a:srgbClr val="cc00cc"/>
                </a:solidFill>
                <a:latin typeface="Sylfaen"/>
              </a:rPr>
              <a:t>han gillar god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IT-Avdelningen</cp:lastModifiedBy>
  <dcterms:modified xsi:type="dcterms:W3CDTF">2010-12-06T04:12:23Z</dcterms:modified>
  <cp:revision>8</cp:revision>
  <dc:subject/>
  <dc:title>Bild 1</dc:title>
</cp:coreProperties>
</file>