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97B-EA6F-487B-906C-A56E1E00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F6-A8CE-4478-B804-CD5F3DD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1AE-2743-4A10-832F-F004B03C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739-ACDD-4C3C-952F-F96CA495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9C7-B33F-4DE1-85BC-03F26320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577-AFD6-42D3-AD85-7875CED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CA3-DEC3-4FAA-8737-5CBB1904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0D9-6085-4713-8433-83F67136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6B4-00C9-4910-AD03-14914EF3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0EE-4292-4A3D-8281-3BB268A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E8F-9805-43EA-AA4A-904C64FA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88B-D780-4450-ADAD-8D71448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BCA0-329E-4404-9385-968A223D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49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0" spc="-1" strike="noStrike">
                <a:solidFill>
                  <a:srgbClr val="cc00cc"/>
                </a:solidFill>
                <a:latin typeface="Sylfaen"/>
              </a:rPr>
              <a:t>Elle travaille à la poste = hon jobbar på posten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IT-Avdelningen</cp:lastModifiedBy>
  <dcterms:modified xsi:type="dcterms:W3CDTF">2010-12-06T04:11:48Z</dcterms:modified>
  <cp:revision>8</cp:revision>
  <dc:subject/>
  <dc:title>Bild 1</dc:title>
</cp:coreProperties>
</file>