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E95-F262-484C-89F8-BE34AE85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BDB-6332-4EDF-9CF9-D404CF5F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ED6-8B8A-4D45-B523-DFE6A6C0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8CEB-6637-4545-AEBD-304C8D44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5C5-1588-43A6-B301-663E1D28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28B-9C7E-43BC-A066-4513D007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31A-3767-4488-9404-61B38F76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E04-A3BA-4FA6-B654-0E0F4147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B22-E33E-4DB5-9F2B-1EB2DC04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AAC-5392-4CD6-8E28-33747B43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841-0CD5-45E2-B722-49DB808B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1F1-E8F7-469A-AF83-9EC3BB65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337C-D59E-499C-ACA9-472C156C4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39722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8-02-03T14:43:47Z</dcterms:modified>
  <cp:revision>7</cp:revision>
  <dc:subject/>
  <dc:title>Bild 1</dc:title>
</cp:coreProperties>
</file>