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61C-4B0C-403F-84D8-77CBFD6B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2B7-C882-4468-8CDD-5FA02114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41A-7C51-4608-9E1B-6B733270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0DB-08A0-4BEA-B1FA-D9916919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2AC-DC80-4B65-B32A-53357A98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F8E-2237-4089-AAD9-367443CD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175-AC28-4DA1-B6D6-AD305EA0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70E-FD3C-4048-9142-E7AC5E31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C81-CC6C-493F-9E9F-70BA1EC6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E81-3C39-4909-92F8-6CEFE454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2BB-D945-4AD6-BDE4-901F6D3C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ABE-86BA-4B3C-A8CB-C19C936F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7624-51B7-4934-AB79-826F231F5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773360"/>
            <a:ext cx="75614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100" spc="-1" strike="noStrike">
                <a:solidFill>
                  <a:srgbClr val="ff3300"/>
                </a:solidFill>
                <a:latin typeface="Sylfaen"/>
              </a:rPr>
              <a:t>en jordgubbe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IT-Avdelningen</cp:lastModifiedBy>
  <dcterms:modified xsi:type="dcterms:W3CDTF">2010-12-06T04:04:49Z</dcterms:modified>
  <cp:revision>7</cp:revision>
  <dc:subject/>
  <dc:title>Bild 1</dc:title>
</cp:coreProperties>
</file>