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36A-1399-4890-8D5C-2DA08480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003-1FEC-4649-87D7-91AE743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4BA-A418-4AE8-BDA3-0915FE30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AA5-9D78-4912-9B5C-4E8D0D69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468-66E7-49C9-AA7B-12E7CB56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701-DC9D-4D15-A6F4-42C15F9C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53A-7C0C-4EAD-B9B9-B31D4B61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205-7F49-4712-A64B-578EDF6C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57F-14B8-49F4-B708-18E64BDB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19A-9723-4F5A-AB2C-4851E94A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144-CD51-4DA3-9318-38CF2E41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F05-015F-484A-80D2-881AFD52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9BFE-B973-4D86-83D6-CBC95712D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7628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ff3300"/>
                </a:solidFill>
                <a:latin typeface="Sylfaen"/>
              </a:rPr>
              <a:t>Ett hallon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IT-Avdelningen</cp:lastModifiedBy>
  <dcterms:modified xsi:type="dcterms:W3CDTF">2010-12-06T04:05:10Z</dcterms:modified>
  <cp:revision>8</cp:revision>
  <dc:subject/>
  <dc:title>Bild 1</dc:title>
</cp:coreProperties>
</file>