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83D-63C0-41C2-A0E0-32A15ED6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509-D048-41A9-9C1A-AC421C63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FA7-DB1D-42CF-87D4-BCCE552A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390-722C-4D3E-9FED-ACE8DC26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D6F-D600-4ED2-8F59-196647AA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8C7-3030-45D5-9441-A9E688E6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598-6ABB-48DE-AA3B-386B2E41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CE7-5B2A-48D9-8D01-70B23D5B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774-763F-49BA-9992-D5D9CFDE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6D9-95A4-4564-833B-00760AF8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050-3BF0-4758-89A9-AED72B72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1EC-32E8-4BCA-9D6E-BDC5ABDA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6148-8D9C-4827-9B85-390713A8A7D0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844640"/>
            <a:ext cx="813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0" spc="-1" strike="noStrike">
                <a:solidFill>
                  <a:srgbClr val="ffff00"/>
                </a:solidFill>
                <a:latin typeface="Times New Roman"/>
              </a:rPr>
              <a:t>Vi är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-Avdelningen</cp:lastModifiedBy>
  <dcterms:modified xsi:type="dcterms:W3CDTF">2010-12-06T04:20:02Z</dcterms:modified>
  <cp:revision>9</cp:revision>
  <dc:subject/>
  <dc:title>PowerPoint Presentation</dc:title>
</cp:coreProperties>
</file>