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2DB-083C-42F0-BD55-E6791054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B1C-A17F-4985-B2CF-4B56947E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1A8-B18B-41D4-859A-C256ABE1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F4E-8583-4D85-AC20-1CA64A47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D0C-3B38-41A6-B108-9A1AD0B0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0775-59BB-4A29-B9E3-80164DC6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BD8-1508-4C9C-A07A-836F7A51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F74-12A2-4204-9F7C-2CD8455E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A7E-BD63-4547-8FAE-CBD64B9C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FC7-14FE-4129-88E0-37C87909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731-87F3-4354-82D6-5870E3C7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402-29CB-4338-A098-133855DA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4ACC-3C40-4681-A34F-74168EB33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964" t="0" r="0" b="1938"/>
          <a:stretch/>
        </p:blipFill>
        <p:spPr>
          <a:xfrm>
            <a:off x="324000" y="189000"/>
            <a:ext cx="860400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Årjängs gymnasieskola</cp:lastModifiedBy>
  <dcterms:modified xsi:type="dcterms:W3CDTF">2008-09-15T03:02:43Z</dcterms:modified>
  <cp:revision>7</cp:revision>
  <dc:subject/>
  <dc:title>Bild 1</dc:title>
</cp:coreProperties>
</file>