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543-EBA9-497C-BD81-ABE4FB64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860-32F3-4361-AD4E-6A4A2BA0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1BC-98EC-4316-889E-CC8CBAE9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78F-5E3A-406B-AB8F-6A5838E0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E3C-8978-4160-98D5-229CEA3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7CA-543B-4599-AF1B-F37429C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16E-1029-4534-81FD-5AA942E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A02-AD8B-4DAC-9E8C-2AB308A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5A2-7DE6-475B-992C-49365C7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751-BA9C-4B15-9799-3DBAFA9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F06-2A95-4341-89E5-49A7B71E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5B1-552A-4B52-BB32-2661DEB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84F-0056-41D3-8712-E93B4912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532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3300"/>
                </a:solidFill>
                <a:latin typeface="Sylfaen"/>
              </a:rPr>
              <a:t>Ett körsbä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IT-Avdelningen</cp:lastModifiedBy>
  <dcterms:modified xsi:type="dcterms:W3CDTF">2010-12-06T04:06:17Z</dcterms:modified>
  <cp:revision>8</cp:revision>
  <dc:subject/>
  <dc:title>Bild 1</dc:title>
</cp:coreProperties>
</file>