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44B-AB78-4B8F-BFB1-BD379520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6D0-27A0-438A-9E82-662FD2E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DE8-107F-4869-929E-974243BB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B08-7319-4D55-9AFE-3CA011C7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62E-FF6D-4900-9CB2-BAD0B6FE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6D7-6CFF-4DB3-AF77-CD61559E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873-7276-4927-BCA7-E813582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4C2-9FD3-4BEF-966E-13A65D3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811-28FB-45B5-9F65-6D2B1B9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125-7089-445D-B855-B96D8F5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508-BD67-4924-AF29-210B7457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453-0D68-4C91-8A08-A7013FD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DC8-FA06-4E7A-A274-9CF10044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8208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600" spc="-1" strike="noStrike">
                <a:solidFill>
                  <a:srgbClr val="ff3300"/>
                </a:solidFill>
                <a:latin typeface="Sylfaen"/>
              </a:rPr>
              <a:t>Passions-fruk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IT-Avdelningen</cp:lastModifiedBy>
  <dcterms:modified xsi:type="dcterms:W3CDTF">2010-12-06T04:06:54Z</dcterms:modified>
  <cp:revision>7</cp:revision>
  <dc:subject/>
  <dc:title>Bild 1</dc:title>
</cp:coreProperties>
</file>