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892-BBC2-4A6B-83F2-EF9F82CB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BD1-3B52-4057-8CA4-0ABF5F7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15A-F371-4C0A-BB9E-0548BBD6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C71-3612-458A-8BA6-A960F4FB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E3B-A123-4D20-A3BE-FB2271E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094-3FA3-4133-9BE1-9C70CE02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CE6-DE72-4758-9357-F6835FD0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E0D-0C80-4D5F-84D3-60CB5B0C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092-1839-499C-83F7-F57E5743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316-BD10-412C-B18B-910B415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913-9BCE-4289-8ADD-052413D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DF1-D960-4388-AAA8-F9837EF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BC1-F486-4D93-8A3F-7AD4FDB4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549360"/>
            <a:ext cx="770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0" spc="-1" strike="noStrike">
                <a:solidFill>
                  <a:srgbClr val="ffffff"/>
                </a:solidFill>
                <a:latin typeface="Sylfaen"/>
              </a:rPr>
              <a:t>Du tittar p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IT-Avdelningen</cp:lastModifiedBy>
  <dcterms:modified xsi:type="dcterms:W3CDTF">2010-12-06T04:15:44Z</dcterms:modified>
  <cp:revision>7</cp:revision>
  <dc:subject/>
  <dc:title>Bild 1</dc:title>
</cp:coreProperties>
</file>