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B884-B74F-4689-A409-8F55099CA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BFEE-E336-4821-80B9-258B90770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A9BA-DD8D-4714-ABAD-8190171F5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F07A-A994-4306-913C-A8B7A26C2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8680-3E45-4E15-A097-A34C2009E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A5F8-CA68-410F-AB00-98D033D89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F57B-23D5-472F-A5B3-E3ABDE62E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61E1-93F5-40AE-A693-CF9669D9A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7E47-B227-48F9-886A-322DE2AD9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DB3A-8C5A-414E-A37F-F8D4EF931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F6F9-3234-4393-A83D-865FE60E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AC1F-3D85-462A-AF3D-9B80639DF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EF726-CAA7-4D45-8F9E-670EFB45D8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8280360" cy="62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52:18Z</dcterms:created>
  <dc:creator> </dc:creator>
  <dc:description/>
  <dc:language>en-US</dc:language>
  <cp:lastModifiedBy>Årjängs gymnasieskola</cp:lastModifiedBy>
  <dcterms:modified xsi:type="dcterms:W3CDTF">2008-09-15T03:02:02Z</dcterms:modified>
  <cp:revision>7</cp:revision>
  <dc:subject/>
  <dc:title>Bild 1</dc:title>
</cp:coreProperties>
</file>