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473-611B-40AB-BE00-44C8F90E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71F-913F-4664-9884-EC8FA7D1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BF7-1B60-4F2F-97BF-E1A559B4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7BE-7ABB-4753-93A2-C92A72AA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B93-5D2E-462B-8FA4-9088C3EE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E89-1D6D-48CC-8E8F-2B456023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EDF-E1FC-44F9-B507-59609B3F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012-69FF-4EBC-9DF3-1720DF7C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966-F53D-4D7C-B3C3-2367462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FFF-CDC0-42B6-A9F4-6799499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552-FD0D-4561-90E8-0EBAE0E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0E3-CAFC-4FC2-80B2-B0C08AC5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72DF-5627-4464-A44D-C38507716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98100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Sylfaen"/>
              </a:rPr>
              <a:t>Vad äter du? 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IT-Avdelningen</cp:lastModifiedBy>
  <dcterms:modified xsi:type="dcterms:W3CDTF">2010-12-06T04:16:35Z</dcterms:modified>
  <cp:revision>8</cp:revision>
  <dc:subject/>
  <dc:title>Bild 1</dc:title>
</cp:coreProperties>
</file>