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9149-93F4-441F-9840-02DB1DDFF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1722-E3FB-4A86-8DB5-913D57E1E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8F6B-AC1D-42C8-9D06-87FD55AEB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E4F5-C327-49E8-9129-BE73DF040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177B-F10D-49C5-A547-50A6E9473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6E82-F0CC-4BAB-BB14-9CEFDB733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38B7-CC4D-4EAB-9500-5569555F6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AB82-2BCB-47E0-979A-AF845AC0E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2B12-BC3C-4E43-A086-9F1CAA19D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8185-DCDD-47FF-BD9C-C4A4E69AB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AB90-8C07-4087-8AF2-C43DC90D2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DB51-6E9B-40D1-8253-D1C96CF0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03628-C9E8-4D8E-B5A3-F3E1A95D6B2A}" type="slidenum"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765000"/>
            <a:ext cx="8136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0" spc="-1" strike="noStrike">
                <a:solidFill>
                  <a:srgbClr val="ffff00"/>
                </a:solidFill>
                <a:latin typeface="Times New Roman"/>
              </a:rPr>
              <a:t>Jag är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T-Avdelningen</cp:lastModifiedBy>
  <dcterms:modified xsi:type="dcterms:W3CDTF">2010-12-06T04:19:20Z</dcterms:modified>
  <cp:revision>10</cp:revision>
  <dc:subject/>
  <dc:title>PowerPoint Presentation</dc:title>
</cp:coreProperties>
</file>