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BDC-9550-487E-BBA7-5C8BED8E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9A2-0FE0-44DD-9503-2F67890D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A99-8C35-4691-8121-49A8EAA8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44D-23A9-44FA-8508-99D5BCE2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B43-6078-4DBF-80C7-4453CDBF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FBD-FEE6-4D02-B2C4-20B94781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351-5FB6-45A3-86C2-65CD705F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338-42FB-4F33-BD54-0E70BB6E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1C2-3825-47C1-997E-AA134CF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518-76B0-481E-93C5-AB46B72E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AF7-6FBA-42A9-85F2-3DA5179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605-2C94-4658-A8A4-581B135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8FB0-2973-46CB-A40B-4E28ADFEA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484280"/>
            <a:ext cx="8496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cc00cc"/>
                </a:solidFill>
                <a:latin typeface="Sylfaen"/>
              </a:rPr>
              <a:t>Je suis Suédois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IT-Avdelningen</cp:lastModifiedBy>
  <dcterms:modified xsi:type="dcterms:W3CDTF">2010-12-06T04:11:19Z</dcterms:modified>
  <cp:revision>9</cp:revision>
  <dc:subject/>
  <dc:title>Bild 1</dc:title>
</cp:coreProperties>
</file>