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849B-2F7D-44CB-8D40-618A82CB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4B26-2052-42FA-AF52-EF0EB152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B73F-72A5-4D09-B623-4ED6A5E3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2686-3334-45AD-8AEE-75B027995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85BF-6538-4ADD-AC88-00EA01EF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02A3-4FFD-4011-934C-081B418E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733B-FD61-4250-801C-649441B3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529D-A6FD-45BA-B817-78ED2F0B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4A3B-08CA-402C-86FB-8564D931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5660-613C-4136-BA21-FA216AEF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FA7B-7E3F-4061-AA7A-F2D93E09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8C75-F015-4E2D-AE6D-F2D07C7C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C198-C13F-4E8E-A165-5941C86A9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54936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ff3300"/>
                </a:solidFill>
                <a:latin typeface="Sylfaen"/>
              </a:rPr>
              <a:t>Ett äpple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7:13Z</dcterms:created>
  <dc:creator> </dc:creator>
  <dc:description/>
  <dc:language>en-US</dc:language>
  <cp:lastModifiedBy>IT-Avdelningen</cp:lastModifiedBy>
  <dcterms:modified xsi:type="dcterms:W3CDTF">2010-12-06T04:05:45Z</dcterms:modified>
  <cp:revision>7</cp:revision>
  <dc:subject/>
  <dc:title>Bild 1</dc:title>
</cp:coreProperties>
</file>