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C04-F0D6-4BA9-B463-25EFA3A3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961-0E20-4628-9190-BC87D959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B77-DAD6-4693-AED9-43B7109A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8B1-97BB-47EF-A1A5-2090118A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677-D6AC-43F4-B9AD-5A07DE26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541-CDC3-429D-88DE-30656BFB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CB8-9EB2-44C1-B2CB-A1A88F43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F9A-369C-46E0-AC95-18248521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311-E88E-4DA8-BDC4-58260636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28B-EE9D-49B1-A8E6-A8EFBC23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FD0-E2AE-4FCD-A740-23F870E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7A5-8F70-4A01-AAE8-334B8A6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E195-A9B2-461C-8CAD-CDA7329A1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981000"/>
            <a:ext cx="8280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Sylfaen"/>
              </a:rPr>
              <a:t>Du tycker om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IT-Avdelningen</cp:lastModifiedBy>
  <dcterms:modified xsi:type="dcterms:W3CDTF">2010-12-06T04:16:15Z</dcterms:modified>
  <cp:revision>8</cp:revision>
  <dc:subject/>
  <dc:title>Bild 1</dc:title>
</cp:coreProperties>
</file>