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2C3-EACE-42E6-9906-49A315DE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2DD-BAB5-4FD1-9B2D-F537BDCA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656-8E4B-4165-81AF-BBA60350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897-178B-4C0C-AC26-98164030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514-0943-4E37-B92B-DC813BDC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575-91AE-4102-9DCF-73D385B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033-5CD4-4342-986D-5D53C4B4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E42-63CA-405F-A732-BB095D63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A24-7227-49E4-8EB4-66B07DF1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CCB-0892-4E38-B102-50F5CCF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CD0-798C-496E-8AEB-4C6B085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3E2-85D3-4DE2-8F6A-73670DC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7A9-EE5B-4072-B130-0C313571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9275" t="26394" r="21672" b="35835"/>
          <a:stretch/>
        </p:blipFill>
        <p:spPr>
          <a:xfrm>
            <a:off x="3059280" y="3429000"/>
            <a:ext cx="3241440" cy="311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0464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Vad heter märket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Tforsskola</cp:lastModifiedBy>
  <dcterms:modified xsi:type="dcterms:W3CDTF">2009-01-20T05:51:29Z</dcterms:modified>
  <cp:revision>6</cp:revision>
  <dc:subject/>
  <dc:title>Bild 1</dc:title>
</cp:coreProperties>
</file>