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AA6-49E6-48B2-AB39-CFF16C69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6AB-A26D-4CA4-A096-C50F11F1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DC4-8EAD-4195-B372-65F0B3E4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833-241A-4ADC-B54B-FF47EFCA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C3D-C734-4E33-B7B0-6D723552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896-93FC-4850-AD75-26DE9FC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936-E575-4A3C-82C5-C221A533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53A-FF01-4F1D-A605-C4317583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AF0-ECCE-4705-A277-CB6AA7C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722-51AC-4A10-AEDD-F9714E08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251-83C2-467E-8737-6AB75B8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A06-0F82-4DA2-95B5-C79518C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255-0DB1-44A5-98E5-1E8958C4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53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0" spc="-1" strike="noStrike">
                <a:solidFill>
                  <a:srgbClr val="ccff33"/>
                </a:solidFill>
                <a:latin typeface="Sylfaen"/>
              </a:rPr>
              <a:t>___problèmes (mpl)=dina proble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IT-Avdelningen</cp:lastModifiedBy>
  <dcterms:modified xsi:type="dcterms:W3CDTF">2010-12-06T04:13:43Z</dcterms:modified>
  <cp:revision>7</cp:revision>
  <dc:subject/>
  <dc:title>Bild 1</dc:title>
</cp:coreProperties>
</file>