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583-CFFA-446C-B0BA-07544006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F34-D802-451E-8986-6871A5CC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FBC-D45B-4F81-A26E-53BE3CB9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FE9-9D18-4532-B5E1-6581187C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B94-A8B5-4F79-9570-F90BA7F6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639-A2E5-4C5B-B7A0-E81215D1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C17-8366-483D-BF5B-ED81B557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650-621E-4EBA-A0D8-FD284FF2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0D2-3CD5-4503-A91D-7EEA66FB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D9D-ED1B-40D2-88A8-C1DF93BC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1E0-5673-4C40-94CE-796DD9E2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59A-3A18-4AE3-BA05-81E04071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E9F3-A071-4B9B-ADA4-9E9CD35CC4B6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49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0" spc="-1" strike="noStrike">
                <a:solidFill>
                  <a:srgbClr val="ffff00"/>
                </a:solidFill>
                <a:latin typeface="Times New Roman"/>
              </a:rPr>
              <a:t>Jag har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-Avdelningen</cp:lastModifiedBy>
  <dcterms:modified xsi:type="dcterms:W3CDTF">2010-12-06T04:19:05Z</dcterms:modified>
  <cp:revision>9</cp:revision>
  <dc:subject/>
  <dc:title>PowerPoint Presentation</dc:title>
</cp:coreProperties>
</file>