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8ED-C6D4-41C8-A1AA-C92AA0CD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0ED-74FC-45BB-BBAE-B55A3392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F3C-F1F4-4907-B665-2567D271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0E9-15DA-48B0-950B-7FCCB95D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7E1-C684-4E04-A92E-EE683BFA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CE0-F026-4028-BEC2-174563D7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7B8-1CD1-4E7B-A5A7-8DF84107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688-AD5F-417A-8C26-19012B26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001-FB90-4554-8C10-6B8AEDB6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ED3-4927-4B4A-9E48-E1DE36EC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5CF7-2937-487C-B8E8-E13FF61F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205-7DB4-49DC-8682-387936F0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4341-87BA-41B5-A0F6-636FC671FB63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765000"/>
            <a:ext cx="81360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00"/>
                </a:solidFill>
                <a:latin typeface="Times New Roman"/>
              </a:rPr>
              <a:t>en blå skjorta</a:t>
            </a: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2-01T14:43:49Z</dcterms:modified>
  <cp:revision>10</cp:revision>
  <dc:subject/>
  <dc:title>PowerPoint Presentation</dc:title>
</cp:coreProperties>
</file>