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F29-AA3E-441A-8BE6-B461AA43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4CF-5B9A-4033-9397-9F92538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E36-03AE-47DD-BC23-4012390C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5D6-D2B7-405D-AB2B-40A44930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376-97E2-4273-9B6B-4362E72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5A8-D13D-4B47-9B5A-8B9796D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431-6D84-4B81-B903-DD661E9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CF5-14A4-45C2-91F0-B1164B3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3E7-30BB-44A3-8DB8-55D2244F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196-B4A4-4AF3-94E4-9B577DE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EC7-022E-499F-9361-639412E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0DE-1C45-46F7-B983-B71A1F1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A25-D1AD-4ABD-AE08-0982632B8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25360"/>
            <a:ext cx="8532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200" spc="-1" strike="noStrike">
                <a:solidFill>
                  <a:srgbClr val="ccff33"/>
                </a:solidFill>
                <a:latin typeface="Sylfaen"/>
              </a:rPr>
              <a:t>Jag letar efter….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Årjängs gymnasieskola</cp:lastModifiedBy>
  <dcterms:modified xsi:type="dcterms:W3CDTF">2009-01-27T03:56:43Z</dcterms:modified>
  <cp:revision>7</cp:revision>
  <dc:subject/>
  <dc:title>Bild 1</dc:title>
</cp:coreProperties>
</file>