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736-1829-4BC3-B107-CA05BEB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BEF-D590-4117-8678-E6F2C77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E5-AEB2-4055-BEAE-52005E89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CCD-4A34-4E1E-8EF4-24397F6F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028-631A-4A32-949A-ED38AD8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2F3-3152-4A6C-99ED-353C486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A38-55F4-4220-9A58-6ADD476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40D-D06E-4779-A2CE-194D53C6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FC4-6CE1-49A0-9863-C134A3D5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A6D-355A-4138-BFB9-2365C5D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40F-16B1-4BA4-B7C5-11486FF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43D-6564-440B-93FA-8748557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42F-07E0-403A-807D-DEFFAC90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5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400" spc="-1" strike="noStrike">
                <a:solidFill>
                  <a:srgbClr val="ccff33"/>
                </a:solidFill>
                <a:latin typeface="Sylfaen"/>
              </a:rPr>
              <a:t>Ha en bra dag!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Årjängs gymnasieskola</cp:lastModifiedBy>
  <dcterms:modified xsi:type="dcterms:W3CDTF">2009-01-27T03:57:02Z</dcterms:modified>
  <cp:revision>7</cp:revision>
  <dc:subject/>
  <dc:title>Bild 1</dc:title>
</cp:coreProperties>
</file>