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1BB-9762-4C20-981C-CEC02675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ED1-7569-48B8-9E3E-6BD7DEED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DBD-EB1A-43CF-8DFC-7A88D233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740-9062-4D7B-B6F3-51685D5C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215-C9DD-4D0F-8B32-54E6A78C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47A-5C89-4ABE-A4FD-4042EBC9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0E6-53EF-4CF5-B2F6-10CFF8E1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3D2-D006-4AE4-9258-7B04F652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2DA-2C33-43C6-9178-AFDA348E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4C2-2350-4BF2-B83A-C244AC1D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EB6-7906-4111-86EA-A017185B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766-DA74-4AAC-9B6A-2D8082B0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0EC6-F94B-4FB1-B388-1016169AA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20640"/>
            <a:ext cx="853308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300" spc="-1" strike="noStrike">
                <a:solidFill>
                  <a:srgbClr val="ccff33"/>
                </a:solidFill>
                <a:latin typeface="Sylfaen"/>
              </a:rPr>
              <a:t>Je peux vous aider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Årjängs gymnasieskola</cp:lastModifiedBy>
  <dcterms:modified xsi:type="dcterms:W3CDTF">2009-01-27T03:56:23Z</dcterms:modified>
  <cp:revision>7</cp:revision>
  <dc:subject/>
  <dc:title>Bild 1</dc:title>
</cp:coreProperties>
</file>