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A0E-5FCB-468D-8B3B-2C8E3C0C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2A9-9068-4091-B453-909AF78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0A8-9F73-42E7-A044-D309CDD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1CB-8B01-4387-A95B-F4F84426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254-D1C8-4B37-A3CB-3D62213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E4A-9065-4D7A-91DA-5E4C7F7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732-B935-46C4-BBDE-39BAA75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77A-31AE-4299-8107-FDBF94A9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726-7FE1-404F-907C-9024685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8F8-8F98-4629-BF40-2DFF65B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9D1-9623-40B9-9597-362FCFB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1FD-FB05-44DF-A612-9DE7973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754-391A-4BC2-B162-A528C090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04640"/>
            <a:ext cx="770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500" spc="-1" strike="noStrike">
                <a:solidFill>
                  <a:srgbClr val="ffffff"/>
                </a:solidFill>
                <a:latin typeface="Sylfaen"/>
              </a:rPr>
              <a:t>”</a:t>
            </a:r>
            <a:r>
              <a:rPr b="0" lang="sv-SE" sz="8500" spc="-1" strike="noStrike">
                <a:solidFill>
                  <a:srgbClr val="ffffff"/>
                </a:solidFill>
                <a:latin typeface="Sylfaen"/>
              </a:rPr>
              <a:t>en stor klocka, en liten pojke, en röd tröja”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Årjängs gymnasieskola</cp:lastModifiedBy>
  <dcterms:modified xsi:type="dcterms:W3CDTF">2009-01-27T03:54:45Z</dcterms:modified>
  <cp:revision>8</cp:revision>
  <dc:subject/>
  <dc:title>Bild 1</dc:title>
</cp:coreProperties>
</file>