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41C4-73C1-4F5A-8209-D78BCD0A9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C2AD-27CF-4E49-B59B-6FF2522D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E9F6-1E6E-4593-A784-8BC48B0AF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1066-C477-453D-AAC7-2439EAB70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46AF-D6D8-4C97-BDC9-CAAA17CE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942A-61C3-470D-A106-46C17452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88C9-41CC-4682-B7F4-CA39EAD6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247E-40A2-4087-9A0A-DDABCD20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28AA-4094-4183-B8EB-479BEE73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C61E-C7FD-4E07-93E1-C972654D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F57D-0EA5-4DEE-8C3B-E45CAF23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C681-832B-4293-8D40-3D944831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E1CC-79F1-423E-9340-DD7AA3DFB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413000"/>
            <a:ext cx="849600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9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100" spc="-1" strike="noStrike">
                <a:solidFill>
                  <a:srgbClr val="cc00cc"/>
                </a:solidFill>
                <a:latin typeface="Sylfaen"/>
              </a:rPr>
              <a:t>det kostar 45 euro</a:t>
            </a:r>
            <a:endParaRPr b="0" lang="en-US" sz="1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 </cp:lastModifiedBy>
  <dcterms:modified xsi:type="dcterms:W3CDTF">2009-02-01T14:45:06Z</dcterms:modified>
  <cp:revision>10</cp:revision>
  <dc:subject/>
  <dc:title>Bild 1</dc:title>
</cp:coreProperties>
</file>