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083-BAEF-4887-81EC-D7CF83B5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C30-87CF-4536-88DB-3BD5E97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85-6521-4A52-9ABF-B8476E3A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630-6D6D-48EF-9BFB-9CA9728E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7BA-6860-4B4F-8EF6-91B3AD73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B95-BEA5-403E-BDA3-256EA676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776-C5BE-4910-B686-ADA404FB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33F-8AC6-46E6-BF63-9B1EE4A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16F-F62D-4C00-9C4B-B412128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3BB-15C1-406D-BCC3-F89D425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2BB-967A-4929-B1FD-9174D4C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3E2-15A3-4B03-8874-1650D980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7F7E-2BAB-4900-9C53-BA455D78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33360"/>
            <a:ext cx="835344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jag vill bara titta lit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39:56Z</dcterms:modified>
  <cp:revision>9</cp:revision>
  <dc:subject/>
  <dc:title>Bild 1</dc:title>
</cp:coreProperties>
</file>