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ADE5-A7CE-407A-B06C-F8A538CF7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1AF3-665A-4E7A-A974-84AE7D40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EC11-922C-4C84-97D7-A07813D9A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06BF-C688-4CCA-B332-B710DF26A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6289-E516-4E41-A2DC-6BC1301A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AEEE-96B9-4D39-B47C-F0B20026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D67B-B045-46AA-A745-4CCE79BC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3195-B747-41A0-8B3B-4FEED0F7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C374-2543-4149-8AF6-328E7E8D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4DAB-3657-4FBF-9DFC-FD1779F5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8491-30FA-4116-9A19-E211112E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D095-56E8-4490-90F9-A5D1B735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773E-B7C4-4E1D-870E-A4F13A7C7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1197000"/>
            <a:ext cx="8532720" cy="78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9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5500" spc="-1" strike="noStrike">
                <a:solidFill>
                  <a:srgbClr val="ff3300"/>
                </a:solidFill>
                <a:latin typeface="Sylfaen"/>
              </a:rPr>
              <a:t>på rea</a:t>
            </a:r>
            <a:endParaRPr b="0" lang="en-US" sz="2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7:13Z</dcterms:created>
  <dc:creator> </dc:creator>
  <dc:description/>
  <dc:language>en-US</dc:language>
  <cp:lastModifiedBy> </cp:lastModifiedBy>
  <dcterms:modified xsi:type="dcterms:W3CDTF">2009-02-01T14:41:33Z</dcterms:modified>
  <cp:revision>9</cp:revision>
  <dc:subject/>
  <dc:title>Bild 1</dc:title>
</cp:coreProperties>
</file>