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5B0-0104-45ED-8869-503ABEF4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167-5F4F-4BEE-AF4E-C7F07D78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E69-0FC4-4268-850F-7B14D859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CE9-2499-46C3-9C48-4984D736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2BC-761F-488E-8996-659339D5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55E-8AB2-4D9F-A0A1-ADF325C6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2F9-5312-49B5-B1D5-BA68FBE4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3F7-0A72-490C-9233-9EA9BDD1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417-EB8A-4799-A4DC-3701701E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3C4-4C77-45A0-BC15-A9D67009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7E8-C2F3-405F-BC26-2C369D5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D0B-C72E-4548-BF45-86202D46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BF64-42DD-48FC-8FBD-9A0362169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92280"/>
            <a:ext cx="820872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7700" spc="-1" strike="noStrike">
                <a:solidFill>
                  <a:srgbClr val="ff3300"/>
                </a:solidFill>
                <a:latin typeface="Sylfaen"/>
              </a:rPr>
              <a:t>vilken storlek</a:t>
            </a:r>
            <a:endParaRPr b="0" lang="en-US" sz="1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 </cp:lastModifiedBy>
  <dcterms:modified xsi:type="dcterms:W3CDTF">2009-02-01T14:40:41Z</dcterms:modified>
  <cp:revision>8</cp:revision>
  <dc:subject/>
  <dc:title>Bild 1</dc:title>
</cp:coreProperties>
</file>