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50C-8454-45DE-9E90-EADB8F96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A75-5E5F-4607-8888-1CDCDE25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DF9-44D8-4FF3-8963-47EF08DE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CF3-51E8-4DD5-B186-40EC728C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56A-A913-4666-89F2-BA7DB7DA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C6D-057F-4772-A5FD-3A996ECA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BB7-2F87-46AE-AB9A-3DD5F167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6B0-66DA-4770-9B31-EAFB9DFD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5D7-2C2C-4EFA-94A1-1AEEA142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0D5-CA46-473D-A0E2-C625BA1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D31-7ED4-4B90-895B-BCEE719F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669-1E14-4D30-A1FB-481E39C9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E300-8711-4830-ABFA-B5B365D53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8280360" cy="80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0" spc="-1" strike="noStrike">
                <a:solidFill>
                  <a:srgbClr val="ffffff"/>
                </a:solidFill>
                <a:latin typeface="Sylfaen"/>
              </a:rPr>
              <a:t>Vad heter Frankrikes president?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Tforsskola</cp:lastModifiedBy>
  <dcterms:modified xsi:type="dcterms:W3CDTF">2009-01-20T05:58:52Z</dcterms:modified>
  <cp:revision>7</cp:revision>
  <dc:subject/>
  <dc:title>Bild 1</dc:title>
</cp:coreProperties>
</file>