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719-19E3-44A5-8975-37961F7C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724-4D67-40BC-BC24-3133AD37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696-25DF-4456-B33E-EF0D3F22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BA5-A304-4E7F-B0B7-C6A8DD8D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A52-9434-4C0E-8937-0E7F31C8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290-D8F6-4129-BFA9-E600626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C7C-EA7F-45FB-9359-3C3DDF9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63A-F364-4BBD-9B04-A1281FF0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913-1B6C-410C-A5D7-82007DE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016-C685-4E3B-A980-2AEA1B9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FE6-051A-4458-B114-BECDB16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F8D-4FEE-4D2E-84A2-ED264C43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8C2A-B21E-42C8-83FD-46FE51EEC5F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07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00"/>
                </a:solidFill>
                <a:latin typeface="Times New Roman"/>
              </a:rPr>
              <a:t>jag gillar gult</a:t>
            </a: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2-01T14:42:57Z</dcterms:modified>
  <cp:revision>10</cp:revision>
  <dc:subject/>
  <dc:title>PowerPoint Presentation</dc:title>
</cp:coreProperties>
</file>