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5A4B-9884-42F6-931C-8188ABAEA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B106-FFAF-4585-B350-8425D57C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AD20-293A-4154-AE69-16AB33BD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AEA9-D3D2-4870-9C50-E6E9993DB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D8E7-03DF-48EA-96DF-B5BB1085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49DD-AE7D-4930-8AA1-A85D660B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704B-31F1-4D8E-AEBE-C29403DE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9B7D-C373-4A77-B8ED-F325BD8F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1F73-7529-4C55-B9CF-CF41173F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71E2-4F7B-4C7E-BAEA-FC433DB9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DA31-EF5B-48F7-951A-1D6F99C2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89E4-9139-4BFB-9103-347D388F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7A65-DE13-4982-ACCA-9404D89DC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476280"/>
            <a:ext cx="835344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ffffff"/>
                </a:solidFill>
                <a:latin typeface="Arial"/>
              </a:rPr>
              <a:t>jag skulle vilja ha en snygg keps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 </cp:lastModifiedBy>
  <dcterms:modified xsi:type="dcterms:W3CDTF">2009-02-01T14:47:10Z</dcterms:modified>
  <cp:revision>8</cp:revision>
  <dc:subject/>
  <dc:title>Bild 1</dc:title>
</cp:coreProperties>
</file>