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F90-2C89-42A5-9E64-17C7A20A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7BA-EABB-4443-A2AA-7ECBF809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AC-3C4A-43EC-ADA1-DC7D3490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C28-AC76-414A-B722-5BE7D45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065-3612-470D-B77D-77ECECA9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38C-81EE-4E18-928D-B99F6802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A61-3DE1-41C4-BA65-846B91CC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844-E410-4179-ABAD-0727AB9B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0E8-D078-4C24-92EA-2F486A2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6D0-5AAC-4A76-9517-72BE118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05A-98C5-4288-A854-A4DC3AE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C59-9A8C-4B48-8FE9-657355C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F25-5D80-49EB-B5F8-E1F3B826C16C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836640"/>
            <a:ext cx="83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00"/>
                </a:solidFill>
                <a:latin typeface="Times New Roman"/>
              </a:rPr>
              <a:t>provhytten är därborta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2-01T14:42:02Z</dcterms:modified>
  <cp:revision>10</cp:revision>
  <dc:subject/>
  <dc:title>PowerPoint Presentation</dc:title>
</cp:coreProperties>
</file>