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59B-F8AF-4B1B-824D-38A0181F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BBF-1C7C-47D2-A572-51FD52C5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EE0-C0A2-4331-BF4E-646443F6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9E0-F838-429D-AD5A-AF3E32B3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69C-12EE-4CB5-A98B-7F80BBBA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91A-AC81-453C-9894-FEF7D4F6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DF9-91A6-4205-BC22-76D7AD6B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769-CFD2-4CAE-85C2-63C53DC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CB1-9146-4D4D-9CF3-92A5BD0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704-6A27-4560-BA70-D47C255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6A2-9E6C-48AD-BCDF-953D0CC3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2CE-695B-4AC2-B5A5-7F81AF7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DC3-F9DD-4B39-BEE6-928C5EF3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5327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ccff33"/>
                </a:solidFill>
                <a:latin typeface="Sylfaen"/>
              </a:rPr>
              <a:t>Tack det samma!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Årjängs gymnasieskola</cp:lastModifiedBy>
  <dcterms:modified xsi:type="dcterms:W3CDTF">2009-01-27T03:57:17Z</dcterms:modified>
  <cp:revision>6</cp:revision>
  <dc:subject/>
  <dc:title>Bild 1</dc:title>
</cp:coreProperties>
</file>