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91A-F050-46A2-B43B-5534C5F1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948-8D84-44F0-ABAF-A3032E1A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F4F-67C5-443E-8A77-36C2D4BD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A11-1EB0-4B48-AF61-911FF388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42C-95C6-4B15-A11A-CE7D1EA5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3CA-BCDA-4F38-9029-C35E312D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63A-7940-430E-AF63-145F7396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C22-6EBE-4D11-8628-93CD9A57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DEA-FA7D-4A03-A780-228E2C4D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678-4E96-4BD3-AE80-310F2D5A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67E-2EF5-4391-9522-F24B1BEA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169-C5CA-4F3C-ACA4-077CAB0F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9733-B4DF-4329-B9A2-DDA951DDB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55760"/>
            <a:ext cx="8424720" cy="82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300" spc="-1" strike="noStrike">
                <a:solidFill>
                  <a:srgbClr val="ff3300"/>
                </a:solidFill>
                <a:latin typeface="Sylfaen"/>
              </a:rPr>
              <a:t>finns det andra modeller?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 </cp:lastModifiedBy>
  <dcterms:modified xsi:type="dcterms:W3CDTF">2009-02-01T14:42:35Z</dcterms:modified>
  <cp:revision>8</cp:revision>
  <dc:subject/>
  <dc:title>Bild 1</dc:title>
</cp:coreProperties>
</file>