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38C-C805-4465-9060-24887240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80D-9385-419D-B0F9-C3568F7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935-2414-4026-B46A-03D80EC8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9B4-C66F-48B3-855D-8A9A8A6D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EC6-5D12-4932-99C3-B9EC9A4D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757-80E5-482A-BABE-6F2EC918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C44-0D19-4101-944F-85410A10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0E1-1C0E-47B7-861E-097ADE8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2EB-A097-4D0D-8B25-E9D8001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E0D-DBBC-4806-8627-07B4DAA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7DC-F5B5-4A98-980A-FC7EE7F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310-3E51-400A-82E1-2EAFF7E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305D-6C71-405F-96DE-76A949A4DDB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125360"/>
            <a:ext cx="8136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00"/>
                </a:solidFill>
                <a:latin typeface="Times New Roman"/>
              </a:rPr>
              <a:t>varsågod er väx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2-01T14:43:19Z</dcterms:modified>
  <cp:revision>10</cp:revision>
  <dc:subject/>
  <dc:title>PowerPoint Presentation</dc:title>
</cp:coreProperties>
</file>