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90FE-D1F5-45FE-B620-7BED50C3A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D763-6726-4F9B-ADEA-F930A0C5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1EFB-04C4-4050-81ED-380AEEB6A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56AD-C417-48F9-85B3-9D91A5FA6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037F-6C45-45D9-B2DA-07DDD437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BD71-E5CE-4358-B528-AB48EDC6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8D53-AB5D-4710-9A3F-56BC7BA4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294D-3C7B-452E-B405-0307D29B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5800-6F3E-4512-9BC1-2DC03DAE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0FCD-3F50-4AEE-9FE9-22E83275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2B2E-9D5F-4B74-A476-FED44410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8E3A-60E2-479C-BEB9-A1F6AFB5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EB81-0610-436A-B064-E24E6E87D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692280"/>
            <a:ext cx="7993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400" spc="-1" strike="noStrike">
                <a:solidFill>
                  <a:srgbClr val="ff3300"/>
                </a:solidFill>
                <a:latin typeface="Sylfaen"/>
              </a:rPr>
              <a:t>en snygg tröja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7:13Z</dcterms:created>
  <dc:creator> </dc:creator>
  <dc:description/>
  <dc:language>en-US</dc:language>
  <cp:lastModifiedBy> </cp:lastModifiedBy>
  <dcterms:modified xsi:type="dcterms:W3CDTF">2009-02-01T14:40:27Z</dcterms:modified>
  <cp:revision>9</cp:revision>
  <dc:subject/>
  <dc:title>Bild 1</dc:title>
</cp:coreProperties>
</file>