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390-35A8-47D6-B90F-EB64D2D8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802-977C-4DF8-84DD-3D93F4DF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12E-C4E5-410A-83A7-134DF8FA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515-C766-40CF-9398-CDA74B2E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F53-78A7-4695-9581-B0E69418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65E-465F-43C8-A11E-B3CD1035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D94-C361-45D3-B28C-30DB8D6A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1AF-E177-427B-AE1C-B6C0E886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BD6-3B3B-431E-893A-FEC03AF8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D9C7-03BD-4CC7-9602-EC91DF17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BA23-BE65-4F7F-97F2-22DBAB95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445-17F8-49C5-A102-6D829BEF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AF3B-E80F-4CEE-B9BC-15004903A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92280"/>
            <a:ext cx="856908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ff"/>
                </a:solidFill>
                <a:latin typeface="Sylfaen"/>
              </a:rPr>
              <a:t>Jag gillar brunt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Årjängs gymnasieskola</cp:lastModifiedBy>
  <dcterms:modified xsi:type="dcterms:W3CDTF">2009-01-27T04:00:07Z</dcterms:modified>
  <cp:revision>8</cp:revision>
  <dc:subject/>
  <dc:title>Bild 1</dc:title>
</cp:coreProperties>
</file>