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D8E4-5EF7-407A-8F22-E6C8A654E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4250-9556-45CC-BA5E-E6672F9F5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E428-18E4-4960-A2AC-F77BC701B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0178-758C-441F-ADA4-1305FA78F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A30B-26EC-42F8-9B12-CBF51D589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1D01-CF87-4E90-A803-AB26F5C21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6272-C88D-4DAD-956E-288E8C498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A5A3-A9C0-4E3A-8152-708E9C1AC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7B33-70DB-43D5-A642-B4A406742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3221-D044-40D7-93E9-959DB26BB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7793-7E14-41F0-BDDC-66CE3AD66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9D95-2FAB-400E-9AF6-A65AFE07F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8EB90-22CA-4C1C-BF5B-BFBB22C06F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95280" y="836640"/>
            <a:ext cx="8497800" cy="61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3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3300" spc="-1" strike="noStrike">
                <a:solidFill>
                  <a:srgbClr val="cc00cc"/>
                </a:solidFill>
                <a:latin typeface="Sylfaen"/>
              </a:rPr>
              <a:t>har ni röda tröjor? </a:t>
            </a:r>
            <a:endParaRPr b="0" lang="en-US" sz="1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1T15:52:18Z</dcterms:created>
  <dc:creator> </dc:creator>
  <dc:description/>
  <dc:language>en-US</dc:language>
  <cp:lastModifiedBy> </cp:lastModifiedBy>
  <dcterms:modified xsi:type="dcterms:W3CDTF">2009-02-01T14:44:43Z</dcterms:modified>
  <cp:revision>9</cp:revision>
  <dc:subject/>
  <dc:title>Bild 1</dc:title>
</cp:coreProperties>
</file>