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C5C-B5E2-4794-B249-4C539BF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74D-3027-4851-8E01-28A4B3A7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A2E-4A9B-4C36-B66D-95A7B0C2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A67-8F40-42EF-9DE7-02A2E49D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925-F703-475D-882E-78B0F8DF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071-FD67-4C8B-9150-DDE1A4C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B2F-21B1-4EE2-9FF0-0F416C61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907-FAAB-4200-AFC8-DF27545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51B-1EC4-4D7C-97A8-F4D8E5A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519-2620-4C9A-A139-62D6098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9BC-5C48-4E70-A8F6-AA69D54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A81-9EF1-489A-8AA2-BED30BA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969-13F7-40FC-B365-06887495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chiff3.ppt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heure1.ppt" TargetMode="External"/><Relationship Id="rId7" Type="http://schemas.openxmlformats.org/officeDocument/2006/relationships/image" Target="../media/image4.jpeg"/><Relationship Id="rId8" Type="http://schemas.openxmlformats.org/officeDocument/2006/relationships/hyperlink" Target="file:///chiff4.ppt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chiff2.ppt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hyperlink" Target="file:///heure2.ppt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file:///mon2.ppt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file:///heure5.ppt" TargetMode="External"/><Relationship Id="rId18" Type="http://schemas.openxmlformats.org/officeDocument/2006/relationships/image" Target="../media/image10.pn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jpeg"/><Relationship Id="rId22" Type="http://schemas.openxmlformats.org/officeDocument/2006/relationships/hyperlink" Target="file:///mon1.ppt" TargetMode="External"/><Relationship Id="rId23" Type="http://schemas.openxmlformats.org/officeDocument/2006/relationships/image" Target="../media/image14.jpeg"/><Relationship Id="rId24" Type="http://schemas.openxmlformats.org/officeDocument/2006/relationships/image" Target="../media/image15.jpeg"/><Relationship Id="rId25" Type="http://schemas.openxmlformats.org/officeDocument/2006/relationships/hyperlink" Target="file:///heure4.ppt" TargetMode="External"/><Relationship Id="rId26" Type="http://schemas.openxmlformats.org/officeDocument/2006/relationships/image" Target="../media/image16.jpeg"/><Relationship Id="rId27" Type="http://schemas.openxmlformats.org/officeDocument/2006/relationships/hyperlink" Target="file:///heure3.ppt" TargetMode="External"/><Relationship Id="rId28" Type="http://schemas.openxmlformats.org/officeDocument/2006/relationships/image" Target="../media/image17.jpeg"/><Relationship Id="rId29" Type="http://schemas.openxmlformats.org/officeDocument/2006/relationships/hyperlink" Target="file:///mon3.ppt" TargetMode="External"/><Relationship Id="rId30" Type="http://schemas.openxmlformats.org/officeDocument/2006/relationships/image" Target="../media/image18.jpeg"/><Relationship Id="rId31" Type="http://schemas.openxmlformats.org/officeDocument/2006/relationships/image" Target="../media/image19.jpeg"/><Relationship Id="rId32" Type="http://schemas.openxmlformats.org/officeDocument/2006/relationships/image" Target="../media/image20.png"/><Relationship Id="rId33" Type="http://schemas.openxmlformats.org/officeDocument/2006/relationships/hyperlink" Target="file:///chiff5.ppt" TargetMode="External"/><Relationship Id="rId34" Type="http://schemas.openxmlformats.org/officeDocument/2006/relationships/image" Target="../media/image21.jpeg"/><Relationship Id="rId3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60280"/>
            <a:ext cx="1306440" cy="97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35280" y="260280"/>
            <a:ext cx="1567080" cy="154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1341360"/>
            <a:ext cx="1222200" cy="84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260280"/>
            <a:ext cx="1198800" cy="168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8000" y="260280"/>
            <a:ext cx="1544760" cy="116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2"/>
          <a:stretch/>
        </p:blipFill>
        <p:spPr>
          <a:xfrm>
            <a:off x="324000" y="5589720"/>
            <a:ext cx="1368360" cy="103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124000" y="1484280"/>
            <a:ext cx="988920" cy="15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24000" y="3068640"/>
            <a:ext cx="1349280" cy="191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451640" y="1557360"/>
            <a:ext cx="147492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9"/>
          <a:stretch/>
        </p:blipFill>
        <p:spPr>
          <a:xfrm>
            <a:off x="250920" y="4653000"/>
            <a:ext cx="173016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0"/>
          <a:stretch/>
        </p:blipFill>
        <p:spPr>
          <a:xfrm>
            <a:off x="2124000" y="5157720"/>
            <a:ext cx="239724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1"/>
          <a:stretch/>
        </p:blipFill>
        <p:spPr>
          <a:xfrm>
            <a:off x="4859280" y="5157720"/>
            <a:ext cx="2166840" cy="143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50920" y="2276640"/>
            <a:ext cx="1746000" cy="232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4"/>
          <a:stretch/>
        </p:blipFill>
        <p:spPr>
          <a:xfrm>
            <a:off x="7451640" y="2781360"/>
            <a:ext cx="1428840" cy="158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292720" y="1989000"/>
            <a:ext cx="1849320" cy="138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348000" y="191628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3564000" y="3213000"/>
            <a:ext cx="1735200" cy="131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1"/>
          <a:stretch/>
        </p:blipFill>
        <p:spPr>
          <a:xfrm>
            <a:off x="7616880" y="4508640"/>
            <a:ext cx="89388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2"/>
          <a:stretch/>
        </p:blipFill>
        <p:spPr>
          <a:xfrm>
            <a:off x="5435640" y="3429000"/>
            <a:ext cx="1660320" cy="134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6948360" y="260280"/>
            <a:ext cx="1492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9-02-01T10:53:19Z</dcterms:modified>
  <cp:revision>19</cp:revision>
  <dc:subject/>
  <dc:title>Bild 1</dc:title>
</cp:coreProperties>
</file>