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F08-5F12-4F2E-8146-A322158E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768-C559-4290-A351-FF9DF26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701-816A-40D1-ADC3-A2F8E1E4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58B-1DF7-40E1-8179-A5C3C228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C17-93EA-49E5-BEF0-732C7E0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A51-6A71-469E-9AF4-29D9C969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482-4548-467C-96BF-88190AE5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F34-5A0D-4F4B-847D-CCE22C2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B96-5F6A-46F3-952C-34E5B9FE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1AA-6DB5-4E71-A262-036E634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DD5-6A45-4A1C-BAA7-6898F8E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9F0-4798-4C96-91E8-F3EA00C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422-70FE-4E5D-8FFF-4C6C873A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484280"/>
            <a:ext cx="7704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ffffff"/>
                </a:solidFill>
                <a:latin typeface="Sylfaen"/>
              </a:rPr>
              <a:t>”</a:t>
            </a:r>
            <a:r>
              <a:rPr b="0" lang="en-US" sz="11100" spc="-1" strike="noStrike">
                <a:solidFill>
                  <a:srgbClr val="ffffff"/>
                </a:solidFill>
                <a:latin typeface="Sylfaen"/>
              </a:rPr>
              <a:t>vilken storlek?”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Årjängs gymnasieskola</cp:lastModifiedBy>
  <dcterms:modified xsi:type="dcterms:W3CDTF">2009-01-27T03:55:51Z</dcterms:modified>
  <cp:revision>7</cp:revision>
  <dc:subject/>
  <dc:title>Bild 1</dc:title>
</cp:coreProperties>
</file>