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1EA2-57E1-4F33-921D-434CB1C8E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B71B-B183-404C-B924-3207D1F5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CEB2-8988-4138-9822-79400EA83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C3B7-04DA-4D20-B865-015116159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5A56-B7F7-411C-8CE2-B9F575BE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1933-2492-4991-ABF2-C155371E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BBFA-BC05-484B-9AA5-83C1E68C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263D-23CE-4009-A4D9-26C6F5A0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6641-75B6-4D16-9A2F-9A72748B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4B7E-EE17-4AEA-AB16-58F1E380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2AB4-8775-4AAF-A116-80EBF4F3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91A6-C934-4F7C-8059-E8CBB624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AD4F-FD59-456E-9828-2909C0126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1557360"/>
            <a:ext cx="842472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9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100" spc="-1" strike="noStrike">
                <a:solidFill>
                  <a:srgbClr val="ffffff"/>
                </a:solidFill>
                <a:latin typeface="Sylfaen"/>
              </a:rPr>
              <a:t>”</a:t>
            </a:r>
            <a:r>
              <a:rPr b="0" lang="sv-SE" sz="11100" spc="-1" strike="noStrike">
                <a:solidFill>
                  <a:srgbClr val="ffffff"/>
                </a:solidFill>
                <a:latin typeface="Sylfaen"/>
              </a:rPr>
              <a:t>din favoritfärg”</a:t>
            </a:r>
            <a:endParaRPr b="0" lang="en-US" sz="1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9:58Z</dcterms:created>
  <dc:creator> </dc:creator>
  <dc:description/>
  <dc:language>en-US</dc:language>
  <cp:lastModifiedBy>Årjängs gymnasieskola</cp:lastModifiedBy>
  <dcterms:modified xsi:type="dcterms:W3CDTF">2009-01-27T03:55:15Z</dcterms:modified>
  <cp:revision>8</cp:revision>
  <dc:subject/>
  <dc:title>Bild 1</dc:title>
</cp:coreProperties>
</file>