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8A7-4E13-4D23-9D99-18DCCD55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42C-C114-4BAE-B830-DC8EA33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0F7-C8DC-41C2-B4E2-1BA01B5A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B89-1C58-49C6-87A1-24FF43F4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A70-6202-4443-A64F-4BC81C60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BB2-9BDE-4775-B32A-39F2EC0C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8B2-149A-400E-9B48-8CDDDC4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A20-30A4-42B9-ACE3-C343B61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1E9-4C6D-4D7C-A309-D997D55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3C0-FAE8-40C1-B69A-9892EFF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FBB-D59E-47F5-954C-95CB33E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7D8-9AAC-4054-AE46-5134F70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682A-2D25-4E8E-8F39-B5562D33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413000"/>
            <a:ext cx="8642160" cy="82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300" spc="-1" strike="noStrike">
                <a:solidFill>
                  <a:srgbClr val="ff3300"/>
                </a:solidFill>
                <a:latin typeface="Sylfaen"/>
              </a:rPr>
              <a:t>vilken färg föredrar ni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2-01T14:41:25Z</dcterms:modified>
  <cp:revision>7</cp:revision>
  <dc:subject/>
  <dc:title>Bild 1</dc:title>
</cp:coreProperties>
</file>