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D88-DF9A-4B7E-9144-C04C6ED1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0953-71F2-4525-A0D7-48B7D31E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E11-22EF-4EEC-AB81-FAC2ED17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A507-3E5C-460F-865B-EA3B8F61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406F-C636-41DF-A4D9-9F7C2957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939B-FCBA-422F-B2F3-CEF5C0FA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E49C-540A-47C3-9C0A-D74738B1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EDF-FE51-4D5E-B64B-0748EAC4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BAFF-E338-48BA-A90C-71E830C4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47B-A0A2-47F6-A10F-9B3843D1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A1B-4E02-4D93-99E8-BE813AA4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6DC-AE76-4B03-8510-D61F24A4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4E64-2303-4695-9E66-049F13483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268280"/>
            <a:ext cx="8424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kan jag hjälpa er?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2-01T14:39:02Z</dcterms:modified>
  <cp:revision>8</cp:revision>
  <dc:subject/>
  <dc:title>Bild 1</dc:title>
</cp:coreProperties>
</file>