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C07-F5EE-49B3-8A75-AA2C11ED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B69-BBD3-48A0-A326-77BDF84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418-462C-4BDB-B1D0-A4D16709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3BD-01FB-4EF5-B133-7A5740DC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B47-071D-4BD9-A5A3-DBE6666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06C-2E9B-40C4-B998-FC31836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1C4-E991-4909-A4ED-F8191595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46E-91E2-48DB-9526-4A144713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698-2BAC-4B0E-B4C1-56990F77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814-D2A3-4269-AF58-7E89E5F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7A1-F2E1-41B7-8D1F-57597E3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766-FA27-4B47-A2A5-DD46993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EB7A-ACA1-4691-B923-843368BB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00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c00cc"/>
                </a:solidFill>
                <a:latin typeface="Sylfaen"/>
              </a:rPr>
              <a:t>det är dyr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5:35Z</dcterms:modified>
  <cp:revision>9</cp:revision>
  <dc:subject/>
  <dc:title>Bild 1</dc:title>
</cp:coreProperties>
</file>