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0E6-7FF1-4443-841A-67F1DE63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EC8-515B-4174-ACEE-4B3A88E8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61C-C5BA-4225-A830-CE6EB442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0A6-606A-436D-8830-52378B81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E48-27CF-41BF-9945-EE126C6E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285-444F-4646-A6E0-B78FE98F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917-61FA-49E2-A166-7D342D6A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576-F818-48A6-9C31-FA42BFE5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AFF-166A-4E3A-86A9-2CCACDA4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48A-FAC7-446A-AB51-669406DB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DB3-D371-41DE-9FF1-8A9595D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AD5-F19D-48D0-AFC2-11794422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EF6E-F8A5-46DF-B0EB-D5F01C075FA2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00"/>
                </a:solidFill>
                <a:latin typeface="Times New Roman"/>
              </a:rPr>
              <a:t>hur mycket kostar det?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2-01T14:43:31Z</dcterms:modified>
  <cp:revision>10</cp:revision>
  <dc:subject/>
  <dc:title>PowerPoint Presentation</dc:title>
</cp:coreProperties>
</file>