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77C-A2F8-46CA-9836-CAB94E86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4C1-E2F5-4101-A44C-1B5B646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A6F-4A1E-4177-B231-5FE15B44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3E0-06EA-4758-9149-C8306DE6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3D4-FDC0-442C-96B6-5608713D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687-187F-4FA4-A48D-88B4E7E8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D9C-6478-4980-A633-4D69A34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E46-B673-4F0D-8DFF-267ADB78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C88-BD2B-4475-8BAA-0C48505C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D40-B51F-4E01-A6AD-F81FCC5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6D8-C3E4-41A4-AC1E-4CA62558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653-C245-4F7A-B6E0-BC08C96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8FC-B0FE-41DD-9742-738A6F146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5327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ffffff"/>
                </a:solidFill>
                <a:latin typeface="Arial"/>
              </a:rPr>
              <a:t>kan jag prova den?</a:t>
            </a: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6:27Z</dcterms:modified>
  <cp:revision>8</cp:revision>
  <dc:subject/>
  <dc:title>Bild 1</dc:title>
</cp:coreProperties>
</file>