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E9F-130B-4260-AC28-3E78625D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F21-C7A7-47ED-84E5-1DFAF15B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3B9-4958-44CD-A84E-0A440E02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587-F487-46CD-9F60-D68E66B7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757-392A-4DFA-8014-4740324D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BBA-FDBF-4441-AE06-88048F62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CB8-6DC2-44D2-A8DA-2EA5361C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D6A-532E-4A18-A2DD-26E5F7FB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973-D13E-41CB-8B19-70A4E2E8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869-A18E-4DED-9C5D-622527A7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7AF-A54E-4A24-B42F-5211AC5E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30B-6B08-4F1B-88C9-99501B7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55E9-819B-435A-AFCB-A4AE71D85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268280"/>
            <a:ext cx="8280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tack detsamm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2-01T14:47:32Z</dcterms:modified>
  <cp:revision>8</cp:revision>
  <dc:subject/>
  <dc:title>Bild 1</dc:title>
</cp:coreProperties>
</file>