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942-08D2-40A0-BE3C-FDA0B8EB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F84-7B2D-43F0-B27A-A4A1B9C3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B92-5B4B-4B46-AF33-8E91432B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CA6-0A78-4CC3-8A1C-2CB8BA9C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A45-2A0F-4D86-8B66-74A4057E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DC1-8FCD-48B9-9BDA-B28C6041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184-3413-47E3-BEAA-829DE0B5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246-613E-45F9-96E7-C4AB96F4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6EE-7F85-409D-8515-37E4650E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7BE-8E74-4BD7-BEF8-BCAC8DAB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ECB-8E07-42CE-AE68-50EF12AB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953-173C-4F32-B6CD-DA6E4967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21BC-C6DF-498C-8C13-A6234EF44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413000"/>
            <a:ext cx="82803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cc00cc"/>
                </a:solidFill>
                <a:latin typeface="Sylfaen"/>
              </a:rPr>
              <a:t>jag letar efter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2-01T14:44:26Z</dcterms:modified>
  <cp:revision>9</cp:revision>
  <dc:subject/>
  <dc:title>Bild 1</dc:title>
</cp:coreProperties>
</file>