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C4C9-177A-499C-8754-EE3C4E95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6039-8B79-46C4-B857-32D2339E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5515-57AA-4CEA-B27C-79C3F8AD5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06C2-7004-4483-AA66-8D0A15E12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B252-E664-4E01-B5F2-D80D6EB3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139C-617B-455C-A50F-146473A9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04C0-01A6-48DC-B286-990F4191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2096-1E93-40E4-9987-C5311D2C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B93B-EEF4-4559-B833-E9F098DD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2746-1B5F-4E0E-8FEC-0827701E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6CA4-4C88-432C-8F96-49627122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6D74-6CB0-4E7F-B804-79071726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57A7-EABD-4618-8098-506F12DB2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557360"/>
            <a:ext cx="871380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9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1100" spc="-1" strike="noStrike">
                <a:solidFill>
                  <a:srgbClr val="ccff33"/>
                </a:solidFill>
                <a:latin typeface="Sylfaen"/>
              </a:rPr>
              <a:t>”</a:t>
            </a:r>
            <a:r>
              <a:rPr b="1" lang="sv-SE" sz="15500" spc="-1" strike="noStrike">
                <a:solidFill>
                  <a:srgbClr val="ccff33"/>
                </a:solidFill>
                <a:latin typeface="Sylfaen"/>
              </a:rPr>
              <a:t>mage</a:t>
            </a:r>
            <a:r>
              <a:rPr b="1" lang="sv-SE" sz="11100" spc="-1" strike="noStrike">
                <a:solidFill>
                  <a:srgbClr val="ccff33"/>
                </a:solidFill>
                <a:latin typeface="Sylfaen"/>
              </a:rPr>
              <a:t>”</a:t>
            </a:r>
            <a:endParaRPr b="0" lang="en-US" sz="1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46:56Z</dcterms:created>
  <dc:creator> </dc:creator>
  <dc:description/>
  <dc:language>en-US</dc:language>
  <cp:lastModifiedBy>Årjängs gymnasieskola</cp:lastModifiedBy>
  <dcterms:modified xsi:type="dcterms:W3CDTF">2009-01-27T03:56:03Z</dcterms:modified>
  <cp:revision>7</cp:revision>
  <dc:subject/>
  <dc:title>Bild 1</dc:title>
</cp:coreProperties>
</file>