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73A-6F54-4F4B-B09C-7DFD2F98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205-9D53-45D3-A4DE-617D34C6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4AC-7879-40ED-96EF-4AB7072B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52E-7F6E-4206-83E1-1357328C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8E9F-2EA5-462B-AABC-B5BD6BCC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CAF-AE3D-4DE9-9E58-32498E09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A9E-776A-49B5-965B-ABB15FA9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5576-6EC9-4388-8907-522AB05D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8A2-C969-4168-8110-2CCA387B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263-90EF-41D6-AB54-083FA66E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6F6-74E1-4828-B96F-99F041D1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E72-C047-49A9-9B38-222F7E23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E1B2-4025-4324-906C-343CB258E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04640"/>
            <a:ext cx="835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cc00cc"/>
                </a:solidFill>
                <a:latin typeface="Sylfaen"/>
              </a:rPr>
              <a:t>hur passar tröjan?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2-01T14:44:07Z</dcterms:modified>
  <cp:revision>9</cp:revision>
  <dc:subject/>
  <dc:title>Bild 1</dc:title>
</cp:coreProperties>
</file>