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81D1-1C8A-44CD-93DC-40AF7DDA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A2F3-37FC-48D9-B513-BF3C5E4A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48B7-DDC2-429E-A576-43063A4C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87E8-B12B-499B-8653-ECF775E5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6F83-3F7C-486E-83F2-0AAFD42D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A5E6-1E26-45E3-B880-746F50D1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D4C4-29F8-41C9-BA47-E3E89209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F7E6-5AE4-47EA-8EF0-4EB25789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EB5D-0A32-4C6E-8C14-759004A8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DB1E-BD27-4732-839B-6E490ACC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669B-D3DC-4AB6-9FD2-C1612B42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6884-B0A9-477F-8ACA-2CF5DA27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CEBB-9653-4CE9-806A-547E143A5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907920"/>
            <a:ext cx="864216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600" spc="-1" strike="noStrike">
                <a:solidFill>
                  <a:srgbClr val="333399"/>
                </a:solidFill>
                <a:latin typeface="Arial"/>
              </a:rPr>
              <a:t>Fönster-leken!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03:48Z</dcterms:modified>
  <cp:revision>27</cp:revision>
  <dc:subject/>
  <dc:title>Bild 1</dc:title>
</cp:coreProperties>
</file>