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B2D-D2AD-4FE6-837C-0851D587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A8C-832A-4A0A-9872-89FDBDF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A7C-D850-43E0-8556-6DC71F00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583-5E70-4119-B173-D6179525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E07-2948-48B3-86BC-24762AF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427-1A29-4DB1-9DAB-4398CF8D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1CC-B938-4AED-B565-8E15104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FA2-7BA4-44FA-8AB9-FE62441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33A-5609-4082-A481-F09026E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F55-E4DF-497C-BD0B-62E32D7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B90-16D8-41D9-94AF-7E03662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A03-68D9-45F2-B082-EC402F7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57D-61B8-479C-A2CF-4E349C90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Var, hur, vem, vilken, hur dags, vad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13Z</dcterms:modified>
  <cp:revision>60</cp:revision>
  <dc:subject/>
  <dc:title>Bild 1</dc:title>
</cp:coreProperties>
</file>