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4B8-B1A2-47AF-A8FB-B02542A4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EF7-C6F7-4F61-9A69-1F7398A1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A4B1-091F-4738-B86A-1D751241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58C-37FB-4D13-9943-43D35606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E73D-2637-427E-9194-CB0578B7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9AAC-6887-42FF-AD6B-7175876F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C93-0C6C-4665-AD39-77DE4155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819-8628-4B22-853F-3D17FDBA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E47D-4A89-475E-90D3-0B1E50FA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26D-6A6F-4E94-AE61-0F2E7A77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D5D7-CB05-43F0-AEB7-6BF3CAC8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68F-7839-499A-A619-8F39CFB8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B89A-770F-49C9-B2DF-45D11E802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549360"/>
            <a:ext cx="85359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ffffff"/>
                </a:solidFill>
                <a:latin typeface="Arial"/>
              </a:rPr>
              <a:t>Verbet venir i presens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49:21Z</dcterms:modified>
  <cp:revision>68</cp:revision>
  <dc:subject/>
  <dc:title>Bild 1</dc:title>
</cp:coreProperties>
</file>