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22FA-19BB-4922-BF3F-DC7F547D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B904-A157-4A2C-B7D5-297605B8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11E5-5B70-4BA4-99BA-F2305A12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8FB9-BED5-40A3-947F-70D5DD36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B128-F202-4DB8-A498-59B52DBC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8A4A-8E5D-482C-A70B-6EB8B2CF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DCDD-CC62-43E3-B009-4E473BCB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58B1-8DF9-48DC-B604-A38866A9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B2EC-6B65-4FA0-86FA-FE53DB67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C3AC-C5F8-4947-8C28-D1D59901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289C-19BB-4DB2-8346-17B1C7BF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78EF-071E-4435-96E2-6B536783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BA53-C233-410C-8C4D-EB916642A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907920"/>
            <a:ext cx="85359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0" spc="-1" strike="noStrike">
                <a:solidFill>
                  <a:srgbClr val="ffffff"/>
                </a:solidFill>
                <a:latin typeface="Arial"/>
              </a:rPr>
              <a:t>De 5 viktigaste meningarna på fransk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32:00Z</dcterms:modified>
  <cp:revision>76</cp:revision>
  <dc:subject/>
  <dc:title>Bild 1</dc:title>
</cp:coreProperties>
</file>