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7A9-2825-429B-A0F5-2223D458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D5B-242D-4E6D-90AA-D08D7668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83D-836E-4647-B668-4DC149A1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A9F-BF49-464A-825E-07F69C58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E0A-E32E-4F26-820A-A88F3924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F1D-9E21-4B23-BACD-8D501BF6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B18-CDE0-41FA-BC6D-5204FD8D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839-F802-43FB-B35A-22EB1335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B6A-24C8-4E9B-AA9D-8F7ABC5A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9BA-09A6-455C-BF7B-69A1C72C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C54-6171-432B-BCB0-AC9B48A4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2EE-A66D-412D-BA99-911D326B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FB25-2A7D-4C2F-8AEE-53F8CDE6F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5359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Arial"/>
              </a:rPr>
              <a:t>10 skolord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2:51Z</dcterms:modified>
  <cp:revision>79</cp:revision>
  <dc:subject/>
  <dc:title>Bild 1</dc:title>
</cp:coreProperties>
</file>