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162-567A-433E-A297-8D825D92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BF0-A032-4C14-8077-BC12DAF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F52-DFD8-4093-8706-781DCDDF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2A5-6B15-44B3-B0F8-8BCD2BBC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E71-EE6D-4C61-84B3-48349D20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B5B-B703-4D3A-95DA-EDF5F4FA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8B6-1651-4248-8D40-0D52741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025-1EB5-4385-8EC5-1D3DED69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57B-A113-456F-A4CC-19DD01AE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279-C2D9-426F-A4D9-363D104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5FA-CD06-4373-9E6B-1A866B3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CA1-7AB4-4442-A280-F1333694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7AA-FEB4-4987-BCAB-83063E6C6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typiskt franska ord i svenskan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8:15Z</dcterms:modified>
  <cp:revision>15</cp:revision>
  <dc:subject/>
  <dc:title>Bild 1</dc:title>
</cp:coreProperties>
</file>