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9D7-8C61-420F-AC3F-D62398D6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327-84CC-4ACB-9E47-1E3DD84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F5-0C9F-4618-86BD-736E7BE0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1F4-4482-40E7-8F06-E2A02720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015-08F0-40A5-86AC-B4C00A0D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BDA-A816-4070-B68D-DC6D00D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16B-80AF-4250-8B14-EF53AB10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1D5-8DFF-4743-9334-4E374E2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3E4-D20E-4BCF-B0CC-6E9B1E02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317-E93F-463C-A135-1DA113E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800-2227-4D6D-B89D-756A3CC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FF8-0B95-4C7B-80EE-AAFD6E0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7C8-B133-45EF-851D-6922C1EE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De fyra årstidern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5:12Z</dcterms:modified>
  <cp:revision>53</cp:revision>
  <dc:subject/>
  <dc:title>Bild 1</dc:title>
</cp:coreProperties>
</file>