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5C8-4378-41F9-AB74-74C1C605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629-0C06-418D-9D84-C80F0814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09D-10FB-47AE-A2E6-F3522D50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F4C-88FB-41E0-B1BF-ED20E792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A2E-7AB0-4508-99C6-7C7BBFB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B1A-E757-4280-A92B-549EA6A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7D6-44DE-41F9-B520-1CCBED6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FFB-CA47-4990-B4E2-DC3D079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863-5A35-4A9D-8FC8-0333830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8EB-C955-4299-B2C9-EA36208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42-E8A5-444F-B797-50D9C6C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002-76C1-4BA8-B8A0-8655CBD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28A-94EF-4D63-B305-C07EA101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0:23Z</dcterms:modified>
  <cp:revision>39</cp:revision>
  <dc:subject/>
  <dc:title>Bild 1</dc:title>
</cp:coreProperties>
</file>