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69D-9E27-4F10-A250-B9D86B97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B70-5990-4901-B8E4-A637F6B2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AF3-0DA7-4472-A828-A8266040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0956-2D5C-4238-9AD1-66C4EE6A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52DA-455E-4F1E-8D5B-FBC9FFCE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D569-0247-4E8B-BF0B-B2DB214D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E40-12C7-4505-A412-765AE5E2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490C-5B00-45B6-893B-535A45F9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EC3B-EC60-40DB-B144-859296E0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465E-A00E-461D-9BB9-AA1F68F5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2DA-E780-495D-B964-6FF32114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2F4A-6267-46D5-8CAA-6F362DE9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B0A1-F6B3-4217-963A-A32529224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ff"/>
                </a:solidFill>
                <a:latin typeface="Arial"/>
              </a:rPr>
              <a:t>10 franska städer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0:45Z</dcterms:modified>
  <cp:revision>54</cp:revision>
  <dc:subject/>
  <dc:title>Bild 1</dc:title>
</cp:coreProperties>
</file>