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2D1A-34AF-49DE-B16E-7B00DE55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94D9-01F8-4BC9-B1A6-94AE4BEA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B354-CA96-455B-83F0-4CE33EA1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84D1-F60A-41EC-BD64-AA41E49B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797C-0736-46B8-A521-964ED3C5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5E43-90A5-4917-B060-DF0D8DF4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BA91-388D-484B-B713-82530354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8C28-DECD-4286-B616-DFD3DA23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5BFA-0FCF-4CC4-A1FB-9884C683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75B3-9022-4C88-86BD-22F0DAE3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FF6F-3C33-40D1-901C-670719EF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C786-1025-43B6-B323-E4FF9704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5875-EDB3-4FED-B079-43EF437D5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260280"/>
            <a:ext cx="85359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200" spc="-1" strike="noStrike">
                <a:solidFill>
                  <a:srgbClr val="ffffff"/>
                </a:solidFill>
                <a:latin typeface="Arial"/>
              </a:rPr>
              <a:t>5 positiva saker om Sverige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01:41Z</dcterms:modified>
  <cp:revision>83</cp:revision>
  <dc:subject/>
  <dc:title>Bild 1</dc:title>
</cp:coreProperties>
</file>