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C08-F1CD-4B16-9556-A42C9B2C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CAB6-B05C-4535-9DF9-DE582764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5A5-A097-44DB-AE80-29FAA185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C2AC-0E2F-43A7-A181-2B8375CA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B6F5-AEF1-4C3C-B315-EF30F90C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D9B-BE11-4C92-890D-2469737B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DF9-F90D-4E83-B039-136AA725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89D-9B1C-435A-8F93-08F21132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F5A-D19A-46C1-8BE6-46A02F6B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99D-1AEB-4FC7-ADE8-5879F8EE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0F2-8A4E-48D8-A06F-3A8EAF0C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5EE5-E379-4FDA-8E1B-B16D00AD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3DEE-52AC-4432-B147-FD86C7C5F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7888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4:58Z</dcterms:modified>
  <cp:revision>49</cp:revision>
  <dc:subject/>
  <dc:title>Bild 1</dc:title>
</cp:coreProperties>
</file>