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C27-54FB-41DE-B249-E1275510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354-EF5A-45BA-A283-2152B6C1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5D0-5937-4E8A-9B0F-61A6B5E7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B21-AB9A-4D1D-B92A-25B98968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0E9-125D-465C-8D2D-439D9D36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290-AE8D-46C4-BBDE-66CEBC82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3F8-7791-4373-8DCA-36AE0417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4A0-AC93-4685-BF03-44887ECC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C4B-2CA6-43B8-A5CA-A9B92D66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239-0551-4D47-803D-F98EFE67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F2A-9B40-4FAE-BD47-4552E525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5C9-24F1-4805-B8A2-27AF3533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1EC3-3F5B-4250-A19B-A27C13A46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42472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100" spc="-1" strike="noStrike">
                <a:solidFill>
                  <a:srgbClr val="333399"/>
                </a:solidFill>
                <a:latin typeface="Arial"/>
              </a:rPr>
              <a:t>10 tunnelbane-stationer i Paris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33:58Z</dcterms:modified>
  <cp:revision>3</cp:revision>
  <dc:subject/>
  <dc:title>Bild 1</dc:title>
</cp:coreProperties>
</file>