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41A6-DA54-40E1-B9D2-1F520279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DF06-34EC-411F-964B-2347D1C7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C708-BBA2-4583-B942-36AE361C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2D5-1E6B-4C00-88E9-FB84ABCB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6257-90AF-4C96-BEB7-8153F86D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62C4-B271-4B9D-A170-4203F18C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DF4-61A4-499E-9DDE-D50EF4AB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580-23A7-4BDF-9183-04AC3961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D430-B8F3-4A25-BA56-1467096D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B267-4E2B-4D71-90E1-2CDDF43A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FF1-F66F-4746-ACDB-BD502C68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97A4-63A2-4C25-B4D5-CFF9D0C3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B674-A7AB-4198-B33E-C45AF6E16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700" spc="-1" strike="noStrike">
                <a:solidFill>
                  <a:srgbClr val="ffffff"/>
                </a:solidFill>
                <a:latin typeface="Arial"/>
              </a:rPr>
              <a:t>8 olika drickor</a:t>
            </a:r>
            <a:endParaRPr b="0" lang="en-US" sz="1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5:59Z</dcterms:modified>
  <cp:revision>57</cp:revision>
  <dc:subject/>
  <dc:title>Bild 1</dc:title>
</cp:coreProperties>
</file>