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223-1099-45F0-856F-B94CDB52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06F-E37D-4F18-A3A0-89613B2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4D5-748C-45C7-984F-B88C37AF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C2F-7539-40DC-9111-97BCE0C9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3EE-C473-4D2E-A894-CA692620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C8F-2060-4593-A31D-D881B23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D4C-4800-429E-A067-E88352B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620-8B59-4527-96FF-AD624E4D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BB7-400F-4632-93E6-ADF0EDDB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855-10EF-48C8-83BA-038BC2C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6E3-FE95-4DD4-A7C8-C890E2A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FA2-6C01-4059-A80C-7663DA85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66E1-5502-46A8-8FD4-B06F7FA1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48428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Har ni vykort?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7:33Z</dcterms:modified>
  <cp:revision>13</cp:revision>
  <dc:subject/>
  <dc:title>Bild 1</dc:title>
</cp:coreProperties>
</file>