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2AD-B506-4230-B930-D4657F88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F05-0DBE-417A-9F69-D52AF32E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4E7-026B-4385-B571-554EC29D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565-E7BC-4F29-B1D0-E6968882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742-BEF0-495B-9680-A3B9A9A8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CD8-375D-4592-8E92-4579F4FC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F2E-B44E-414E-BDA3-5F919F86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54F-7EEE-459C-BB4C-B3BF53B5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60F-D5DA-4287-B74B-82E542BE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148-0EFE-4C31-8D10-61054861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CDB-8B35-44EE-9CDB-78AB3984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0DE-C7F0-4A18-BF3D-FA7FCB38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60BE-B762-4D8F-94D9-4A4F789EF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05264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333399"/>
                </a:solidFill>
                <a:latin typeface="Arial"/>
              </a:rPr>
              <a:t>Berätta om Mona Lis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0:25Z</dcterms:modified>
  <cp:revision>42</cp:revision>
  <dc:subject/>
  <dc:title>Bild 1</dc:title>
</cp:coreProperties>
</file>