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6FD-9D54-441C-9697-5DAF117D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744-6692-4430-B1A4-44459242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A90-D9F5-4846-B82D-B64D8EFE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965-3E75-42F0-9A93-FC0A87FA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4F3-981C-4DFB-BAF4-3933BE26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CC4-6C74-41C4-A9FC-DCE22AEE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E28-1766-4059-BE2A-7D3EDD98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D33-3867-4291-94F7-9E9472E7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095-49EB-48CF-8DFE-CC1EE45E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F95-89D4-41B6-8ED3-240787F7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E95-A7AB-4392-82BB-7EA0A049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09F-5812-4F6C-8A4B-BE59F013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0F5-4A54-49D0-8CF1-F7FE8EF6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052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Berätta om Napoléon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4:07Z</dcterms:modified>
  <cp:revision>47</cp:revision>
  <dc:subject/>
  <dc:title>Bild 1</dc:title>
</cp:coreProperties>
</file>