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A43-6531-4676-9283-4096422E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C22-A859-4696-878B-939A62D5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943-765E-435E-8BAB-443C84B9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B80-092B-427C-B847-DA6B767E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470-D245-4704-B5B7-0582B5C1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2D8-C2DF-4F9A-9213-B5DB0A3E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068-65BC-4DBC-858E-0FBD2D6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882-80F2-4882-8BAA-AB85B69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52D-3195-4231-8C09-E86AAC97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12A-B95D-46D8-8E98-88C3A12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DEF-FCE1-489F-B30C-8D494CF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32C-3E1A-41B1-BD9E-44AECC9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6EEC-9EE6-4007-BD0A-F9787CAC2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7 kända byggnader i Pari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8:34Z</dcterms:modified>
  <cp:revision>69</cp:revision>
  <dc:subject/>
  <dc:title>Bild 1</dc:title>
</cp:coreProperties>
</file>