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A5D-A95F-408C-BA74-019DCB50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4EB-FCE7-48CA-87AA-B86E3D34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F3C-9D5A-4B2D-9C4B-EAE9D8C8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888-0257-4CA1-8175-363F642B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175-2083-45AC-A3C4-B1E4657C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315-842A-4793-A431-E8A4DB75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A4E-9FE6-47FE-93EC-A93B9B61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BFA-0A30-4399-98B9-5F0EC64A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BC0-B1C5-4306-84C9-98406C0F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C25-DD8D-4FDD-8440-E00B3D20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7E9-3767-42BB-97BE-F50D7F7D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659-78C9-4C82-A1D2-27A3B12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BE77-DB14-4298-8588-4CF0D2E81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333399"/>
                </a:solidFill>
                <a:latin typeface="Arial"/>
              </a:rPr>
              <a:t>På, vänster, under, höger, mellan, bakom, mittemot, framför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4:29Z</dcterms:modified>
  <cp:revision>8</cp:revision>
  <dc:subject/>
  <dc:title>Bild 1</dc:title>
</cp:coreProperties>
</file>