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75D-7F74-478F-8E98-A17794E7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486-41D4-4551-8006-28BE3091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309-3716-44FC-A679-3BB9BE18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9CB-E9EE-4D3A-BE57-CF560E79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56C-9445-47E3-B353-69D68069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897-6BF4-42A2-8BF9-CBB888E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987-3984-4426-AA28-EDFB19D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0AA-19E4-4F44-9A68-CF8BE789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7D7-76D6-434B-BC50-CD79E49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9E5-F858-46B8-95B9-1130C47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7B9-EAEC-4558-A16F-2E3A0EE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04B-401C-44A6-AA19-CDA3E4B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38F-97BC-49ED-8437-1187BE9D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6440"/>
            <a:ext cx="864216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500" spc="-1" strike="noStrike">
                <a:solidFill>
                  <a:srgbClr val="333399"/>
                </a:solidFill>
                <a:latin typeface="Arial"/>
              </a:rPr>
              <a:t>10 adjektiv på franska (inte färger)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5:41Z</dcterms:modified>
  <cp:revision>30</cp:revision>
  <dc:subject/>
  <dc:title>Bild 1</dc:title>
</cp:coreProperties>
</file>