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399D-D374-4061-A8A6-737B32ED4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AFBB-90DF-4B09-96ED-31F5AA45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B6D3-3DB7-4D8F-96E6-AE5F39FAF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6D45-E9F7-4AF9-BDD8-88FBE31FA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4500-53C2-44B6-AC4E-E8660D10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0FA2-BD94-45FC-9445-55F17791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2A05-551A-4E44-864B-DC168A8E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7616-67F8-4B9E-AED8-7D1E35B4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65C0-E6AD-468B-8E98-46FCBE33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F91C-3E63-4EF4-8C00-875A38DF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F647-9D0F-4C56-9053-1A2D0A27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568B-59CA-43E1-A736-20F8CA68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B5E9-F058-403F-9A95-3BE0226C8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184320"/>
            <a:ext cx="8391600" cy="61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300" spc="-1" strike="noStrike">
                <a:solidFill>
                  <a:srgbClr val="333399"/>
                </a:solidFill>
                <a:latin typeface="Arial"/>
              </a:rPr>
              <a:t>8 frågor om Frankrike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23:46Z</dcterms:modified>
  <cp:revision>40</cp:revision>
  <dc:subject/>
  <dc:title>Bild 1</dc:title>
</cp:coreProperties>
</file>