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170-0041-435C-95B3-AD6F7755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EE5-B8E6-4BC6-B261-F60C68AF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CD5-0D9A-4276-9421-32999419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145-5E06-429C-B4F0-8267EFDB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4EA-DDD9-44E1-ABC6-37B0BF57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483-9D53-4AA7-A2FF-4985574A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0D0-BBB8-4661-8D2E-4FC5282C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EC4-CC2C-4536-B410-4C836D61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7F7-F001-440A-A320-C4CA6B6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8CD-33A6-4121-BF07-A53CDEE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195-05C2-4472-B308-C48E590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4D9-B789-45F9-9158-EE742DE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2C0-76BF-4AFD-A9B8-B0B29D854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Fråga hur mycket glassen kostar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6:12Z</dcterms:modified>
  <cp:revision>82</cp:revision>
  <dc:subject/>
  <dc:title>Bild 1</dc:title>
</cp:coreProperties>
</file>