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E92-4B5F-4D32-93B3-491D3B8D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EA2-85F3-4C9D-A437-77B539E5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532-A7B2-43DF-AC89-8B92D996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DB5-E898-4454-97F0-9247BF44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909-3AF1-4CAF-8A23-A7C06CB7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16A-2035-4975-AFB5-CDC84D7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4F1-4F18-4F4C-B010-8389CB48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633-1F7C-40FE-A63C-245CD89C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B33-F99A-4376-85E9-7075B8E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672-C014-40EE-A8EB-6607719F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866-DBBF-4663-8FE9-A1A4E71D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614-3BD2-40E0-8A9B-C6B23B8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8A22-65F6-484C-8A93-5094F4E2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5690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10 motsatsord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0:57Z</dcterms:modified>
  <cp:revision>72</cp:revision>
  <dc:subject/>
  <dc:title>Bild 1</dc:title>
</cp:coreProperties>
</file>