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74A5-D5C4-4E8D-8ABD-D09D7480F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45E0-B819-41AB-8833-FF6C5C41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0ED8-E43B-4667-B3A7-4CD1D1AA5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4338-8DE0-4563-BABF-CA2C4C7DE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54EF-B864-41A3-A298-1088F671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C3AF-0A74-4B26-BC57-3E415BD3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E240-4970-41A1-A418-9AD0CC0E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5119-AC6F-476F-B18D-2F1EC642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776D-A644-4A23-8918-5BE50A39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237C-89B1-4E20-A18A-99911888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2AC9-272B-4FF7-96C9-42765886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8D36-68F3-4882-8618-03291A94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B9F8-B60F-4958-88D3-4C84C4AD9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052640"/>
            <a:ext cx="86421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300" spc="-1" strike="noStrike">
                <a:solidFill>
                  <a:srgbClr val="333399"/>
                </a:solidFill>
                <a:latin typeface="Arial"/>
              </a:rPr>
              <a:t>20 länder på franska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17:44Z</dcterms:modified>
  <cp:revision>11</cp:revision>
  <dc:subject/>
  <dc:title>Bild 1</dc:title>
</cp:coreProperties>
</file>