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BF9-3E02-44C0-8F19-33D28ED8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921-7D2E-47ED-BA54-DF513391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06B-A3C2-435C-9B2B-FEEB7920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A11-01E9-4474-AF99-61259EE9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D11-D824-426B-ACEF-FF1C3C88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268-E158-4446-B4D7-53426890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490-DF49-4A44-B520-990C1C4A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6EB-9F01-445F-9AE8-B0F5211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94A-0D21-42EA-9C11-7260491E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9BB-BCC5-427B-8199-C99C5DFF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763-CCAD-471E-8D0A-7FE5DD98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BD1-3EC5-44C6-9A72-A342317B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9995-B289-4365-85DA-2B46E9C5D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333399"/>
                </a:solidFill>
                <a:latin typeface="Arial"/>
              </a:rPr>
              <a:t>Säg vad ni skall göra i helgen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4:47Z</dcterms:modified>
  <cp:revision>12</cp:revision>
  <dc:subject/>
  <dc:title>Bild 1</dc:title>
</cp:coreProperties>
</file>