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923-0462-4DC4-922E-C5A745AC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E83-2169-4876-A4BC-2282F4E3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BAD0-E07E-4FD9-85F0-28F6DE4E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7A4-72F1-4670-A1B1-BA590D4E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0A0-6827-4F63-A3A5-D655120C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61EF-DB5E-4565-B34D-F95C0D93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BAB-9984-498A-9F51-118571BB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C13-1C32-41C3-B2BA-618C7ABC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8F1-E3F6-41DB-9940-D4EA75BB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DE3-FDF9-4065-8D7F-8A954B0B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E16-4489-4F52-B5CA-2233B1C4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4B9-A1D3-4973-926B-ECC6B060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1D4A-9430-49D9-BFDE-80CB5A0C1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476280"/>
            <a:ext cx="864252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99"/>
                </a:solidFill>
                <a:latin typeface="Arial"/>
              </a:rPr>
              <a:t>Kanske, ofta, ibland, alltid, när, varför, också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1:59Z</dcterms:modified>
  <cp:revision>18</cp:revision>
  <dc:subject/>
  <dc:title>Bild 1</dc:title>
</cp:coreProperties>
</file>