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3EC-9455-4FEE-98B1-2D96B95B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5FA-2E09-458B-9143-96C00CFD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D1D-02DA-4274-A212-C1AF4190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6C6-7CC2-40D0-91D9-D19AC2AF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13D-33C3-44B1-83A0-2015A00F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36B-88AE-4829-B05B-458FB9D8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37B-A6BB-472D-9D81-F023BF7D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5A7-B79A-41D0-9776-72C7E802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A3D-4B8C-4A3B-9DEF-ACA7CB50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E1F-B02C-4A58-96A7-0FE4F0FB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F2B-4E4F-4168-A351-1E34B3B8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C41-A1F2-4B23-83DA-837DDEB4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2DD0-F1D5-414E-9CBA-752E826BE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36440"/>
            <a:ext cx="86421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500" spc="-1" strike="noStrike">
                <a:solidFill>
                  <a:srgbClr val="333399"/>
                </a:solidFill>
                <a:latin typeface="Arial"/>
              </a:rPr>
              <a:t>5 frågor till USA:s president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2:28Z</dcterms:modified>
  <cp:revision>33</cp:revision>
  <dc:subject/>
  <dc:title>Bild 1</dc:title>
</cp:coreProperties>
</file>