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3EC-8966-41BD-B3DD-ADE5BA02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7F7-E6CC-4EBF-8C7E-8A5DF7B5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7CE-8916-43FA-A0FE-2850043A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D94-3495-4D0B-B0E1-26E96785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F4F-0F34-4D73-AC70-85032A5D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847-1A8B-4A32-95DC-5EF11165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0C3-0A36-438F-BFC9-2DC8CE0D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73C-F376-441C-B0DA-7B85C4CE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E7D-9C78-4DE2-915B-EF0275B3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F34-1AF9-4E7F-B8C0-5EE6A18B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54A-1358-4DEA-A4F5-03F1ECFE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9C3-8DD6-4F4B-A1BD-23BA4EA5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28C4-DBEA-4D12-832F-55A520DB6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4640"/>
            <a:ext cx="85359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10 skolämnen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3:16Z</dcterms:modified>
  <cp:revision>78</cp:revision>
  <dc:subject/>
  <dc:title>Bild 1</dc:title>
</cp:coreProperties>
</file>