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2C1-578E-467F-8211-708FD475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028-ED09-445A-A1C8-A17D271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959-CC99-44A3-9B8E-E50B8697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2FC-9866-473E-A1FC-58FD2943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927-ECD3-49D3-B490-7D73632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AEB-AD4A-499E-9EAF-899558CB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799-BBDF-43AB-B334-3F3EDE1A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45D-DF3D-4A96-B342-86C2F0F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651-9FED-4E31-934F-5928BBA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D1F-EB06-4E95-B8B6-4CB484B3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328-807B-4F92-A3B3-BFC726C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297-9BF6-4D84-9036-9351C20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0B11-6077-47AD-BF4E-2F4771D4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alle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8:53Z</dcterms:modified>
  <cp:revision>6</cp:revision>
  <dc:subject/>
  <dc:title>Bild 1</dc:title>
</cp:coreProperties>
</file>