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DF0C-21EA-4FEA-AE95-AEFA79CD9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500D-683B-42C5-B3B4-3086CC19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52F3-88B9-49EC-A907-B50706DB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DCA5-84A3-43D0-9EB9-D16935893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F612-A1D7-4811-BDF6-07463505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067C-F9D3-4FB1-95D4-653EBA79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B817-360C-4852-B34B-3AD5B654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7D4D-2D92-4861-8D8C-AB20BE7D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72AF-4F9D-421D-8C16-929DB817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0AAD-9422-4255-ACC2-6BE9623F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15AA-13CE-4D85-9E62-5A3DF935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D7BA-D48B-44AE-B0FF-CEE90F7B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8085-2D19-4C29-8CF7-415B43B2F156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79280" y="765000"/>
            <a:ext cx="871380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500" spc="-1" strike="noStrike">
                <a:solidFill>
                  <a:srgbClr val="333399"/>
                </a:solidFill>
                <a:latin typeface="Arial"/>
              </a:rPr>
              <a:t>Bokstavs-leken</a:t>
            </a:r>
            <a:r>
              <a:rPr b="0" lang="sv-SE" sz="14000" spc="-1" strike="noStrike">
                <a:solidFill>
                  <a:srgbClr val="333399"/>
                </a:solidFill>
                <a:latin typeface="Arial"/>
              </a:rPr>
              <a:t>!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Stefan Gustafsson</cp:lastModifiedBy>
  <dcterms:modified xsi:type="dcterms:W3CDTF">2016-08-01T05:21:35Z</dcterms:modified>
  <cp:revision>39</cp:revision>
  <dc:subject/>
  <dc:title>Bild 1</dc:title>
</cp:coreProperties>
</file>