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773-B6E2-48A6-A9F7-52617B6C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6B5-BEAD-4A53-8023-9FC31BB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7E2-670C-4444-9A24-3E819753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00F-6AAB-4DE4-9CF5-4DBB3D5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BFD-00EE-47E1-B2BC-5FE7DFF5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6C9-8C65-4C4A-BAAF-91B3C94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0DB-1E5D-4B79-8D60-1D9D3DD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A4A-E973-4725-B2B1-2FA7B61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EBE-6C18-4CE5-9F81-CAAAE39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0D3-4256-484F-B2BE-5D50DB2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401-14EA-4C92-B1AC-63C26DA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1DD-C9E3-43D4-B5F8-10F9905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C16-3BD7-477C-955F-60637DAF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49360"/>
            <a:ext cx="86425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333399"/>
                </a:solidFill>
                <a:latin typeface="Arial"/>
              </a:rPr>
              <a:t>Säg 10-talen 10-110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02Z</dcterms:modified>
  <cp:revision>18</cp:revision>
  <dc:subject/>
  <dc:title>Bild 1</dc:title>
</cp:coreProperties>
</file>