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198-6598-43A3-9265-0F2CB330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F75-74CF-4507-9BC4-93756C07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B8F-0E7E-4355-AC54-113B8CE7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EBF-EE75-4EF0-8D3D-D6A54F07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00C-5118-4615-B742-F983225D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84A-F638-4B19-9208-973F4520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4D0-324F-4AF7-810F-694A1C0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72D-C49A-4E05-A318-7796570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D51-F6DD-43E0-A8A7-5BF97E6D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B7B-FAC3-4464-B46E-F108EE5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EE5-4797-49B4-BB6B-431039A7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A5D-7B4D-4AB6-87BD-8DBD72E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1187-A060-44A1-A981-33D26ADE0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7628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7 frågor om Sverig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1:28Z</dcterms:modified>
  <cp:revision>73</cp:revision>
  <dc:subject/>
  <dc:title>Bild 1</dc:title>
</cp:coreProperties>
</file>