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B59-AB9F-4338-A73F-E41C645D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F3B-6F24-415A-B7D6-B31F0CA0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E35-A0DF-4156-A179-8087D7FB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21F-2E70-482D-B243-A67A733E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61C-1B0A-4EEB-947F-44F56807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2C9-ECD9-4AD6-A88C-DB393E1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391-659E-4F64-A17E-8EBAEDA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C67-9DFC-445C-BAE7-CD5D856D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C73-6D28-4E7A-9C14-5BB45F9A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D89-97C3-4DD6-A7B0-DE94369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7FF-2D38-49F2-B7F8-0541730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7AC-ED20-474D-9ADD-3AE70DE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F078-2130-4B40-B534-F2E01D0F2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5 kända fransmän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9:37Z</dcterms:modified>
  <cp:revision>70</cp:revision>
  <dc:subject/>
  <dc:title>Bild 1</dc:title>
</cp:coreProperties>
</file>