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321-FAD1-40ED-B3B3-F883CCF8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804-8F7D-4B04-89A5-F757D6EA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9E6-FA39-4465-9DD0-677E414C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8A1-5AE4-4E9A-BF26-38244CB1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2A4-C2C5-4296-BBC0-14C23AD3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40E-3867-42B7-9957-812192F7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0D7-ADCE-4BE4-8D28-075FC9CA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C7A-3BF3-44B9-9BB3-BE2E127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C4F-C04A-4D68-9763-7908B8C8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192-2040-40B6-9067-9FF623E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ED6-030F-4D4E-860E-0AA1D0E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D81-7B1E-46FA-859E-7C5DFE5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DE4E-4A7A-4F7C-B06B-2B2DB497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Beställ 5 olika efterrätte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0:57Z</dcterms:modified>
  <cp:revision>56</cp:revision>
  <dc:subject/>
  <dc:title>Bild 1</dc:title>
</cp:coreProperties>
</file>