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C73-6DAD-4CC2-B7FA-D1E41EFD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ED7-04DD-4871-8847-81AB31CC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F99-F574-42FD-BB06-8C7086BD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2DE-0678-4A4B-9BED-8D7370F2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5B2-7589-4B80-884D-E4ACD4CB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197-732F-4DFB-A399-B95DC6F6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73F-6CE5-40B3-8DDD-6885FB85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032-76E7-4FF0-9CA6-0C493CB3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368-91C0-4309-9D8D-35C09974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6FA-BE35-4DB4-A045-DB87C2E6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A71-39DE-4CD9-B0BC-66EFF619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1D5-98A6-4CDD-83A9-72C49559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087D-5963-486C-A4DE-906300398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ff"/>
                </a:solidFill>
                <a:latin typeface="Arial"/>
              </a:rPr>
              <a:t>5 jéopardy!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6:25Z</dcterms:modified>
  <cp:revision>59</cp:revision>
  <dc:subject/>
  <dc:title>Bild 1</dc:title>
</cp:coreProperties>
</file>