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62C5-A981-450F-9F54-061FD697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8C9E-DB43-4740-B4A4-6A2CB96F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4EC1-7F6A-47FA-B2F1-F62D0D23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D812-BC61-4325-A6BF-DC335A08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D24A-07E0-4AB3-9D22-A3096516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9746-F705-4CC9-8EEC-50B3C417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50DD-493C-463E-9370-A61A31A4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073D-EEA1-4096-B23D-E2B6792F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21A6-F980-4D82-BD5F-48B8CABF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3B4F-2DFA-498E-8C42-AEA8788C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FF51-CA85-4996-9469-B65ED98A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9D76-C0E2-45C2-A309-39C7B2A4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6803-D722-44A8-B226-474915DC0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476280"/>
            <a:ext cx="85359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200" spc="-1" strike="noStrike">
                <a:solidFill>
                  <a:srgbClr val="ffffff"/>
                </a:solidFill>
                <a:latin typeface="Arial"/>
              </a:rPr>
              <a:t>Böj verbet faire i presens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47:50Z</dcterms:modified>
  <cp:revision>50</cp:revision>
  <dc:subject/>
  <dc:title>Bild 1</dc:title>
</cp:coreProperties>
</file>