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3D5-10FA-4F1F-9E13-E73A73F8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92D-69B9-4916-B5AA-93616EDA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F02-1064-476A-B637-09D91056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8C9-19D7-489B-918E-BE5DF0F7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ED5-9F7A-47E3-B280-5DB0203E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3B7-C5BC-4DD3-A73E-6B0B35A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DAA-9FDB-49D5-95D6-CEC02D1A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E5C-0110-44FC-B1D9-2D89F58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E1F-C557-4144-9D51-AE52D43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EF9-0291-445D-8DA9-E9D87DE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4E6-48A0-4E9E-82E4-DAF2BFD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1F0-3C22-484B-8D99-CD67042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40F-3133-4DCE-8D98-733887E3F5D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kala%20inst&#228;llningar/Temp/Tempor&#228;r%20katalog%202%20f&#246;r%20j&#233;opardy.zip/j&#233;opardy/chiff1.ppt" TargetMode="External"/><Relationship Id="rId3" Type="http://schemas.openxmlformats.org/officeDocument/2006/relationships/hyperlink" Target="file:///../../Lokala%20inst&#228;llningar/Temp/Tempor&#228;r%20katalog%202%20f&#246;r%20j&#233;opardy.zip/j&#233;opardy/quest1.ppt" TargetMode="External"/><Relationship Id="rId4" Type="http://schemas.openxmlformats.org/officeDocument/2006/relationships/hyperlink" Target="file:///../../Lokala%20inst&#228;llningar/Temp/Tempor&#228;r%20katalog%202%20f&#246;r%20j&#233;opardy.zip/j&#233;opardy/chiff1.ppt" TargetMode="External"/><Relationship Id="rId5" Type="http://schemas.openxmlformats.org/officeDocument/2006/relationships/hyperlink" Target="file:///../../Lokala%20inst&#228;llningar/Temp/Tempor&#228;r%20katalog%202%20f&#246;r%20j&#233;opardy.zip/j&#233;opardy/chiff1.ppt" TargetMode="External"/><Relationship Id="rId6" Type="http://schemas.openxmlformats.org/officeDocument/2006/relationships/hyperlink" Target="file:///../../Lokala%20inst&#228;llningar/Temp/Tempor&#228;r%20katalog%202%20f&#246;r%20j&#233;opardy.zip/j&#233;opardy/chiff1.ppt" TargetMode="External"/><Relationship Id="rId7" Type="http://schemas.openxmlformats.org/officeDocument/2006/relationships/hyperlink" Target="file:///../../Lokala%20inst&#228;llningar/Temp/Tempor&#228;r%20katalog%202%20f&#246;r%20j&#233;opardy.zip/j&#233;opardy/chiff1.ppt" TargetMode="External"/><Relationship Id="rId8" Type="http://schemas.openxmlformats.org/officeDocument/2006/relationships/hyperlink" Target="file:///../../Lokala%20inst&#228;llningar/Temp/Tempor&#228;r%20katalog%202%20f&#246;r%20j&#233;opardy.zip/j&#233;opardy/chiff1.ppt" TargetMode="External"/><Relationship Id="rId9" Type="http://schemas.openxmlformats.org/officeDocument/2006/relationships/hyperlink" Target="file:///../../Lokala%20inst&#228;llningar/Temp/Tempor&#228;r%20katalog%202%20f&#246;r%20j&#233;opardy.zip/j&#233;opardy/quest1.ppt" TargetMode="External"/><Relationship Id="rId10" Type="http://schemas.openxmlformats.org/officeDocument/2006/relationships/hyperlink" Target="file:///../../Lokala%20inst&#228;llningar/Temp/Tempor&#228;r%20katalog%202%20f&#246;r%20j&#233;opardy.zip/j&#233;opardy/chiff1.ppt" TargetMode="External"/><Relationship Id="rId11" Type="http://schemas.openxmlformats.org/officeDocument/2006/relationships/hyperlink" Target="file:///../../Lokala%20inst&#228;llningar/Temp/Tempor&#228;r%20katalog%202%20f&#246;r%20j&#233;opardy.zip/j&#233;opardy/quest1.ppt" TargetMode="External"/><Relationship Id="rId12" Type="http://schemas.openxmlformats.org/officeDocument/2006/relationships/hyperlink" Target="file:///../../Lokala%20inst&#228;llningar/Temp/Tempor&#228;r%20katalog%202%20f&#246;r%20j&#233;opardy.zip/j&#233;opardy/chiff1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../../Lokala%20inst&#228;llningar/Temp/Tempor&#228;r%20katalog%202%20f&#246;r%20j&#233;opardy.zip/j&#233;opardy/chiff1.ppt" TargetMode="External"/><Relationship Id="rId15" Type="http://schemas.openxmlformats.org/officeDocument/2006/relationships/hyperlink" Target="file:///../../Lokala%20inst&#228;llningar/Temp/Tempor&#228;r%20katalog%202%20f&#246;r%20j&#233;opardy.zip/j&#233;opardy/chiff1.ppt" TargetMode="External"/><Relationship Id="rId16" Type="http://schemas.openxmlformats.org/officeDocument/2006/relationships/hyperlink" Target="file:///../../Lokala%20inst&#228;llningar/Temp/Tempor&#228;r%20katalog%202%20f&#246;r%20j&#233;opardy.zip/j&#233;opardy/chiff1.ppt" TargetMode="External"/><Relationship Id="rId17" Type="http://schemas.openxmlformats.org/officeDocument/2006/relationships/hyperlink" Target="file:///../../Lokala%20inst&#228;llningar/Temp/Tempor&#228;r%20katalog%202%20f&#246;r%20j&#233;opardy.zip/j&#233;opardy/quest1.ppt" TargetMode="External"/><Relationship Id="rId18" Type="http://schemas.openxmlformats.org/officeDocument/2006/relationships/hyperlink" Target="file:///../../Lokala%20inst&#228;llningar/Temp/Tempor&#228;r%20katalog%202%20f&#246;r%20j&#233;opardy.zip/j&#233;opardy/chiff1.ppt" TargetMode="External"/><Relationship Id="rId19" Type="http://schemas.openxmlformats.org/officeDocument/2006/relationships/hyperlink" Target="file:///../../Lokala%20inst&#228;llningar/Temp/Tempor&#228;r%20katalog%202%20f&#246;r%20j&#233;opardy.zip/j&#233;opardy/quest1.ppt" TargetMode="External"/><Relationship Id="rId20" Type="http://schemas.openxmlformats.org/officeDocument/2006/relationships/hyperlink" Target="file:///../../Lokala%20inst&#228;llningar/Temp/Tempor&#228;r%20katalog%202%20f&#246;r%20j&#233;opardy.zip/j&#233;opardy/chiff1.ppt" TargetMode="External"/><Relationship Id="rId21" Type="http://schemas.openxmlformats.org/officeDocument/2006/relationships/hyperlink" Target="file:///../../Lokala%20inst&#228;llningar/Temp/Tempor&#228;r%20katalog%202%20f&#246;r%20j&#233;opardy.zip/j&#233;opardy/chiff1.ppt" TargetMode="External"/><Relationship Id="rId22" Type="http://schemas.openxmlformats.org/officeDocument/2006/relationships/hyperlink" Target="file:///../../Lokala%20inst&#228;llningar/Temp/Tempor&#228;r%20katalog%202%20f&#246;r%20j&#233;opardy.zip/j&#233;opardy/chiff1.ppt" TargetMode="External"/><Relationship Id="rId23" Type="http://schemas.openxmlformats.org/officeDocument/2006/relationships/hyperlink" Target="file:///../../Lokala%20inst&#228;llningar/Temp/Tempor&#228;r%20katalog%202%20f&#246;r%20j&#233;opardy.zip/j&#233;opardy/chiff1.ppt" TargetMode="External"/><Relationship Id="rId24" Type="http://schemas.openxmlformats.org/officeDocument/2006/relationships/hyperlink" Target="file:///../../Lokala%20inst&#228;llningar/Temp/Tempor&#228;r%20katalog%202%20f&#246;r%20j&#233;opardy.zip/j&#233;opardy/chiff1.ppt" TargetMode="External"/><Relationship Id="rId25" Type="http://schemas.openxmlformats.org/officeDocument/2006/relationships/hyperlink" Target="file:///../../Lokala%20inst&#228;llningar/Temp/Tempor&#228;r%20katalog%202%20f&#246;r%20j&#233;opardy.zip/j&#233;opardy/quest1.ppt" TargetMode="External"/><Relationship Id="rId26" Type="http://schemas.openxmlformats.org/officeDocument/2006/relationships/hyperlink" Target="file:///../../Lokala%20inst&#228;llningar/Temp/Tempor&#228;r%20katalog%202%20f&#246;r%20j&#233;opardy.zip/j&#233;opardy/chiff1.ppt" TargetMode="External"/><Relationship Id="rId27" Type="http://schemas.openxmlformats.org/officeDocument/2006/relationships/hyperlink" Target="file:///../../Lokala%20inst&#228;llningar/Temp/Tempor&#228;r%20katalog%202%20f&#246;r%20j&#233;opardy.zip/j&#233;opardy/quest1.ppt" TargetMode="External"/><Relationship Id="rId28" Type="http://schemas.openxmlformats.org/officeDocument/2006/relationships/hyperlink" Target="file:///../../Lokala%20inst&#228;llningar/Temp/Tempor&#228;r%20katalog%202%20f&#246;r%20j&#233;opardy.zip/j&#233;opardy/chiff1.ppt" TargetMode="External"/><Relationship Id="rId29" Type="http://schemas.openxmlformats.org/officeDocument/2006/relationships/hyperlink" Target="file:///../../Lokala%20inst&#228;llningar/Temp/Tempor&#228;r%20katalog%202%20f&#246;r%20j&#233;opardy.zip/j&#233;opardy/chiff1.ppt" TargetMode="External"/><Relationship Id="rId30" Type="http://schemas.openxmlformats.org/officeDocument/2006/relationships/hyperlink" Target="file:///../../Lokala%20inst&#228;llningar/Temp/Tempor&#228;r%20katalog%202%20f&#246;r%20j&#233;opardy.zip/j&#233;opardy/chiff1.ppt" TargetMode="External"/><Relationship Id="rId31" Type="http://schemas.openxmlformats.org/officeDocument/2006/relationships/hyperlink" Target="file:///../../Lokala%20inst&#228;llningar/Temp/Tempor&#228;r%20katalog%202%20f&#246;r%20j&#233;opardy.zip/j&#233;opardy/chiff1.ppt" TargetMode="External"/><Relationship Id="rId32" Type="http://schemas.openxmlformats.org/officeDocument/2006/relationships/hyperlink" Target="file:///../../Lokala%20inst&#228;llningar/Temp/Tempor&#228;r%20katalog%202%20f&#246;r%20j&#233;opardy.zip/j&#233;opardy/chiff1.ppt" TargetMode="External"/><Relationship Id="rId33" Type="http://schemas.openxmlformats.org/officeDocument/2006/relationships/hyperlink" Target="file:///../../Lokala%20inst&#228;llningar/Temp/Tempor&#228;r%20katalog%202%20f&#246;r%20j&#233;opardy.zip/j&#233;opardy/quest1.ppt" TargetMode="External"/><Relationship Id="rId34" Type="http://schemas.openxmlformats.org/officeDocument/2006/relationships/hyperlink" Target="file:///../../Lokala%20inst&#228;llningar/Temp/Tempor&#228;r%20katalog%202%20f&#246;r%20j&#233;opardy.zip/j&#233;opardy/chiff1.ppt" TargetMode="External"/><Relationship Id="rId35" Type="http://schemas.openxmlformats.org/officeDocument/2006/relationships/hyperlink" Target="file:///../../Lokala%20inst&#228;llningar/Temp/Tempor&#228;r%20katalog%202%20f&#246;r%20j&#233;opardy.zip/j&#233;opardy/quest1.ppt" TargetMode="External"/><Relationship Id="rId36" Type="http://schemas.openxmlformats.org/officeDocument/2006/relationships/hyperlink" Target="file:///../../Lokala%20inst&#228;llningar/Temp/Tempor&#228;r%20katalog%202%20f&#246;r%20j&#233;opardy.zip/j&#233;opardy/chiff1.ppt" TargetMode="External"/><Relationship Id="rId37" Type="http://schemas.openxmlformats.org/officeDocument/2006/relationships/hyperlink" Target="file:///../../Lokala%20inst&#228;llningar/Temp/Tempor&#228;r%20katalog%202%20f&#246;r%20j&#233;opardy.zip/j&#233;opardy/chiff1.ppt" TargetMode="External"/><Relationship Id="rId38" Type="http://schemas.openxmlformats.org/officeDocument/2006/relationships/hyperlink" Target="file:///../../Lokala%20inst&#228;llningar/Temp/Tempor&#228;r%20katalog%202%20f&#246;r%20j&#233;opardy.zip/j&#233;opardy/chiff1.ppt" TargetMode="External"/><Relationship Id="rId39" Type="http://schemas.openxmlformats.org/officeDocument/2006/relationships/hyperlink" Target="file:///../../Lokala%20inst&#228;llningar/Temp/Tempor&#228;r%20katalog%202%20f&#246;r%20j&#233;opardy.zip/j&#233;opardy/chiff1.ppt" TargetMode="External"/><Relationship Id="rId40" Type="http://schemas.openxmlformats.org/officeDocument/2006/relationships/hyperlink" Target="file:///../../Lokala%20inst&#228;llningar/Temp/Tempor&#228;r%20katalog%202%20f&#246;r%20j&#233;opardy.zip/j&#233;opardy/chiff1.ppt" TargetMode="External"/><Relationship Id="rId41" Type="http://schemas.openxmlformats.org/officeDocument/2006/relationships/hyperlink" Target="file:///../../Lokala%20inst&#228;llningar/Temp/Tempor&#228;r%20katalog%202%20f&#246;r%20j&#233;opardy.zip/j&#233;opardy/quest1.ppt" TargetMode="External"/><Relationship Id="rId42" Type="http://schemas.openxmlformats.org/officeDocument/2006/relationships/hyperlink" Target="file:///../../Lokala%20inst&#228;llningar/Temp/Tempor&#228;r%20katalog%202%20f&#246;r%20j&#233;opardy.zip/j&#233;opardy/chiff1.ppt" TargetMode="External"/><Relationship Id="rId43" Type="http://schemas.openxmlformats.org/officeDocument/2006/relationships/hyperlink" Target="file:///../../Lokala%20inst&#228;llningar/Temp/Tempor&#228;r%20katalog%202%20f&#246;r%20j&#233;opardy.zip/j&#233;opardy/quest1.ppt" TargetMode="External"/><Relationship Id="rId44" Type="http://schemas.openxmlformats.org/officeDocument/2006/relationships/hyperlink" Target="file:///../../Lokala%20inst&#228;llningar/Temp/Tempor&#228;r%20katalog%202%20f&#246;r%20j&#233;opardy.zip/j&#233;opardy/chiff1.ppt" TargetMode="External"/><Relationship Id="rId45" Type="http://schemas.openxmlformats.org/officeDocument/2006/relationships/hyperlink" Target="file:///../../Lokala%20inst&#228;llningar/Temp/Tempor&#228;r%20katalog%202%20f&#246;r%20j&#233;opardy.zip/j&#233;opardy/chiff1.ppt" TargetMode="External"/><Relationship Id="rId46" Type="http://schemas.openxmlformats.org/officeDocument/2006/relationships/hyperlink" Target="file:///../../Lokala%20inst&#228;llningar/Temp/Tempor&#228;r%20katalog%202%20f&#246;r%20j&#233;opardy.zip/j&#233;opardy/chiff1.ppt" TargetMode="External"/><Relationship Id="rId47" Type="http://schemas.openxmlformats.org/officeDocument/2006/relationships/hyperlink" Target="file:///../../Lokala%20inst&#228;llningar/Temp/Tempor&#228;r%20katalog%202%20f&#246;r%20j&#233;opardy.zip/j&#233;opardy/chiff1.ppt" TargetMode="External"/><Relationship Id="rId48" Type="http://schemas.openxmlformats.org/officeDocument/2006/relationships/hyperlink" Target="file:///../../Lokala%20inst&#228;llningar/Temp/Tempor&#228;r%20katalog%202%20f&#246;r%20j&#233;opardy.zip/j&#233;opardy/chiff1.ppt" TargetMode="External"/><Relationship Id="rId49" Type="http://schemas.openxmlformats.org/officeDocument/2006/relationships/hyperlink" Target="file:///../../Lokala%20inst&#228;llningar/Temp/Tempor&#228;r%20katalog%202%20f&#246;r%20j&#233;opardy.zip/j&#233;opardy/quest1.ppt" TargetMode="External"/><Relationship Id="rId50" Type="http://schemas.openxmlformats.org/officeDocument/2006/relationships/hyperlink" Target="file:///../../Lokala%20inst&#228;llningar/Temp/Tempor&#228;r%20katalog%202%20f&#246;r%20j&#233;opardy.zip/j&#233;opardy/chiff1.ppt" TargetMode="External"/><Relationship Id="rId51" Type="http://schemas.openxmlformats.org/officeDocument/2006/relationships/hyperlink" Target="file:///../../Lokala%20inst&#228;llningar/Temp/Tempor&#228;r%20katalog%202%20f&#246;r%20j&#233;opardy.zip/j&#233;opardy/quest1.ppt" TargetMode="External"/><Relationship Id="rId52" Type="http://schemas.openxmlformats.org/officeDocument/2006/relationships/hyperlink" Target="file:///../../Lokala%20inst&#228;llningar/Temp/Tempor&#228;r%20katalog%202%20f&#246;r%20j&#233;opardy.zip/j&#233;opardy/chiff1.ppt" TargetMode="External"/><Relationship Id="rId53" Type="http://schemas.openxmlformats.org/officeDocument/2006/relationships/hyperlink" Target="file:///../../Lokala%20inst&#228;llningar/Temp/Tempor&#228;r%20katalog%202%20f&#246;r%20j&#233;opardy.zip/j&#233;opardy/chiff1.ppt" TargetMode="External"/><Relationship Id="rId54" Type="http://schemas.openxmlformats.org/officeDocument/2006/relationships/hyperlink" Target="file:///../../Lokala%20inst&#228;llningar/Temp/Tempor&#228;r%20katalog%202%20f&#246;r%20j&#233;opardy.zip/j&#233;opardy/chiff1.ppt" TargetMode="External"/><Relationship Id="rId55" Type="http://schemas.openxmlformats.org/officeDocument/2006/relationships/hyperlink" Target="file:///../../Lokala%20inst&#228;llningar/Temp/Tempor&#228;r%20katalog%202%20f&#246;r%20j&#233;opardy.zip/j&#233;opardy/chiff1.ppt" TargetMode="External"/><Relationship Id="rId56" Type="http://schemas.openxmlformats.org/officeDocument/2006/relationships/hyperlink" Target="file:///../../Lokala%20inst&#228;llningar/Temp/Tempor&#228;r%20katalog%202%20f&#246;r%20j&#233;opardy.zip/j&#233;opardy/chiff1.ppt" TargetMode="External"/><Relationship Id="rId57" Type="http://schemas.openxmlformats.org/officeDocument/2006/relationships/hyperlink" Target="file:///../../Lokala%20inst&#228;llningar/Temp/Tempor&#228;r%20katalog%202%20f&#246;r%20j&#233;opardy.zip/j&#233;opardy/quest1.ppt" TargetMode="External"/><Relationship Id="rId58" Type="http://schemas.openxmlformats.org/officeDocument/2006/relationships/hyperlink" Target="file:///../../Lokala%20inst&#228;llningar/Temp/Tempor&#228;r%20katalog%202%20f&#246;r%20j&#233;opardy.zip/j&#233;opardy/chiff1.ppt" TargetMode="External"/><Relationship Id="rId59" Type="http://schemas.openxmlformats.org/officeDocument/2006/relationships/hyperlink" Target="file:///../../Lokala%20inst&#228;llningar/Temp/Tempor&#228;r%20katalog%202%20f&#246;r%20j&#233;opardy.zip/j&#233;opardy/quest1.ppt" TargetMode="External"/><Relationship Id="rId60" Type="http://schemas.openxmlformats.org/officeDocument/2006/relationships/hyperlink" Target="file:///../../Lokala%20inst&#228;llningar/Temp/Tempor&#228;r%20katalog%202%20f&#246;r%20j&#233;opardy.zip/j&#233;opardy/chiff1.ppt" TargetMode="External"/><Relationship Id="rId61" Type="http://schemas.openxmlformats.org/officeDocument/2006/relationships/hyperlink" Target="file:///../../Lokala%20inst&#228;llningar/Temp/Tempor&#228;r%20katalog%202%20f&#246;r%20j&#233;opardy.zip/j&#233;opardy/chiff1.ppt" TargetMode="External"/><Relationship Id="rId62" Type="http://schemas.openxmlformats.org/officeDocument/2006/relationships/hyperlink" Target="file:///../../Lokala%20inst&#228;llningar/Temp/Tempor&#228;r%20katalog%202%20f&#246;r%20j&#233;opardy.zip/j&#233;opardy/chiff1.ppt" TargetMode="External"/><Relationship Id="rId63" Type="http://schemas.openxmlformats.org/officeDocument/2006/relationships/hyperlink" Target="file:///../../Lokala%20inst&#228;llningar/Temp/Tempor&#228;r%20katalog%202%20f&#246;r%20j&#233;opardy.zip/j&#233;opardy/chiff1.ppt" TargetMode="External"/><Relationship Id="rId64" Type="http://schemas.openxmlformats.org/officeDocument/2006/relationships/hyperlink" Target="file:///../../Lokala%20inst&#228;llningar/Temp/Tempor&#228;r%20katalog%202%20f&#246;r%20j&#233;opardy.zip/j&#233;opardy/chiff1.ppt" TargetMode="External"/><Relationship Id="rId65" Type="http://schemas.openxmlformats.org/officeDocument/2006/relationships/hyperlink" Target="file:///../../Lokala%20inst&#228;llningar/Temp/Tempor&#228;r%20katalog%202%20f&#246;r%20j&#233;opardy.zip/j&#233;opardy/quest1.ppt" TargetMode="External"/><Relationship Id="rId66" Type="http://schemas.openxmlformats.org/officeDocument/2006/relationships/hyperlink" Target="file:///../../Lokala%20inst&#228;llningar/Temp/Tempor&#228;r%20katalog%202%20f&#246;r%20j&#233;opardy.zip/j&#233;opardy/chiff1.ppt" TargetMode="External"/><Relationship Id="rId67" Type="http://schemas.openxmlformats.org/officeDocument/2006/relationships/hyperlink" Target="file:///../../Lokala%20inst&#228;llningar/Temp/Tempor&#228;r%20katalog%202%20f&#246;r%20j&#233;opardy.zip/j&#233;opardy/quest1.ppt" TargetMode="External"/><Relationship Id="rId68" Type="http://schemas.openxmlformats.org/officeDocument/2006/relationships/hyperlink" Target="file:///../../Lokala%20inst&#228;llningar/Temp/Tempor&#228;r%20katalog%202%20f&#246;r%20j&#233;opardy.zip/j&#233;opardy/chiff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../../Lokala%20inst&#228;llningar/Temp/Tempor&#228;r%20katalog%202%20f&#246;r%20j&#233;opardy.zip/j&#233;opardy/chiff1.ppt" TargetMode="External"/><Relationship Id="rId71" Type="http://schemas.openxmlformats.org/officeDocument/2006/relationships/hyperlink" Target="file:///../../Lokala%20inst&#228;llningar/Temp/Tempor&#228;r%20katalog%202%20f&#246;r%20j&#233;opardy.zip/j&#233;opardy/chiff1.ppt" TargetMode="External"/><Relationship Id="rId72" Type="http://schemas.openxmlformats.org/officeDocument/2006/relationships/hyperlink" Target="file:///../../Lokala%20inst&#228;llningar/Temp/Tempor&#228;r%20katalog%202%20f&#246;r%20j&#233;opardy.zip/j&#233;opardy/chiff1.ppt" TargetMode="External"/><Relationship Id="rId73" Type="http://schemas.openxmlformats.org/officeDocument/2006/relationships/hyperlink" Target="file:///../../Lokala%20inst&#228;llningar/Temp/Tempor&#228;r%20katalog%202%20f&#246;r%20j&#233;opardy.zip/j&#233;opardy/quest1.ppt" TargetMode="External"/><Relationship Id="rId74" Type="http://schemas.openxmlformats.org/officeDocument/2006/relationships/hyperlink" Target="file:///../../Lokala%20inst&#228;llningar/Temp/Tempor&#228;r%20katalog%202%20f&#246;r%20j&#233;opardy.zip/j&#233;opardy/chiff1.ppt" TargetMode="External"/><Relationship Id="rId75" Type="http://schemas.openxmlformats.org/officeDocument/2006/relationships/hyperlink" Target="file:///../../Lokala%20inst&#228;llningar/Temp/Tempor&#228;r%20katalog%202%20f&#246;r%20j&#233;opardy.zip/j&#233;opardy/chiff1.ppt" TargetMode="External"/><Relationship Id="rId76" Type="http://schemas.openxmlformats.org/officeDocument/2006/relationships/hyperlink" Target="file:///../../Lokala%20inst&#228;llningar/Temp/Tempor&#228;r%20katalog%202%20f&#246;r%20j&#233;opardy.zip/j&#233;opardy/chiff1.ppt" TargetMode="External"/><Relationship Id="rId77" Type="http://schemas.openxmlformats.org/officeDocument/2006/relationships/hyperlink" Target="file:///../../Lokala%20inst&#228;llningar/Temp/Tempor&#228;r%20katalog%202%20f&#246;r%20j&#233;opardy.zip/j&#233;opardy/chiff1.ppt" TargetMode="External"/><Relationship Id="rId78" Type="http://schemas.openxmlformats.org/officeDocument/2006/relationships/hyperlink" Target="file:///../../Lokala%20inst&#228;llningar/Temp/Tempor&#228;r%20katalog%202%20f&#246;r%20j&#233;opardy.zip/j&#233;opardy/chiff1.ppt" TargetMode="External"/><Relationship Id="rId79" Type="http://schemas.openxmlformats.org/officeDocument/2006/relationships/hyperlink" Target="file:///../../Lokala%20inst&#228;llningar/Temp/Tempor&#228;r%20katalog%202%20f&#246;r%20j&#233;opardy.zip/j&#233;opardy/quest1.ppt" TargetMode="External"/><Relationship Id="rId8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5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6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9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0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1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2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3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4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5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6"/>
          </p:cNvPr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7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8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9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0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1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2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3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4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5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6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7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8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9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0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1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2"/>
          </p:cNvPr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3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4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5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6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7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8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9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0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51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52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53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4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5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6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7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8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9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0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1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62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3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64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5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6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7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8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9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70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71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72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73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4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5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6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7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8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9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7:32:19Z</dcterms:modified>
  <cp:revision>15</cp:revision>
  <dc:subject/>
  <dc:title>Bild 1</dc:title>
</cp:coreProperties>
</file>