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89F-E3AC-4727-B8E7-3422E227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1A0-0CAF-4E84-9013-3112A09E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178-56AC-4803-A931-A6BC8C3C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8FF-3DFB-425E-A223-2E949B7C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E0B-DA3F-4278-9CBF-95110A30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FC8-65B3-4840-80C3-66D9AFCF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0A7-DDD8-4721-A711-514120F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9A3-BBFA-403B-8410-0246B93C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34F-7F88-4D98-BAFC-3723F020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9B3-E3E4-4316-8E6C-719CF8C1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E81-3793-4238-89BD-76266864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1A0-7206-4D1C-AE90-DD96239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870F-7E4C-4858-8ACF-E26FE650E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</a:rPr>
              <a:t>10 klädesplag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5:43Z</dcterms:modified>
  <cp:revision>67</cp:revision>
  <dc:subject/>
  <dc:title>Bild 1</dc:title>
</cp:coreProperties>
</file>