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9F19-5247-442B-8B62-19AE7D422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3B66-B047-4167-96BD-6E22D2E8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97EB-EA48-49D4-B6C0-068BAF2DF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22EC-6C56-4C13-8AFC-719CC3406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2929-D0A2-4463-8D93-1E48B670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EA97-B847-45E6-B8C9-976D9C63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F8EA-C0DC-4B0C-BCFB-ED260AF4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607C-FC93-4448-A5B8-230EC035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E30E-2423-4AC8-A11B-DB960D31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2CB2-D39A-4D10-859D-9C83E7DA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DB46-40D2-4596-8EA8-4DF4350E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BBE3-AEEB-4CEA-A256-3B2BFA06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0FD9-3BE9-44D9-9D96-3084A4432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404640"/>
            <a:ext cx="8535960" cy="61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300" spc="-1" strike="noStrike">
                <a:solidFill>
                  <a:srgbClr val="ffffff"/>
                </a:solidFill>
                <a:latin typeface="Arial"/>
              </a:rPr>
              <a:t>Fråga när någon är född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21:54Z</dcterms:modified>
  <cp:revision>55</cp:revision>
  <dc:subject/>
  <dc:title>Bild 1</dc:title>
</cp:coreProperties>
</file>