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C6F-89D8-4BA6-892E-CCE76605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AC4-1B18-4067-9D7B-0D132799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C9D-403A-4404-97B2-B0BC8ADF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57C-846F-4306-8F4A-DABF8694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B8B-7C3E-4F6E-B08C-17DA7A1E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BDD-8861-4C2F-BC23-D6670EA1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B6B-08A1-42DC-9FC0-80B43D7D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1A0-4178-423D-97FD-CD632F7F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FC6-0D1B-4959-92D3-BB91A06D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C55-9F34-40CC-B6FA-A7B32122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4F6-56FA-4DD7-A385-3B244451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3D4-9362-4C24-B0D1-93EE7B21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23EE-3535-4836-91CF-2BBC6FA98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4640"/>
            <a:ext cx="8535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Efter, före, idag, i morgon, i går, på fredag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4:28Z</dcterms:modified>
  <cp:revision>48</cp:revision>
  <dc:subject/>
  <dc:title>Bild 1</dc:title>
</cp:coreProperties>
</file>