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F9B-031D-48EB-A97A-3C5644D7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73E-87EA-4015-88DC-040DB616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592-9B89-4E1D-8418-1CE0AE1F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F59-79E0-4ACF-9C2D-B018C56E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5A8-426B-4FA7-B581-C9BFE275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BC7-9980-4312-A986-EAF34653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13A-FC60-4A88-9638-D49E4B4F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D86-72E9-4AE8-AE82-63CD4C75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D76-0122-426F-A3D7-117A5050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49F-88CF-4441-89C8-336C076A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89D-C7E0-4A72-A015-6BA53064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EC4-9DA8-4C8E-AA75-83623703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1176-3CCA-4F7E-9B82-92270CCE7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052640"/>
            <a:ext cx="8535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10 färger på franska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8:09Z</dcterms:modified>
  <cp:revision>63</cp:revision>
  <dc:subject/>
  <dc:title>Bild 1</dc:title>
</cp:coreProperties>
</file>