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6D8-6E43-44D6-8FD9-D33BA361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F911-5B7D-45FD-9C38-F6691E65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DA8F-A322-4893-B44D-AB0F04C8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EFE9-2DE6-4E25-9748-61CC668D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F14B-EB56-4564-A386-C087C209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3967-6FC2-4715-A6D0-2102F2FA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F0C8-95BA-4587-A7EF-E028AE1B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53D0-C21F-4F96-8E0C-907C1B82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2CDD-8733-4148-AC94-21365D95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2D88-1F5D-4E55-83FB-902AF90C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A4B-77A2-4B63-87DA-2D051DEF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3507-D920-48BA-B569-B4FAB22A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040F-536B-4E50-9F58-7F14CF4C5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333360"/>
            <a:ext cx="8535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Räkna upp 5 meningar där ni säger vad ni INTE är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5:11Z</dcterms:modified>
  <cp:revision>77</cp:revision>
  <dc:subject/>
  <dc:title>Bild 1</dc:title>
</cp:coreProperties>
</file>