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556-3232-4392-A6A2-E2216FEB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844-9CBB-460A-B5F7-BAB1E7F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1E3-C747-4E14-A690-D1749598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83A-D6D4-410E-B457-CB0B61EE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9C5-8AF4-4345-BBF3-F6A2EB71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0EF-A5F8-4894-83C3-4B05750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51F-8E23-424F-B647-F20C080C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553-4360-413A-B513-D36AD1C0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91F-70AA-471C-B3B8-FA76EC5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E69-E2A2-4E8C-96A6-06E5C51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F0C-B6AB-4334-A5E6-D2C0461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C54-FEAB-407A-96DA-81EB389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8E74-A2F9-4BA7-9938-929F88D3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8569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3399"/>
                </a:solidFill>
                <a:latin typeface="Arial"/>
              </a:rPr>
              <a:t>Tala om hur lång ni är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9:55Z</dcterms:modified>
  <cp:revision>35</cp:revision>
  <dc:subject/>
  <dc:title>Bild 1</dc:title>
</cp:coreProperties>
</file>