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4898-64BA-42E3-B0F2-D512D2CD3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C17F-8A0D-41E2-BF28-A8D6EDE8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F89A-DFD9-40F9-8D51-CADAE9B41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04C3-7F23-4894-BAC2-1763D066D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1218-4002-45B3-830F-78590003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7487-A6AC-4688-89F9-410B1422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A55C-0F17-433B-B9F9-978D8CBE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89BE-9E2B-4BBA-BA68-967C9BE2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B73D-3125-4A70-84F1-19A97714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7C3F-AF62-4CF2-B389-DED7EB53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5B38-374E-4DFE-AB04-74C9D319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7EC4-853B-4C81-B146-23FE723E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D55B-F2B5-4508-9D8D-5A4913518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052640"/>
            <a:ext cx="86421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333399"/>
                </a:solidFill>
                <a:latin typeface="Arial"/>
              </a:rPr>
              <a:t>Räkna upp månaderna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56:55Z</dcterms:modified>
  <cp:revision>31</cp:revision>
  <dc:subject/>
  <dc:title>Bild 1</dc:title>
</cp:coreProperties>
</file>