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575-75D0-4363-9FA7-57CD8139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A85-0CD2-42FC-A53D-42488485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AAF-C641-4B46-B8C4-663A2CF8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8B4-EC97-4EFA-983C-1B34895F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A19-B893-4618-AADA-1C5FA3B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58F-E060-4FF7-A2DF-BB9394D3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727-3B81-4EE9-AA9D-3754B2ED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652-101F-4F51-A290-9683A769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929-8743-447B-B15D-E6ADF47E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DC4-501F-4A73-94A3-0D5B538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C6D-8CD8-41C0-957D-C0DC10A6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610-C065-4F18-81AE-AB8F54EA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986F-913A-4AD0-A1F9-3EB5C4F93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41300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4 helgdagar i Frankrike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8:55Z</dcterms:modified>
  <cp:revision>62</cp:revision>
  <dc:subject/>
  <dc:title>Bild 1</dc:title>
</cp:coreProperties>
</file>