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AA1-53DD-47B8-8B3E-6D6F0046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C0B-837A-42FA-89F8-B1203DCE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FDA-6E6C-405F-87A7-1C125800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662-B2B7-4578-BE50-78A90D93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9FA-5A4B-4490-A546-1106F0E3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F7C-6532-406B-85C6-30DAC231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5C8-A3EC-45CE-8D02-ABE85DE4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FF8-3949-4256-9D0C-5A88F3B2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BCA-0BBA-4090-91C4-C385A390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94F-0894-42BA-BCEE-81A8C486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347-90C1-4F47-9046-C1137B4D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A5A-5597-439C-B2F2-DA4DADAD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C756-D89D-44D5-B551-A1C9D6F5C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4320"/>
            <a:ext cx="839160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Säg något ni har gjort idag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6:08Z</dcterms:modified>
  <cp:revision>41</cp:revision>
  <dc:subject/>
  <dc:title>Bild 1</dc:title>
</cp:coreProperties>
</file>