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3DB-6400-4F9C-BE71-C2CE5C28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AB5-67E4-4DD8-9E72-B49030F0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6E85-0F2C-453C-BE35-8FAC6A1F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4E5-BF94-4CB9-A825-60F1BE1C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579-7A2D-4077-8D78-FB870DE4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D20-EEC7-4AAD-A235-57EF3377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DCD-5DE1-4B58-A857-98E2A8C3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2AC-EAA4-4DF8-9235-FF125C49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FB5-40F6-4E6D-BD65-52B83A4A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80C-73AE-48BC-AFBE-56B98759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AF7D-1B4A-4E88-B661-4C70FB85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393D-A9C6-4B2C-ABD5-C7767AD1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F206-9443-4971-94FC-7084344D9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8 ord på ”h”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5:16Z</dcterms:modified>
  <cp:revision>52</cp:revision>
  <dc:subject/>
  <dc:title>Bild 1</dc:title>
</cp:coreProperties>
</file>