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9D9B-7003-498F-ABA7-814C3B4BE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8FB1-02B7-40AB-84C8-FA54E23D2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2315-E196-4AA3-904E-BF0CA9B76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5C7D-A21F-458F-8D9D-ECEC114DD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15EE-4D0A-469D-A604-58913947B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D0ED-6A44-4B51-8AA3-C36D0D6E2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B9AF-FB3A-46EA-B71D-BDA241051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03F3-CDE8-436F-A8BE-4896E9E56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814B-6391-4A35-8601-293DC40C8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35E7-C32D-4C8A-AF9F-4ACF90008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0C35-A8EF-4FAA-930D-97052A876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AD8E-000A-4979-96F0-D26C0752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B61B3-8CDE-4CBD-A9F5-9679C11AD8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1125360"/>
            <a:ext cx="864216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0" spc="-1" strike="noStrike">
                <a:solidFill>
                  <a:srgbClr val="333399"/>
                </a:solidFill>
                <a:latin typeface="Arial"/>
              </a:rPr>
              <a:t>5 franska förrätter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3:10:14Z</dcterms:modified>
  <cp:revision>19</cp:revision>
  <dc:subject/>
  <dc:title>Bild 1</dc:title>
</cp:coreProperties>
</file>