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6251-D8D7-435C-A29A-F4DE336DF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6B4B-5D48-484A-A32E-D58EAFA0C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5A0C-9706-4E2A-96C5-0B392BB70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C612-6CA3-45CE-A2DC-670AF8355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3CB7-261E-44ED-A423-5E5740577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53A1-5FE1-4E04-8905-2599FFA7F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3892-341B-4D05-BF0F-FD545A514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5734-56DD-49D3-8775-F59231583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EC49-44E7-4D2A-AEEE-BE1B5BC53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CD4C-47D7-41D5-B70E-13FE61AE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33AC-83D4-4286-AFB5-8B59E90B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36F2-9B45-4349-B423-DE6D0ECC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17290-3B34-4297-8140-167354E02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836640"/>
            <a:ext cx="853596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9900" spc="-1" strike="noStrike">
                <a:solidFill>
                  <a:srgbClr val="ffffff"/>
                </a:solidFill>
                <a:latin typeface="Arial"/>
              </a:rPr>
              <a:t>Veckodagarna på franska baklänges</a:t>
            </a: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3:28:32Z</dcterms:modified>
  <cp:revision>61</cp:revision>
  <dc:subject/>
  <dc:title>Bild 1</dc:title>
</cp:coreProperties>
</file>