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8B1-235A-458F-AA7E-E30B50A6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7A9-18B9-4DB6-AD60-31B21504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F4F-ABC2-41FC-AC23-7712C2D1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34A-D6BE-4C09-97A8-8F0C202F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944-3AC7-4011-961D-C345E1EA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970-2392-4435-958E-01A72A0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CA2-150D-47A2-BD4D-70AB8FCC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696-2B08-4A87-B90D-55DD37C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E3B-85D8-4FF1-8289-9518250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02E-BF02-4662-A587-9EDFB60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26A-D485-428E-BB62-57F5F65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07D-C237-4FC4-BBB3-6D7515A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4E9-42BF-4EB6-9869-80E9DEE4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33399"/>
                </a:solidFill>
                <a:latin typeface="Arial"/>
              </a:rPr>
              <a:t>Säg: jag städar, jag lagar mat, jag diskar, jag shoppa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9:32Z</dcterms:modified>
  <cp:revision>28</cp:revision>
  <dc:subject/>
  <dc:title>Bild 1</dc:title>
</cp:coreProperties>
</file>