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4CC-0536-4A95-A41D-1AC15327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F71-1ACD-4D15-A3A8-5A293126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3F1-703D-466B-BAF2-4A40D66D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BBF-DD2E-464C-A2D7-17C41084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B07-435E-4035-A7A2-216C386A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BEA-EA41-46CD-8C8D-4E04B737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29B-8D77-4A19-8D25-E3BEC130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B66-E41C-4603-9BC3-51E4B7F0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0DF-3B45-4940-890F-8EC12E6A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ED9-8710-4CFA-AE9A-42A1C1F2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A82-7C5F-464F-BBD9-715D615C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C35-5244-4238-9D62-97372EE2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1CFC-5E71-44BC-A20C-D2089F165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56944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Fråga och svara vad ni tycker om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2:43Z</dcterms:modified>
  <cp:revision>7</cp:revision>
  <dc:subject/>
  <dc:title>Bild 1</dc:title>
</cp:coreProperties>
</file>