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B4F-6D63-4CCD-A211-BD88B550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7BD-285D-43F4-BB49-2BD30CBA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BC7-AF31-461B-BF39-230B7E1D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EE1-7BB9-4CED-92CA-B9AEBD1F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5C1-0947-4439-B0B9-5E39A84F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078-31B4-4839-9AFE-3AFC3D7E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949-FE25-4DF5-8A5E-71BC3A19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A2E-B126-46F3-9D58-C997D58F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5BB-6462-4C2A-A0D5-5834E7F0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CA6-AA26-48C4-A44C-2B1D1CFA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E95-7010-444A-8C1C-1746C6CB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DD8-28DE-48FE-B1A4-06A47269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E8A8-B350-4EE1-9A55-717081D6D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0280"/>
            <a:ext cx="86421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333399"/>
                </a:solidFill>
                <a:latin typeface="Arial"/>
              </a:rPr>
              <a:t>Säg ramsan: min, din, hans….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7:34Z</dcterms:modified>
  <cp:revision>22</cp:revision>
  <dc:subject/>
  <dc:title>Bild 1</dc:title>
</cp:coreProperties>
</file>