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AD5-0011-4D0E-B262-10CE1DB1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E8A-C388-4198-8FDD-B37E1D99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488-D381-4171-9FAF-1DED1873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2E6-7AF8-42AF-BB0B-A996A2BE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F5D-14A7-4860-A3C9-08EC4FF2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205-3A27-41EC-B10B-FF8D965C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E40-7C5B-4ABC-AAAD-3B9FA207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B36-59E7-4564-8765-96E7BCFC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3F0-23AE-4696-9C00-A5354934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EAA-FF68-46F0-AD98-F43253FF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695-03E3-4BCF-BAE2-E0B6C900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549-4892-432A-B0E2-7B612100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3F50-E0DE-43EF-A4B2-86C3FC7C9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10 uttalsregler på fransk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8:12Z</dcterms:modified>
  <cp:revision>16</cp:revision>
  <dc:subject/>
  <dc:title>Bild 1</dc:title>
</cp:coreProperties>
</file>