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9FF-C271-4159-BBFE-A4B9D5C3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BBC-6396-4F14-AB39-BD96C7EA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E15-9FA3-4E21-AE69-2588CCE9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48C-6803-4232-8846-CD48DBB6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B87-99F3-4028-90FE-4F27DA96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068-B127-46B8-8415-B2B35CE0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ABA-4A17-4136-8004-0075982C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D36-77BA-4D20-9826-82FE9A8C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01F-2F31-4BFB-B38F-0E616DFA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6F2-2AC6-4A94-95BD-F55A12B1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FE6-5EB8-4B6B-93D9-FB1C45C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18A-BA1C-4685-980A-AF56153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7121-FD61-48C8-AC4B-E849BF58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Arial"/>
              </a:rPr>
              <a:t>Jag tror, jag vet, jag tar, jag gör, jag ser, jag kommer, jag vill, jag går ut, jag sk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6:48Z</dcterms:modified>
  <cp:revision>23</cp:revision>
  <dc:subject/>
  <dc:title>Bild 1</dc:title>
</cp:coreProperties>
</file>