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B2CE-C737-4684-8C13-0332EE848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02D3-D5D6-4800-B370-B38F6F33A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5621-8D89-4D4C-9579-3C5BA1E32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157A-8B10-4189-A743-28F9780F5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F7DA-08A2-407B-B790-ECAC304D8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1EE5-156E-4651-AF18-8D82DD14F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B54E-F36C-4AD3-8A84-462344462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98E7-1A26-4E73-A829-473882347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2515-A051-49E1-895E-85C4EEA8B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D238-2FCF-42BF-BCF3-6D970D0A9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434A-B725-4BCA-B27E-9A4FCD7BF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D16F-1FE0-4193-B332-EDBD934C0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C48D0-9CDF-426C-8985-FFD3C5153F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95280" y="404640"/>
            <a:ext cx="8424720" cy="56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200" spc="-1" strike="noStrike">
                <a:solidFill>
                  <a:srgbClr val="333399"/>
                </a:solidFill>
                <a:latin typeface="Arial"/>
              </a:rPr>
              <a:t>Böj verbet avoir i presens</a:t>
            </a:r>
            <a:endParaRPr b="0" lang="en-US" sz="1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6:29:47Z</dcterms:created>
  <dc:creator> </dc:creator>
  <dc:description/>
  <dc:language>en-US</dc:language>
  <cp:lastModifiedBy>Årjängs gymnasieskola</cp:lastModifiedBy>
  <dcterms:modified xsi:type="dcterms:W3CDTF">2009-04-24T02:45:34Z</dcterms:modified>
  <cp:revision>5</cp:revision>
  <dc:subject/>
  <dc:title>Bild 1</dc:title>
</cp:coreProperties>
</file>