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0A8-A87A-4B4D-943C-3D79B6C1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7C8-A461-4EEF-8F37-353DD22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B21-A004-45B0-AA3A-35D61A06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708-39E0-4C9A-9977-D50ED5BC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E65-E54F-4740-8BF1-BC18279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656-1F7D-4AA5-BE07-E2EDCCDE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F9B-9779-4458-B355-20B2365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B68-62A8-46AF-B393-FF60DDE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3E3-B71B-4064-8091-295CC1F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FFF-0B70-420D-97F2-8A55F30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E99-17EC-4954-8A60-9FD8A08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1F6-866E-4E50-A04E-7C55926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715-88E5-4AF8-992B-EB5EE8D8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3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0" spc="-1" strike="noStrike">
                <a:solidFill>
                  <a:srgbClr val="333399"/>
                </a:solidFill>
                <a:latin typeface="Arial"/>
              </a:rPr>
              <a:t>Beställ kött på restaurang och bestäm stekn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1:35Z</dcterms:modified>
  <cp:revision>36</cp:revision>
  <dc:subject/>
  <dc:title>Bild 1</dc:title>
</cp:coreProperties>
</file>