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EDE0-BB14-426F-A1ED-6D7B974F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41D-6358-48C9-BEFA-D9745D65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AA1D-25DD-4A84-AD86-04E8770A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5FA-6F10-4D37-B78D-CFAAD85C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BD35-7AA2-4C63-AC8C-0A4D0DFB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592-BF14-49F4-A1A0-5A6F5A41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FDD-3FAF-4105-B98C-806FDD0D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A35-82F9-4E11-A5A6-004F0025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56C-4EB9-425B-9BF0-F0A4654C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B6F-D113-4C6B-A3A9-42C702F5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913-4E9B-4A3E-8ADA-155148A6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BF9-AD8E-4D83-8A3E-230A32E2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F145-BEFE-4EAD-B009-1ABCF6016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07920"/>
            <a:ext cx="86421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333399"/>
                </a:solidFill>
                <a:latin typeface="Arial"/>
              </a:rPr>
              <a:t>10 sporter på fransk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9:11Z</dcterms:modified>
  <cp:revision>25</cp:revision>
  <dc:subject/>
  <dc:title>Bild 1</dc:title>
</cp:coreProperties>
</file>