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DE1-C074-4988-84D2-11ABA6FC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3B2-9306-486B-A7D7-2A1A1006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46F-ED39-4003-98A2-A215364E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8F5-E0DD-4891-9C63-EA0C0E11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0B5-26F9-4CA6-A92D-74A422DE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4CE-FD15-4204-B850-826D9665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67B-77A8-4769-B57E-A55CA5BE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86A-B0F7-4F9C-8E91-012BB9A3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3AE-DDE4-443C-AF14-8C492CE6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7A4-77BE-473D-8D42-2EEBCDA2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7AC-2393-43DB-A7C1-CB047AB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2DC-04C2-4E73-A7B0-2B4555E7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FA4B-FA01-4C2D-9E90-720C3680B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20640"/>
            <a:ext cx="86421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Beskriv 1 sak i rummet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6:35Z</dcterms:modified>
  <cp:revision>26</cp:revision>
  <dc:subject/>
  <dc:title>Bild 1</dc:title>
</cp:coreProperties>
</file>