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A1D-748D-464C-8E7F-6A88C2A0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A60-0804-446C-BB2F-BCF2A646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C74-949F-4FE8-A0A1-5E366203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C2E-249B-4A01-B26E-2BF09CFE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65C-8A0F-41A7-A5FA-F0E97DA8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0D4-4CB0-43D1-B03E-7265ABCB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299-7BD7-4A8D-905E-0985F478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906-6DCA-4C67-8F08-F830F80E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7AB-1E2B-498D-B4FC-18849F97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15A-FD7C-46A4-9C49-9322919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F72-676F-4CF8-9B36-C26967BF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E2B-4DA6-4FFA-AC14-8E8E4AD2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978A-4506-4EDB-AF33-5E4071E3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25360"/>
            <a:ext cx="8642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5 frågor till Stefan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9:49Z</dcterms:modified>
  <cp:revision>20</cp:revision>
  <dc:subject/>
  <dc:title>Bild 1</dc:title>
</cp:coreProperties>
</file>