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6D4-4408-413F-BDAE-BAB3063A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FD9-3A34-4E74-80EA-016D3714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1CB-1732-454F-AABA-404E0494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B03-E3E2-4EB0-8871-75E02F63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B3A-660B-44B5-B537-6DE883BF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2C5-2B93-4BC3-B9C8-5ED4C8FF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F4D-8488-47BE-8DC3-317DD2C8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A0B-6F0F-42C4-AFBA-E05FF11B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562-B9ED-4DE4-87B5-87609271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2D6-2F93-4048-9A21-26C7D02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34E-DF23-48B4-BD6D-1FD01865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F55-C705-447C-88FF-7A223846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CFE3-7758-4C98-BED2-3DFA22FDC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Ställ 3 Parisfrågor till Stefan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4:02Z</dcterms:modified>
  <cp:revision>51</cp:revision>
  <dc:subject/>
  <dc:title>Bild 1</dc:title>
</cp:coreProperties>
</file>