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80D-2353-47F5-9D06-73F4C6A2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EE3-57F7-4300-BDED-7BEACBE7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93B-B7B9-4345-A7EE-529B1063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F31-BB07-4AD6-8DA5-E81BB725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2B8-2491-46FF-966D-65E5CD29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58F-7055-4CEB-906F-F15BDCF8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4F2-1688-44D3-9D01-5B0D33B8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3C7-801C-43F8-A30D-B1C9B08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C8C-5326-46ED-88EE-C122789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280-E7BD-49CF-BE72-62303A1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FE5-7875-4F06-A37B-97B1AC7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81C-99AB-4FE9-8409-F392245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2DFF-D6AC-4BA4-8453-187B88917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3399"/>
                </a:solidFill>
                <a:latin typeface="Arial"/>
              </a:rPr>
              <a:t>3 franska bilmärken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5:30Z</dcterms:modified>
  <cp:revision>21</cp:revision>
  <dc:subject/>
  <dc:title>Bild 1</dc:title>
</cp:coreProperties>
</file>