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667-49F6-4FD9-8569-BD62B1AD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153-8C89-49AF-B1EB-50804F11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79A-7757-48FA-9E1D-7E6A2329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31A-1303-4999-AF90-812B7DAB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4AC-44E3-446E-A56D-560AB45C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01C-74B8-4E92-A4BF-2284731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A4A-3F3D-4800-9316-B9B7F9CE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9A4-BE22-41E0-93C1-857B7F2F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1E7-91C7-45A9-B95B-166986CE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6B2-A8D5-4D67-BCEF-C264AF0B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4E1-3025-4AB5-83C1-02DE3EE5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D75-0F3A-4BB5-95AD-DF5B00DA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A2D3-81D3-454B-8A37-1680B0E22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765000"/>
            <a:ext cx="83912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10 yrken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7:15Z</dcterms:modified>
  <cp:revision>37</cp:revision>
  <dc:subject/>
  <dc:title>Bild 1</dc:title>
</cp:coreProperties>
</file>