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A2FF-8978-4786-819E-EF796EF8B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AA87-4847-462C-9A19-2DACE40E6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0DE6-78BB-4065-87B8-D0B8ED467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1F71-4D44-444D-A5B5-8D7CBD2E1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BDE0-A4BE-4F0C-9C59-7F047974B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77D9-C3A1-4359-AB13-771EB892E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865A-51EB-4A06-9B36-5F8270F66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667E-6D44-4E20-A163-1D36ABC4D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1A98-2C49-4C09-B783-E13F84555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9C4E-6C77-4631-B422-7455778C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07DB-CCBE-4E33-BCC5-CED7E755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A8D1-59CC-40DD-9E5E-25241EB1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1DE4F-919E-4054-8AA1-15FF46101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549360"/>
            <a:ext cx="853596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9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1100" spc="-1" strike="noStrike">
                <a:solidFill>
                  <a:srgbClr val="ffffff"/>
                </a:solidFill>
                <a:latin typeface="Arial"/>
              </a:rPr>
              <a:t>Fråga hur gammal kompisen är</a:t>
            </a:r>
            <a:endParaRPr b="0" lang="en-US" sz="1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3:01:24Z</dcterms:modified>
  <cp:revision>66</cp:revision>
  <dc:subject/>
  <dc:title>Bild 1</dc:title>
</cp:coreProperties>
</file>