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BFE-DBBA-4033-8DBE-267C728E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028-98C8-4141-8AD4-8C9D3EC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CAA-D917-4223-A5A9-25749B6A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72D-A0E8-4084-ADA0-26F7360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E89-9735-4824-928B-04F830D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BD0-FAB3-4565-8657-D79EFEA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F01-B1AB-4773-86FA-19550F1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C8E-D058-4A60-B2F9-9539469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187-87DF-40E4-B8F3-3132E036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D9F-5437-41FE-B358-C8DE85B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8DA-B28D-4829-9565-EA6CB56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3B1-A8C5-486F-9527-27327C1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FA7-0E33-40D6-BD6D-A77B0937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être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5:19Z</dcterms:modified>
  <cp:revision>4</cp:revision>
  <dc:subject/>
  <dc:title>Bild 1</dc:title>
</cp:coreProperties>
</file>