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DF1-064E-46A1-9A5C-CB4DEFE2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60B-1DB0-4F84-86DF-3FB54BEB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667-3E45-4DFF-8931-6AEF31D4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770-E24F-4677-990F-8FC90B5F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319-7272-487E-BFAD-FFECC96C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CF4-A693-4ABC-B9B1-5BFD2F52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DA4-A162-4282-B093-9EFCCA45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6BA-B9EE-4B4E-8037-43730803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367-38CB-4B60-B1AE-B12F64D1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2B8-9DC9-4D80-9A58-436E7E6C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C2A-BB06-4EC0-97A3-1442D3C4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44A-E02F-45BE-8594-80DCE627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786C-3435-46CB-AFA9-1FCA4FEBC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De olika graderna av stekning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0:34Z</dcterms:modified>
  <cp:revision>24</cp:revision>
  <dc:subject/>
  <dc:title>Bild 1</dc:title>
</cp:coreProperties>
</file>