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C5D-5F74-4B39-8BF3-67DFA3CB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594-84F0-4671-A523-E329440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5E7-AF35-447F-9039-F1DA4B5F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974-5866-4951-8256-3E728D84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15E-9326-4CA9-8EF3-A613E5C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650-B48D-4AD8-A47B-C73C0B6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2E8-1BB6-49F7-8A13-DBCBE1B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764-B992-4AB3-AC31-4367411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102-979C-4E2D-9A3F-24CD18D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6AA-2820-47D0-B69F-81371C2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0B6-F3A2-4462-A61F-24065D9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3D7-9240-4A66-B3BD-0B91271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B67F-B2CA-40CF-BEAE-7F3DCDD5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7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Fråga vad klockan ä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53Z</dcterms:modified>
  <cp:revision>81</cp:revision>
  <dc:subject/>
  <dc:title>Bild 1</dc:title>
</cp:coreProperties>
</file>