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4FF-225E-456A-A342-EAE9741F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564-FDC5-4A00-A91C-4D2E68FE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624-0B9C-49B5-BABA-1379B82A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6FF-BED7-407B-B05C-A22FA365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50E-57E3-4307-B7E1-3CDF7D06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64E-1A32-45DE-982D-902D5716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FF8-75E4-4145-804B-EDAAECDF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950-4F72-446F-89DD-EF2A1F72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DCD-8C39-4688-AFB6-A69A02F1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AC4-DBD4-4159-BD86-2C7335C9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617-2B5C-41A5-9CA2-044B709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E21-B656-4EE7-A6FA-53D917AF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71BB-F17B-4ECB-84F6-F686465B0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ffffff"/>
                </a:solidFill>
                <a:latin typeface="Arial"/>
              </a:rPr>
              <a:t>7 möbler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6:39Z</dcterms:modified>
  <cp:revision>58</cp:revision>
  <dc:subject/>
  <dc:title>Bild 1</dc:title>
</cp:coreProperties>
</file>