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9A3F-9F29-4675-8DBB-F8F31F1B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FC4-522C-4481-A2DB-8F934ABE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3BC-01C9-4729-8E32-4BE1E130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6D1-0D7F-4608-A218-3076974E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1E0C-D25D-45D4-AF8A-2D08FAB0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987-F7A8-474B-A9C2-4E33B799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922D-5585-4CCC-8E2B-03394C75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795C-8843-43F3-A96B-DEA96DD9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70DA-5FBC-4DB3-A7E0-3A8F538B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99B-3D61-47EC-B332-21EE5CFA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F030-67C1-408C-880E-6CF7C311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520-75E8-48DD-A8FD-E33B0B66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7D25-DB97-4EB4-9CEB-BF6B74571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81000"/>
            <a:ext cx="8535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ffffff"/>
                </a:solidFill>
                <a:latin typeface="Arial"/>
              </a:rPr>
              <a:t>5 maträtter på franska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0:34Z</dcterms:modified>
  <cp:revision>71</cp:revision>
  <dc:subject/>
  <dc:title>Bild 1</dc:title>
</cp:coreProperties>
</file>