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72B-7AB5-48CF-B035-35ACB6EE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2C9-95B8-4417-AD9D-DB4AD928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2BF-BBE0-449A-8787-2233512F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43F-282C-451F-BC1A-9D95F4E1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7FA-6D4E-43F1-80EA-329CDA6C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B1C-B9BB-4B6B-9D4D-C779DA76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4EC-FC8F-43C6-A59B-CC984D93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A84-F5C2-4E39-A7AD-5A600B5D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DF5-817E-4A19-B8E1-8D7CE9C2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1BB-F188-422E-B08E-739F88E4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1631-6DC5-4EB9-81C1-CB7A4E01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B62-5C24-4E57-AF33-3AD255BC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9B13-F659-4335-A186-2BE15C9E3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333360"/>
            <a:ext cx="85359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ffffff"/>
                </a:solidFill>
                <a:latin typeface="Arial"/>
              </a:rPr>
              <a:t>10 olika affärer på fransk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9:23Z</dcterms:modified>
  <cp:revision>65</cp:revision>
  <dc:subject/>
  <dc:title>Bild 1</dc:title>
</cp:coreProperties>
</file>