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3E9-4B9A-4C65-B5D2-F70BA171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F97-8C72-495D-841B-293E39D6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7DC-C9AC-4FEC-ACA8-76A8BA30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452-6A20-4DA9-B6A0-FA07A239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75F-F5D2-461B-8606-4525E47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5E4-FFEC-478C-9724-CBFFD35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B41-B69B-4E14-99F4-115F463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071-7EC2-4A8C-A97B-5F4D14A2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1D9-1464-4592-A3B7-5B87095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C1B-6183-4A60-BC36-8ABE2FF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989-6448-43C5-AD11-58FE674F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05B-6009-4884-B552-F9B6719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ECF-F49F-4DC8-8473-322ED4C41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4136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7 väderuttryck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59Z</dcterms:modified>
  <cp:revision>14</cp:revision>
  <dc:subject/>
  <dc:title>Bild 1</dc:title>
</cp:coreProperties>
</file>