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029-1E40-4885-94E3-7071E8E8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37E-432E-4549-A8AC-8389EDE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F6A-BBF8-453F-A7E7-1EE12BAB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354-7121-4548-824E-FE2364F9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65C-C81D-4105-BB73-0008ED71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D8D-4ECB-44C5-B435-20F68FA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E1E-15FA-4973-A0AB-E139149A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272-ACD1-475A-BBDB-46B9222E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624-C331-443F-AED3-64D403AD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698-30C5-44CC-B315-16E03379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1AD-CE12-45A0-B065-93E6563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0E1-B5D2-4E48-8220-29A857E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4DC6-7292-411C-AD81-E76A50367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8 kroppsdela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6:14Z</dcterms:modified>
  <cp:revision>11</cp:revision>
  <dc:subject/>
  <dc:title>Bild 1</dc:title>
</cp:coreProperties>
</file>