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7D6-EFD2-4DEB-8842-89262A04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65B-B359-4692-AD76-10F9250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0C1-C020-4C02-B7F9-85BCD294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C03-E5A1-4688-B6DF-7485633A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80B-9A58-4B8E-8699-947D21A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6D8-CAD2-448D-AA24-E2B7339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CB1-3897-4AA1-AFC9-8190B680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D9B-A2C9-43FC-AF71-D5815AF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40A-DF96-4546-A974-33669C6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E1E-AE37-4B6D-969C-7A7583E1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05B-CC05-4C43-BF0D-935EA0A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313-7882-4BF7-BAD6-98BECDAF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82F-0572-451A-9949-D5D9B679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5359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Arial"/>
              </a:rPr>
              <a:t>Beskriv 1 känd pers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8:25Z</dcterms:modified>
  <cp:revision>75</cp:revision>
  <dc:subject/>
  <dc:title>Bild 1</dc:title>
</cp:coreProperties>
</file>