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D21-B2C4-4CF9-AF56-01C9F38E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A3B-0792-453D-9605-2507CF9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654-342B-4BF5-A597-6FC63D61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85C-FD62-44D3-A182-3415C529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D8F-08A5-49C3-85C6-5AE08AD0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6F8-8E7B-40D6-8726-A4E87F5C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5CD-6107-47B6-A514-44691FA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5C2-E9BB-47D8-BC57-A9CC4273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0AD-080C-4FE8-9AB2-8ECF5A63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CD3-7AB9-4D4D-8130-7A786627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F7E-2C61-496B-B74D-4372550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383-D537-469D-A20F-6704054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DF98-FE16-43F1-8A7D-63CFFF4D5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3912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3399"/>
                </a:solidFill>
                <a:latin typeface="Arial"/>
              </a:rPr>
              <a:t>3 frågor om Eiffeltornet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3:44Z</dcterms:modified>
  <cp:revision>34</cp:revision>
  <dc:subject/>
  <dc:title>Bild 1</dc:title>
</cp:coreProperties>
</file>