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934-77DA-4695-898E-A8B75FB9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366-A8ED-4C04-81E0-7987CD4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79C-4B3D-4871-AA22-782CA32E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201-3AD5-47B5-BE6D-8D90AC70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7A1-020A-4987-96C3-8A4A7AF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7BD-A56D-4FB8-950D-298B3A8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B1C-0F81-45F2-9176-B3687FF9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3E6-0A92-45EC-9D45-9C751A7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49E-36ED-42F9-BE58-AF1EE854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BA2-C782-4685-8A4D-F1219DC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187-FD95-4861-A912-0A0C6B9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07B-BDF9-4D2A-9AB0-B2F4C0E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2E6A-8C09-43A7-AF7D-155DE144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81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Ropa på kypare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8:58Z</dcterms:modified>
  <cp:revision>80</cp:revision>
  <dc:subject/>
  <dc:title>Bild 1</dc:title>
</cp:coreProperties>
</file>