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720-DFF0-4DD0-8EF4-67CE58E1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BA3-2E00-4869-BBD7-778AE35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53D-831A-420C-BD3B-F7681606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3AF-CB32-48E8-B444-600EB608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66D-AAA0-420C-AD6A-CD094FEF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75D-6788-435A-ADCC-4763C02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116-D806-46D9-A6BF-546AE096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CEC-9D78-49DC-9E28-1F0CF7A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CDD-91F2-4638-A7E5-459BC61F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A0F-386F-4DE0-AE39-4CD3060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9D6-B8A5-4EE4-8CDE-74B1ED5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919-D06B-44E7-85D5-32FC784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AB3B-DF13-4C9A-9509-11687856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Vad heter floden i Paris?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3:34Z</dcterms:modified>
  <cp:revision>29</cp:revision>
  <dc:subject/>
  <dc:title>Bild 1</dc:title>
</cp:coreProperties>
</file>