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4F3-D5DA-4A25-8AFA-5AE90E0F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681-6513-4E5D-8A24-605E248B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6D0-4BCE-4D0F-A25A-C3016705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6B6-8434-4B66-9E5D-D825FDA3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E2D-033D-4FA7-B4DB-9C59531D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CF9-0F58-4FD9-837B-AEF4FE2F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0FB-1539-4323-8D9B-0A2C92FB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4A4-1B3D-4292-B1CA-616C8F6C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3DD-3EFC-4389-9D96-00AB841D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A3D-C4B4-4CBE-9C9F-6233F62A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AC7-EE1F-4B83-BE7A-3F155447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28F-4085-455B-B441-098235DC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46A1-A283-4264-857D-FF82F93E2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4640"/>
            <a:ext cx="85359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12 grönsaker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2:31Z</dcterms:modified>
  <cp:revision>74</cp:revision>
  <dc:subject/>
  <dc:title>Bild 1</dc:title>
</cp:coreProperties>
</file>