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3890-AAC6-455B-976C-FF6C670E9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1127-6EA6-4D06-83DB-F172FEB0C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9F41-10E7-4B29-850E-267AF3BDF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E51E-6035-4DEE-86A4-509A189F1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A41B-4DC8-486E-9C84-B081839AC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6D02-FF70-45DD-928B-F662E5FBB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6E75-D008-4FD9-A961-B480D54A9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92EB-16CF-4B6D-86B2-CCEF68704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62D4-AA7A-41EE-AC60-353CE30D6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3F37-5CF1-4351-80AA-61A1C8D04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74E7-AE55-498E-921F-02D165FC8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BF8F-D973-4911-9C2F-29D3D3083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D357A-AFC0-4C66-93FF-C4073E013E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260280"/>
            <a:ext cx="87138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Jag lägger mig, jag vaknar, jag stiger upp, jag tvättar mig, jag duscha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3:07:45Z</dcterms:modified>
  <cp:revision>45</cp:revision>
  <dc:subject/>
  <dc:title>Bild 1</dc:title>
</cp:coreProperties>
</file>