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1AE-394A-4927-BDF8-95E000F5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0B7-F574-4516-B6D4-E70310BB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824-6761-4237-8159-F67526C9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324-FAAF-439D-B08B-2FC99BFB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F55-B845-4455-B307-5894F6E3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B7F5-DB09-4586-84F8-FC0E41A3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9080-11C8-40B0-957D-07FAE248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10C-F344-4279-85CF-8E306C82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CFE-094F-432F-B39D-C81A4589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EE4-77F0-4506-850C-8E0CFD90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3BB-545B-4358-A7E1-80934DD6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CC5-772B-4AFC-8CA9-B0DFCC17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766C-11C5-4025-B287-EDB440ECA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12 frukter på fransk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2:20Z</dcterms:modified>
  <cp:revision>64</cp:revision>
  <dc:subject/>
  <dc:title>Bild 1</dc:title>
</cp:coreProperties>
</file>