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EE03-FBAF-43A7-A57D-44A16464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DF70-2D4C-42E2-9489-A8B386DD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321-0275-4664-8DF9-0A1F037B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82B-08F9-4136-BD2D-93DD0CF8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524-97D8-4C03-A4ED-D77A44A8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3AE-1682-4A9F-B542-B75E2158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E2B-258A-447C-8C2D-FA7CE21F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2CC-AFD5-4E01-9629-4FB2D38C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810-82AE-416F-87E0-6B138DBA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26E-E067-4F08-A149-2E1B1ED3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657-60D8-4087-9E98-6D298FD8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72C-AFF1-4EA2-A297-5CAF2E29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34AE-6550-4E27-9B91-5815A01FC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97000"/>
            <a:ext cx="86421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12 djur på franska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9:36Z</dcterms:modified>
  <cp:revision>32</cp:revision>
  <dc:subject/>
  <dc:title>Bild 1</dc:title>
</cp:coreProperties>
</file>