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A25D-28B0-4C43-9AFB-154959868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3289-3063-4F6E-B3D1-65DE2F3E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8871-D9EA-4DB9-9112-A5D25E0F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8A07-85E8-432A-BB35-4DF97769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E8A1-D2CB-45DE-9742-4DA3FB31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D424-1334-4DFA-B293-69805FE1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D717-0B19-444C-B4DE-AA0C26C7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71DD-ECAC-42D5-AD64-91DA2B1E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B022-CE58-44BC-9126-77BD73C4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C47C-1E40-4900-868A-DE2737B7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9E53-0281-49D4-82BD-64B24F55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B4FC-7698-481B-A076-91B4E41D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EBA5-F054-4D1F-9E1D-FB3805045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413000"/>
            <a:ext cx="86421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333399"/>
                </a:solidFill>
                <a:latin typeface="Arial"/>
              </a:rPr>
              <a:t>Verbet ”ta” i presens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10:56Z</dcterms:modified>
  <cp:revision>9</cp:revision>
  <dc:subject/>
  <dc:title>Bild 1</dc:title>
</cp:coreProperties>
</file>