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062-487D-4366-B8D7-95AAD8A7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191-B3B7-47A9-92ED-A45D6A80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EC0-D838-4D10-A097-CA0ED441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668-5891-4F49-8589-FE63864B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A38-6C27-4497-8590-F931E92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BA5-6A46-443C-BC80-41EA4E45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50B-1F5D-4DBF-9270-373B6CFB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970-BB06-4D96-98BE-F0B12C1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BA8-E634-4E22-9524-2CCCD76F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9B2-9CDD-428C-9FB1-CF24DBB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E74-2B7F-49AA-867C-FA04E84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642-0186-4051-9504-4D88660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030-8CB2-4699-A0B0-19A9CE32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85359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ffffff"/>
                </a:solidFill>
                <a:latin typeface="Arial"/>
              </a:rPr>
              <a:t>Berätta om ett teveprogram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2:37Z</dcterms:modified>
  <cp:revision>44</cp:revision>
  <dc:subject/>
  <dc:title>Bild 1</dc:title>
</cp:coreProperties>
</file>